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3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04gluk1.wav" ContentType="audio/x-wav"/>
  <Override PartName="/ppt/media/image2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085D6-CD5D-41C1-ABC7-BCA0A4CBB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4200" y="1904760"/>
            <a:ext cx="63990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4200" y="4109400"/>
            <a:ext cx="63990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BB1F5-3581-4574-B3C8-72DA8F5EF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4200" y="1904760"/>
            <a:ext cx="31226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563440" y="1904760"/>
            <a:ext cx="31226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4200" y="4109400"/>
            <a:ext cx="31226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563440" y="4109400"/>
            <a:ext cx="31226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72A3A-3497-44B4-8A98-1585FC99F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4200" y="1904760"/>
            <a:ext cx="20602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447800" y="1904760"/>
            <a:ext cx="20602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11400" y="1904760"/>
            <a:ext cx="20602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4200" y="4109400"/>
            <a:ext cx="20602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447800" y="4109400"/>
            <a:ext cx="20602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11400" y="4109400"/>
            <a:ext cx="20602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24022-B1B8-48BD-A1A9-8D61D62BD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3B3F3-1F93-4F33-A3FA-A25663C6D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4200" y="1904760"/>
            <a:ext cx="6399000" cy="422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B3667-E1B6-4002-AC70-E870F22CA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4200" y="1904760"/>
            <a:ext cx="63990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1C6F8-ED4D-45BF-A274-D109F3C28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4200" y="1904760"/>
            <a:ext cx="312264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563440" y="1904760"/>
            <a:ext cx="312264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EEC0C-5B36-498E-B839-DAE0E5EBC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AB123-EC0D-46C2-9318-FD1B94CA8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84200" y="533520"/>
            <a:ext cx="63990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1132A-9C9C-4354-AD13-30F117CCC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4200" y="1904760"/>
            <a:ext cx="31226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563440" y="1904760"/>
            <a:ext cx="312264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4200" y="4109400"/>
            <a:ext cx="31226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DBA33-FF58-4FC6-A1A6-085E43ED0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4200" y="1904760"/>
            <a:ext cx="6399000" cy="422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FC36B-D420-447E-AAF8-36C4C7A3C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4200" y="1904760"/>
            <a:ext cx="312264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563440" y="1904760"/>
            <a:ext cx="31226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563440" y="4109400"/>
            <a:ext cx="31226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C12B6-2156-4066-8209-B1FBD48E8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4200" y="1904760"/>
            <a:ext cx="31226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563440" y="1904760"/>
            <a:ext cx="31226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4200" y="4109400"/>
            <a:ext cx="63990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55145-3CA8-4C72-A2FC-96CE095DA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4200" y="1904760"/>
            <a:ext cx="63990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4200" y="4109400"/>
            <a:ext cx="63990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EB53C-A31B-4BFC-842A-5CD7E2F97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4200" y="1904760"/>
            <a:ext cx="31226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563440" y="1904760"/>
            <a:ext cx="31226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4200" y="4109400"/>
            <a:ext cx="31226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563440" y="4109400"/>
            <a:ext cx="31226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D9D05-BDEE-4706-A2A5-B957B232D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4200" y="1904760"/>
            <a:ext cx="20602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47800" y="1904760"/>
            <a:ext cx="20602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11400" y="1904760"/>
            <a:ext cx="20602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4200" y="4109400"/>
            <a:ext cx="20602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447800" y="4109400"/>
            <a:ext cx="20602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11400" y="4109400"/>
            <a:ext cx="20602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EDA14-5F2A-4E3F-9A21-8E7DCD34E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4200" y="1904760"/>
            <a:ext cx="63990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AC43C-27A3-4D4C-8B12-EE8907632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4200" y="1904760"/>
            <a:ext cx="312264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563440" y="1904760"/>
            <a:ext cx="312264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B2A80-84D6-4753-9C58-93FB2F6A7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7C46A-B1C4-4DC7-8C36-9818636C2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4200" y="533520"/>
            <a:ext cx="63990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E8A2B-66A2-46B1-A442-6B1F7B4D9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4200" y="1904760"/>
            <a:ext cx="31226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563440" y="1904760"/>
            <a:ext cx="312264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4200" y="4109400"/>
            <a:ext cx="31226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9311D-819D-4722-872B-A99A03EEB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4200" y="1904760"/>
            <a:ext cx="312264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563440" y="1904760"/>
            <a:ext cx="31226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563440" y="4109400"/>
            <a:ext cx="31226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D8EDC-CD90-4CCB-81FD-870CD147C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4200" y="1904760"/>
            <a:ext cx="31226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563440" y="1904760"/>
            <a:ext cx="31226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4200" y="4109400"/>
            <a:ext cx="63990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24645-89D4-4B34-8884-D76F18737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4200" y="1904760"/>
            <a:ext cx="63990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17B6E-1402-4BEE-88BA-519A543BF69E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6000" y="3428640"/>
            <a:ext cx="6399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08A57-D142-431C-A961-FFF6BD0B8A79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04gluk1.wav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audio" Target="../media/04gluk1.wav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audio" Target="../media/04gluk1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audio" Target="../media/04gluk1.wav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audio" Target="../media/04gluk1.wav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audio" Target="../media/04gluk1.wav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audio" Target="../media/04gluk1.wav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audio" Target="../media/04gluk1.wav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audio" Target="../media/04gluk1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audio" Target="../media/04gluk1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audio" Target="../media/04gluk1.wav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audio" Target="../media/04gluk1.wav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audio" Target="../media/04gluk1.wav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audio" Target="../media/04gluk1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audio" Target="../media/04gluk1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6000" y="3428640"/>
            <a:ext cx="6399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286000" y="4800600"/>
            <a:ext cx="6399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"/>
          <p:cNvSpPr/>
          <p:nvPr/>
        </p:nvSpPr>
        <p:spPr>
          <a:xfrm>
            <a:off x="900000" y="1341360"/>
            <a:ext cx="7704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 алкогольном чаду задыхается жизнь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835280" y="3645000"/>
            <a:ext cx="612144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атериалы к выступлению агитбригады в рамках месячника «За здоровый образ жизн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учитель – Егорова М.А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0">
    <p:blinds dir="horz"/>
    <p:sndAc>
      <p:stSnd>
        <p:snd r:embed="rId2" name="04gluk1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14392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Ест Федька с водкой редьку.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Ест водка с редькой Федьку.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1619280" y="1557360"/>
            <a:ext cx="5329080" cy="4960800"/>
          </a:xfrm>
          <a:prstGeom prst="rect">
            <a:avLst/>
          </a:prstGeom>
          <a:ln w="0">
            <a:noFill/>
          </a:ln>
        </p:spPr>
      </p:pic>
    </p:spTree>
  </p:cSld>
  <p:transition spd="slow" advTm="60000">
    <p:blinds dir="horz"/>
    <p:sndAc>
      <p:stSnd>
        <p:snd r:embed="rId3" name="04gluk1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94920" y="259920"/>
            <a:ext cx="360036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Чтоб стала человеком обезьяна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требовалась вечность, а не век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Зато в одно мгновенье, как ни странно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тать обезьяной может человек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3851280" y="1700280"/>
            <a:ext cx="4824360" cy="3619440"/>
          </a:xfrm>
          <a:prstGeom prst="rect">
            <a:avLst/>
          </a:prstGeom>
          <a:ln w="0">
            <a:noFill/>
          </a:ln>
        </p:spPr>
      </p:pic>
    </p:spTree>
  </p:cSld>
  <p:transition spd="slow" advTm="60000">
    <p:blinds dir="horz"/>
    <p:sndAc>
      <p:stSnd>
        <p:snd r:embed="rId3" name="04gluk1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42472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Если делать нечего, так же как вчера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ить начнем мы с вечера, ну и до утра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1692360" y="1484280"/>
            <a:ext cx="5327640" cy="5084640"/>
          </a:xfrm>
          <a:prstGeom prst="rect">
            <a:avLst/>
          </a:prstGeom>
          <a:ln w="0">
            <a:noFill/>
          </a:ln>
        </p:spPr>
      </p:pic>
    </p:spTree>
  </p:cSld>
  <p:transition spd="slow" advTm="60000">
    <p:blinds dir="horz"/>
    <p:sndAc>
      <p:stSnd>
        <p:snd r:embed="rId3" name="04gluk1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23640" y="533160"/>
            <a:ext cx="835956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Кто придумал в горе нестойким быть?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2484360" y="1557360"/>
            <a:ext cx="3718080" cy="5084640"/>
          </a:xfrm>
          <a:prstGeom prst="rect">
            <a:avLst/>
          </a:prstGeom>
          <a:ln w="0">
            <a:noFill/>
          </a:ln>
        </p:spPr>
      </p:pic>
    </p:spTree>
  </p:cSld>
  <p:transition spd="slow" advTm="60000">
    <p:blinds dir="horz"/>
    <p:sndAc>
      <p:stSnd>
        <p:snd r:embed="rId3" name="04gluk1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78920" y="189000"/>
            <a:ext cx="8504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ЧИСЛО БОЛЬНЫХ АЛКОГОЛИЗМОМ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, состоящих на учете в России в 1991–2000 (на 100 тыс. соответствующих групп населения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900000" y="1413000"/>
            <a:ext cx="7489800" cy="5243400"/>
          </a:xfrm>
          <a:prstGeom prst="rect">
            <a:avLst/>
          </a:prstGeom>
          <a:ln w="0">
            <a:noFill/>
          </a:ln>
        </p:spPr>
      </p:pic>
    </p:spTree>
  </p:cSld>
  <p:transition spd="slow" advTm="60000">
    <p:blinds dir="horz"/>
    <p:sndAc>
      <p:stSnd>
        <p:snd r:embed="rId3" name="04gluk1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43264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ы встанете у жизненных рулей!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т вас зависит то, каким мир будет..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1332000" y="1557360"/>
            <a:ext cx="6335640" cy="5081400"/>
          </a:xfrm>
          <a:prstGeom prst="rect">
            <a:avLst/>
          </a:prstGeom>
          <a:ln w="0">
            <a:noFill/>
          </a:ln>
        </p:spPr>
      </p:pic>
    </p:spTree>
  </p:cSld>
  <p:transition spd="slow" advTm="60000">
    <p:blinds dir="horz"/>
    <p:sndAc>
      <p:stSnd>
        <p:snd r:embed="rId3" name="04gluk1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10920" y="533160"/>
            <a:ext cx="807228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Вино спустит на дно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1692360" y="1125360"/>
            <a:ext cx="6192720" cy="5483520"/>
          </a:xfrm>
          <a:prstGeom prst="rect">
            <a:avLst/>
          </a:prstGeom>
          <a:ln w="0">
            <a:noFill/>
          </a:ln>
        </p:spPr>
      </p:pic>
    </p:spTree>
  </p:cSld>
  <p:transition spd="slow" advTm="60000">
    <p:blinds dir="horz"/>
    <p:sndAc>
      <p:stSnd>
        <p:snd r:embed="rId3" name="04gluk1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23640" y="533520"/>
            <a:ext cx="835956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Кто водку любит, сам себя губит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1619280" y="1268280"/>
            <a:ext cx="6192720" cy="5332680"/>
          </a:xfrm>
          <a:prstGeom prst="rect">
            <a:avLst/>
          </a:prstGeom>
          <a:ln w="0">
            <a:noFill/>
          </a:ln>
        </p:spPr>
      </p:pic>
    </p:spTree>
  </p:cSld>
  <p:transition spd="slow" advTm="60000">
    <p:blinds dir="horz"/>
    <p:sndAc>
      <p:stSnd>
        <p:snd r:embed="rId3" name="04gluk1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50920" y="533160"/>
            <a:ext cx="8432640" cy="7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Бочка вина ядом полна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1258920" y="1268280"/>
            <a:ext cx="6985080" cy="5237280"/>
          </a:xfrm>
          <a:prstGeom prst="rect">
            <a:avLst/>
          </a:prstGeom>
          <a:ln w="0">
            <a:noFill/>
          </a:ln>
        </p:spPr>
      </p:pic>
    </p:spTree>
  </p:cSld>
  <p:transition spd="slow" advTm="60000">
    <p:blinds dir="horz"/>
    <p:sndAc>
      <p:stSnd>
        <p:snd r:embed="rId3" name="04gluk1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94920" y="533160"/>
            <a:ext cx="828828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Вино вину творит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611280" y="1557360"/>
            <a:ext cx="4029120" cy="48243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4859280" y="1557360"/>
            <a:ext cx="3676680" cy="4824360"/>
          </a:xfrm>
          <a:prstGeom prst="rect">
            <a:avLst/>
          </a:prstGeom>
          <a:ln w="0">
            <a:noFill/>
          </a:ln>
        </p:spPr>
      </p:pic>
    </p:spTree>
  </p:cSld>
  <p:transition spd="slow" advTm="60000">
    <p:blinds dir="horz"/>
    <p:sndAc>
      <p:stSnd>
        <p:snd r:embed="rId4" name="04gluk1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23640" y="333360"/>
            <a:ext cx="83595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то придумал радость "горькой" залить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468360" y="1989000"/>
            <a:ext cx="4248000" cy="42483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4859280" y="1052640"/>
            <a:ext cx="3865680" cy="4608360"/>
          </a:xfrm>
          <a:prstGeom prst="rect">
            <a:avLst/>
          </a:prstGeom>
          <a:ln w="0">
            <a:noFill/>
          </a:ln>
        </p:spPr>
      </p:pic>
    </p:spTree>
  </p:cSld>
  <p:transition spd="slow" advTm="60000">
    <p:blinds dir="horz"/>
    <p:sndAc>
      <p:stSnd>
        <p:snd r:embed="rId4" name="04gluk1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94920" y="260280"/>
            <a:ext cx="828828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…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клятая водка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 цвету до боли похожа на слезы..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2556000" y="1413000"/>
            <a:ext cx="3927240" cy="5184720"/>
          </a:xfrm>
          <a:prstGeom prst="rect">
            <a:avLst/>
          </a:prstGeom>
          <a:ln w="0">
            <a:noFill/>
          </a:ln>
        </p:spPr>
      </p:pic>
    </p:spTree>
  </p:cSld>
  <p:transition spd="slow" advTm="60000">
    <p:blinds dir="horz"/>
    <p:sndAc>
      <p:stSnd>
        <p:snd r:embed="rId3" name="04gluk1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814392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азве это не печально,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что, в жизнь едва вступая,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аши дети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орой случайно, чаще не случайно,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друг попадают в преступлений сети?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1547640" y="2205000"/>
            <a:ext cx="5688360" cy="4259160"/>
          </a:xfrm>
          <a:prstGeom prst="rect">
            <a:avLst/>
          </a:prstGeom>
          <a:ln w="0">
            <a:noFill/>
          </a:ln>
        </p:spPr>
      </p:pic>
    </p:spTree>
  </p:cSld>
  <p:transition spd="slow" advTm="60000">
    <p:blinds dir="horz"/>
    <p:sndAc>
      <p:stSnd>
        <p:snd r:embed="rId3" name="04gluk1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94920" y="259920"/>
            <a:ext cx="828828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Годы молодые с забубённой славой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травил я сам вас горькою отравой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900000" y="1413000"/>
            <a:ext cx="7417080" cy="5157720"/>
          </a:xfrm>
          <a:prstGeom prst="rect">
            <a:avLst/>
          </a:prstGeom>
          <a:ln w="0">
            <a:noFill/>
          </a:ln>
        </p:spPr>
      </p:pic>
    </p:spTree>
  </p:cSld>
  <p:transition spd="slow" advTm="60000">
    <p:blinds dir="horz"/>
    <p:sndAc>
      <p:stSnd>
        <p:snd r:embed="rId3" name="04gluk1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7T11:31:31Z</dcterms:created>
  <dc:creator>user</dc:creator>
  <dc:description/>
  <cp:keywords/>
  <dc:language>en-US</dc:language>
  <cp:lastModifiedBy>User</cp:lastModifiedBy>
  <dcterms:modified xsi:type="dcterms:W3CDTF">2008-12-06T20:10:02Z</dcterms:modified>
  <cp:revision>6</cp:revision>
  <dc:subject/>
  <dc:title>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594421049</vt:lpwstr>
  </property>
</Properties>
</file>