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04gluk1.wav" ContentType="audio/x-wav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3F5-5BF8-4436-AA4D-0C1C1E02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45E-0847-4D45-A563-35FA75A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29D2-39D1-460F-BFB3-D4175F45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6A1-3C76-461B-A2AF-8277B4E0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E954-5958-4F02-AD3E-E69A47F1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66A5-0525-44C3-B9D8-6285AE04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8E74-9E15-410D-912C-DE61BCED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0F3F-20D3-4E6B-A0A5-401FA041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CFFD-71DF-471F-9E06-3BC9AB19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9896-302A-4C5E-A53A-92E5EF5B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8BC3-E0DE-4FE5-BB11-C0388939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2F9-3FBA-45E3-9D01-3CE669AB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7CA9-98CB-4200-BFFF-7FD52657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92A8-658A-4E65-9F48-710E0133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77C4-7957-4281-A464-1E370058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765D-90CB-47CC-AB1E-99B9FB0D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78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1400" y="190476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42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78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1400" y="4109400"/>
            <a:ext cx="20602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E531-0F94-407E-B008-B39FD7FE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286-591D-412B-A5F1-70EFE6A5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396-1446-4765-8947-B31D6EB2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0A9-9DC3-4BFA-B1DA-E01C8918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4200" y="533520"/>
            <a:ext cx="63990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BF1-9A26-4141-A7CA-0991FB03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2BE-A39B-433C-82D9-2121EB55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3440" y="410940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3F8-EA92-42F1-93A9-3EE8CC93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420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3440" y="1904760"/>
            <a:ext cx="31226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4200" y="4109400"/>
            <a:ext cx="6399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FA8-24A9-44E8-9B98-0ADF5A82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4200" y="533520"/>
            <a:ext cx="639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4200" y="1904760"/>
            <a:ext cx="6399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2E42-7008-444F-A4C2-CFC2C3F5C1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7739-BB9F-4D35-9092-DE6DC370AD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04gluk1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04gluk1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04gluk1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audio" Target="../media/04gluk1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0" y="3428640"/>
            <a:ext cx="6399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4800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900000" y="134136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алкогольном чаду задыхается жизн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3645000"/>
            <a:ext cx="6121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ы к выступлению агитбригады в рамках месячника «За здоровый образ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читель – Егорова М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blinds dir="horz"/>
    <p:sndAc>
      <p:stSnd>
        <p:snd r:embed="rId2" name="04gluk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439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Ест Федька с водкой редьку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Ест водка с редькой Федьку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5329080" cy="49608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3600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тоб стала человеком обезьян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овалась вечность, а не ве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то в одно мгновенье, как ни странно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ть обезьяной может челове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700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делать нечего, так же как вчер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ить начнем мы с вечера, ну и до утр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327640" cy="50846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956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придумал в горе нестойким быть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3718080" cy="50846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04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ИСЛО БОЛЬНЫХ АЛКОГОЛИЗМО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состоящих на учете в России в 1991–2000 (на 100 тыс. соответствующих групп населени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489800" cy="5243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326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 встанете у жизненных рулей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 вас зависит то, каким мир будет..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335640" cy="5081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0920" y="533160"/>
            <a:ext cx="80722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ино спустит на дн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6192720" cy="54835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533520"/>
            <a:ext cx="835956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то водку любит, сам себя губи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192720" cy="53326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533160"/>
            <a:ext cx="843264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очка вина ядом полн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28828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ино вину твори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4029120" cy="4824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67668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4" name="04gluk1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595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то придумал радость "горькой" зали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859280" y="1052640"/>
            <a:ext cx="386568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4" name="04gluk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8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клятая вод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цвету до боли похожа на слезы..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392724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439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е это не печаль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, в жизнь едва вступая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ши дет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рой случайно, чаще не случайн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друг попадают в преступлений сети?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47640" y="2205000"/>
            <a:ext cx="5688360" cy="42591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8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оды молодые с забубённой славо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вил я сам вас горькою отравой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417080" cy="51577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horz"/>
    <p:sndAc>
      <p:stSnd>
        <p:snd r:embed="rId3" name="04gluk1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1:31:31Z</dcterms:created>
  <dc:creator>user</dc:creator>
  <dc:description/>
  <cp:keywords/>
  <dc:language>en-US</dc:language>
  <cp:lastModifiedBy>User</cp:lastModifiedBy>
  <dcterms:modified xsi:type="dcterms:W3CDTF">2008-12-06T20:10:02Z</dcterms:modified>
  <cp:revision>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9</vt:lpwstr>
  </property>
</Properties>
</file>