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D5F-CE66-464C-8218-1269E91E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FFD-8161-4E23-8866-02E16E9A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7B4-EE84-4456-9698-9ABFC81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BB6-F75F-475E-A509-91874300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622-2B58-499C-8347-1D94327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898-15C8-461F-A43F-5AA13B7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33C-6CCF-4F3C-BBFF-F0E9E93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A0A-69F7-4F48-8119-EA18723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9B2-52FB-4AC9-B6B8-AB4BD259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630-C7C4-48AF-8110-63B56DC2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F80-27E7-4711-A8F3-AFB8198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EB2-405E-468D-B5D9-C987D2F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BDD-F853-4899-B475-32FC3100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5a7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Lucida Calligraphy"/>
              </a:rPr>
              <a:t>День МАТЕРИ</a:t>
            </a:r>
            <a:r>
              <a:rPr b="1" lang="en-US" sz="7200" spc="-1" strike="noStrike">
                <a:solidFill>
                  <a:srgbClr val="000000"/>
                </a:solidFill>
                <a:latin typeface="Lucida Calligraphy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996633"/>
            </a:gs>
            <a:gs pos="100000">
              <a:srgbClr val="6600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0240" y="0"/>
            <a:ext cx="509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8a6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6f8"/>
                </a:solidFill>
                <a:latin typeface="Comic Sans MS"/>
              </a:rPr>
              <a:t>Епистиния Федоровна Степ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265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Comic Sans MS"/>
              </a:rPr>
              <a:t>Скорбь матери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40000" y="1268280"/>
            <a:ext cx="45799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Памятник Е.Ф.Степанов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27280" y="1197000"/>
            <a:ext cx="4118040" cy="5661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a7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uket 8" descr=""/>
          <p:cNvPicPr/>
          <p:nvPr/>
        </p:nvPicPr>
        <p:blipFill>
          <a:blip r:embed="rId1"/>
          <a:stretch/>
        </p:blipFill>
        <p:spPr>
          <a:xfrm>
            <a:off x="2340000" y="1433520"/>
            <a:ext cx="5111640" cy="43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Благодар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342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чувства любви и уважения к мате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Задач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чувство патриотизма к истории своей малой Род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ывать у детей доброжелательность к родным люд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эстетический вкус детей, разнообразить мир духовных интер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entury Gothic"/>
              </a:rPr>
              <a:t>День МАТЕР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ладимирская икона Божией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4960" y="1125360"/>
            <a:ext cx="4613040" cy="547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87360" y="0"/>
            <a:ext cx="67662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ортрет Елены Фоур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00160" y="1052640"/>
            <a:ext cx="4983120" cy="5805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mic Sans MS"/>
              </a:rPr>
              <a:t>Портрет госпожи Серизиа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356000" cy="573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Мать и доч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.Харла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1125360"/>
            <a:ext cx="4225680" cy="55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8:19:28Z</dcterms:created>
  <dc:creator>Света</dc:creator>
  <dc:description/>
  <dc:language>en-US</dc:language>
  <cp:lastModifiedBy>надежда</cp:lastModifiedBy>
  <dcterms:modified xsi:type="dcterms:W3CDTF">2009-01-03T19:52:21Z</dcterms:modified>
  <cp:revision>6</cp:revision>
  <dc:subject/>
  <dc:title>Епистиния Федоровна Степанова</dc:title>
</cp:coreProperties>
</file>