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EE0-A520-4E95-A7A0-0DEC2698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BFB-8AE6-4705-AD0E-DBDF5275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B69-BF09-4876-94E2-AB5BA7A5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CB6-312E-47F1-94A6-3AA5C442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D5B-3171-4085-B16E-55A94FF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E66-D682-49B0-BD80-4E5C6CC9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F91-B4E7-49DE-8161-4F0514F6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52A-F876-4976-BAF2-1101F35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084-267A-4993-9051-2CF14419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454-0B08-44EA-8C7D-E2E5BCD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CBC-A221-4C9B-A8A6-7BC21C12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B5C-3A82-4CEE-9930-A360A99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DDBC-893C-4C24-AE6C-6A479603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5a7f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Lucida Calligraphy"/>
              </a:rPr>
              <a:t>День МАТЕРИ</a:t>
            </a:r>
            <a:r>
              <a:rPr b="1" lang="en-US" sz="72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6633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0024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8a6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6f8"/>
                </a:solidFill>
                <a:latin typeface="Comic Sans MS"/>
              </a:rPr>
              <a:t>Епистиния Федоровна Степ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265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Comic Sans MS"/>
              </a:rPr>
              <a:t>Скорбь матери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340000" y="1268280"/>
            <a:ext cx="45799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Памятник Е.Ф.Степано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627280" y="1197000"/>
            <a:ext cx="4118040" cy="5661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a7f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uket 8" descr=""/>
          <p:cNvPicPr/>
          <p:nvPr/>
        </p:nvPicPr>
        <p:blipFill>
          <a:blip r:embed="rId1"/>
          <a:stretch/>
        </p:blipFill>
        <p:spPr>
          <a:xfrm>
            <a:off x="2340000" y="1433520"/>
            <a:ext cx="5111640" cy="43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Благодар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342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ние чувства любви и уважения к мат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Задач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ть чувство патриотизма к истории своей малой Род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ывать у детей доброжелательность к родным люд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эстетический вкус детей, разнообразить мир духовных интере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Gothic"/>
              </a:rPr>
              <a:t>День МАТЕР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Владимирская икона Божией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4960" y="1125360"/>
            <a:ext cx="4613040" cy="547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87360" y="0"/>
            <a:ext cx="67662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Портрет Елены Фоур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00160" y="1052640"/>
            <a:ext cx="4983120" cy="5805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mic Sans MS"/>
              </a:rPr>
              <a:t>Портрет госпожи Серизиа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356000" cy="573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Мать и дочь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.Харла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56000" y="1125360"/>
            <a:ext cx="4225680" cy="554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8:19:28Z</dcterms:created>
  <dc:creator>Света</dc:creator>
  <dc:description/>
  <dc:language>en-US</dc:language>
  <cp:lastModifiedBy>надежда</cp:lastModifiedBy>
  <dcterms:modified xsi:type="dcterms:W3CDTF">2009-01-03T19:52:21Z</dcterms:modified>
  <cp:revision>6</cp:revision>
  <dc:subject/>
  <dc:title>Епистиния Федоровна Степанова</dc:title>
</cp:coreProperties>
</file>