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7A92-1DCC-48CA-BE26-EEBFCFB79AF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E956-269D-4771-A6AF-3A1936837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FDBC-9296-45AE-B3C4-B0144F0C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000F-E159-49AA-B4A3-63D065D6A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F32A-F584-4FB1-B851-FB6C42F40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45C54-BFE9-4A2F-B794-0FC27717B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3F90-81CD-4C46-B4A6-1C590B4F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0C57-B7E7-4BAC-950D-AF4D0AEB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4359-8D8A-490C-AAD7-2FCD310D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6E76C-D3DE-4377-A9A6-2AA214AA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C05B-4288-4F0C-8033-0A327850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F668-C547-46CF-9C3B-AC6813DF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0950-61C4-4FC9-916C-B047B850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2FFA-3408-450D-AEEC-2006DF02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AA37-BA3E-46DF-B0E1-A96F79CE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E9E5-D598-4B46-A277-EF76B27F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F955-DB04-4F96-A06A-769590BB3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1469-C613-4DCB-B746-E4E2D85B0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E735-80C2-4B74-908B-EE774EE0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B600-6D80-4A38-A9FD-86FFC477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240F-D167-40BE-B0AB-3C02CEE9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FB3B-A39D-4843-939D-4F46C8BB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62BA-8917-4382-8266-5D58E69C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9630-2626-4DAA-9B98-17C45103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9D40-BE6E-450C-8393-A88F703B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3B44-ABB2-4C58-B2B7-66B9FC30567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85CA-ABB4-466A-B0C5-FD4277C57A7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audio" Target="file:///tmp/home/.config/libreoffice/4/user/gallery/~PP2193.WAV" TargetMode="External"/><Relationship Id="rId4" Type="http://schemas.microsoft.com/office/2007/relationships/media" Target="file:///tmp/home/.config/libreoffice/4/user/gallery/~PP2193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audio" Target="file:///tmp/home/.config/libreoffice/4/user/gallery/~PP3175.WAV" TargetMode="External"/><Relationship Id="rId6" Type="http://schemas.microsoft.com/office/2007/relationships/media" Target="file:///tmp/home/.config/libreoffice/4/user/gallery/~PP3175.WAV" TargetMode="External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audio" Target="file:///tmp/home/.config/libreoffice/4/user/gallery/~PP3108.WAV" TargetMode="External"/><Relationship Id="rId4" Type="http://schemas.microsoft.com/office/2007/relationships/media" Target="file:///tmp/home/.config/libreoffice/4/user/gallery/~PP3108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audio" Target="file:///tmp/home/.config/libreoffice/4/user/gallery/~PP1278.WAV" TargetMode="External"/><Relationship Id="rId4" Type="http://schemas.microsoft.com/office/2007/relationships/media" Target="file:///tmp/home/.config/libreoffice/4/user/gallery/~PP1278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audio" Target="file:///tmp/home/.config/libreoffice/4/user/gallery/~PP744.WAV" TargetMode="External"/><Relationship Id="rId5" Type="http://schemas.microsoft.com/office/2007/relationships/media" Target="file:///tmp/home/.config/libreoffice/4/user/gallery/~PP744.WAV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audio" Target="file:///tmp/home/.config/libreoffice/4/user/gallery/~PP179.WAV" TargetMode="External"/><Relationship Id="rId4" Type="http://schemas.microsoft.com/office/2007/relationships/media" Target="file:///tmp/home/.config/libreoffice/4/user/gallery/~PP179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audio" Target="file:///tmp/home/.config/libreoffice/4/user/gallery/~PP1414.WAV" TargetMode="External"/><Relationship Id="rId4" Type="http://schemas.microsoft.com/office/2007/relationships/media" Target="file:///tmp/home/.config/libreoffice/4/user/gallery/~PP1414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~PP3132.WAV" TargetMode="External"/><Relationship Id="rId3" Type="http://schemas.microsoft.com/office/2007/relationships/media" Target="file:///tmp/home/.config/libreoffice/4/user/gallery/~PP3132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~PP1653.WAV" TargetMode="External"/><Relationship Id="rId3" Type="http://schemas.microsoft.com/office/2007/relationships/media" Target="file:///tmp/home/.config/libreoffice/4/user/gallery/~PP1653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~PP2429.WAV" TargetMode="External"/><Relationship Id="rId3" Type="http://schemas.microsoft.com/office/2007/relationships/media" Target="file:///tmp/home/.config/libreoffice/4/user/gallery/~PP2429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~PP2804.WAV" TargetMode="External"/><Relationship Id="rId3" Type="http://schemas.microsoft.com/office/2007/relationships/media" Target="file:///tmp/home/.config/libreoffice/4/user/gallery/~PP2804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~PP943.WAV" TargetMode="External"/><Relationship Id="rId3" Type="http://schemas.microsoft.com/office/2007/relationships/media" Target="file:///tmp/home/.config/libreoffice/4/user/gallery/~PP943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cc0000"/>
                </a:solidFill>
                <a:latin typeface="Arial"/>
              </a:rPr>
              <a:t>КТД</a:t>
            </a:r>
            <a:endParaRPr b="0" lang="en-US" sz="15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8120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7200" spc="-1" strike="noStrike">
                <a:solidFill>
                  <a:srgbClr val="cc0000"/>
                </a:solidFill>
                <a:latin typeface="Arial"/>
              </a:rPr>
              <a:t>Трутовик </a:t>
            </a:r>
            <a:br>
              <a:rPr sz="7200"/>
            </a:br>
            <a:r>
              <a:rPr b="0" lang="en-US" sz="7200" spc="-1" strike="noStrike">
                <a:solidFill>
                  <a:srgbClr val="cc0000"/>
                </a:solidFill>
                <a:latin typeface="Arial"/>
              </a:rPr>
              <a:t>зола</a:t>
            </a:r>
            <a:endParaRPr b="0" lang="en-US" sz="7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484360" y="3068640"/>
            <a:ext cx="3676680" cy="3313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7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5406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Мятой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Расщепленной веточко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                      </a:t>
            </a:r>
            <a:r>
              <a:rPr b="0" lang="en-US" sz="4800" spc="-1" strike="noStrike">
                <a:solidFill>
                  <a:srgbClr val="cc0000"/>
                </a:solidFill>
                <a:latin typeface="Arial"/>
              </a:rPr>
              <a:t>сосны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</a:t>
            </a:r>
            <a:r>
              <a:rPr b="0" lang="en-US" sz="4800" spc="-1" strike="noStrike">
                <a:solidFill>
                  <a:srgbClr val="cc0000"/>
                </a:solidFill>
                <a:latin typeface="Arial"/>
              </a:rPr>
              <a:t>ели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79280" y="3213000"/>
            <a:ext cx="2303640" cy="2952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059280" y="3213000"/>
            <a:ext cx="2663640" cy="2952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300720" y="3284640"/>
            <a:ext cx="2521080" cy="2952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2"/>
                </p:tgtEl>
              </p:cMediaNode>
            </p:audio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6600" spc="-1" strike="noStrike">
                <a:solidFill>
                  <a:srgbClr val="cc0000"/>
                </a:solidFill>
                <a:latin typeface="Arial"/>
              </a:rPr>
              <a:t>Кора дуба</a:t>
            </a:r>
            <a:br>
              <a:rPr sz="4000"/>
            </a:br>
            <a:endParaRPr b="0" lang="en-US" sz="6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627280" y="3068640"/>
            <a:ext cx="4033800" cy="3240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5"/>
                </p:tgtEl>
              </p:cMediaNode>
            </p:audio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Чистотел</a:t>
            </a:r>
            <a:br>
              <a:rPr sz="6000"/>
            </a:b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340000" y="2443320"/>
            <a:ext cx="4319640" cy="3722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768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768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8"/>
                </p:tgtEl>
              </p:cMediaNode>
            </p:audio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Подорожник            Лопух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95280" y="2060640"/>
            <a:ext cx="3313080" cy="3384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435640" y="2133720"/>
            <a:ext cx="3313080" cy="3382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2"/>
                </p:tgtEl>
              </p:cMediaNode>
            </p:audio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Крапива 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771640" y="2781360"/>
            <a:ext cx="4248360" cy="3456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5"/>
                </p:tgtEl>
              </p:cMediaNode>
            </p:audio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Ромашка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771640" y="2421000"/>
            <a:ext cx="3672000" cy="35067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8"/>
                </p:tgtEl>
              </p:cMediaNode>
            </p:audio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1052280"/>
            <a:ext cx="85104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Arial"/>
              </a:rPr>
              <a:t>Конкурс</a:t>
            </a:r>
            <a:r>
              <a:rPr b="1" lang="en-US" sz="72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6000"/>
            </a:b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«Народная мудрость о чистоте»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1680" y="475920"/>
            <a:ext cx="854064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гонь чистит, вода мое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прятный не нравится нерях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Чист источник – чист руче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Чистая вода для хвори бед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Чистота и здоровье – родные сёстр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Чистота – залог здоровь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Чисто жить – здоровым быт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Чистота – лучшая красот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98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98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98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98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98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98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98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1"/>
                </p:tgtEl>
              </p:cMediaNode>
            </p:audio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765000"/>
            <a:ext cx="8510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Arial"/>
              </a:rPr>
              <a:t>Полезные советы</a:t>
            </a:r>
            <a:br>
              <a:rPr sz="7200"/>
            </a:br>
            <a:br>
              <a:rPr sz="7200"/>
            </a:b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«Здоровые зубы»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en-US" sz="8000" spc="-1" strike="noStrike">
                <a:solidFill>
                  <a:srgbClr val="cc0000"/>
                </a:solidFill>
                <a:latin typeface="Arial"/>
              </a:rPr>
              <a:t>К</a:t>
            </a:r>
            <a:r>
              <a:rPr b="1" lang="en-US" sz="8000" spc="-1" strike="noStrike">
                <a:solidFill>
                  <a:srgbClr val="ffcc00"/>
                </a:solidFill>
                <a:latin typeface="Arial"/>
              </a:rPr>
              <a:t>оллективное</a:t>
            </a:r>
            <a:br>
              <a:rPr sz="8000"/>
            </a:br>
            <a:r>
              <a:rPr b="1" lang="en-US" sz="8000" spc="-1" strike="noStrike">
                <a:solidFill>
                  <a:srgbClr val="cc0000"/>
                </a:solidFill>
                <a:latin typeface="Arial"/>
              </a:rPr>
              <a:t>Т</a:t>
            </a:r>
            <a:r>
              <a:rPr b="1" lang="en-US" sz="8000" spc="-1" strike="noStrike">
                <a:solidFill>
                  <a:srgbClr val="ffcc00"/>
                </a:solidFill>
                <a:latin typeface="Arial"/>
              </a:rPr>
              <a:t>ворческое</a:t>
            </a:r>
            <a:r>
              <a:rPr b="1" lang="en-US" sz="8000" spc="-1" strike="noStrike">
                <a:solidFill>
                  <a:srgbClr val="b7e7ff"/>
                </a:solidFill>
                <a:latin typeface="Arial"/>
              </a:rPr>
              <a:t> </a:t>
            </a:r>
            <a:br>
              <a:rPr sz="8000"/>
            </a:br>
            <a:r>
              <a:rPr b="1" lang="en-US" sz="8000" spc="-1" strike="noStrike">
                <a:solidFill>
                  <a:srgbClr val="cc0000"/>
                </a:solidFill>
                <a:latin typeface="Arial"/>
              </a:rPr>
              <a:t>Д</a:t>
            </a:r>
            <a:r>
              <a:rPr b="1" lang="en-US" sz="8000" spc="-1" strike="noStrike">
                <a:solidFill>
                  <a:srgbClr val="ffcc00"/>
                </a:solidFill>
                <a:latin typeface="Arial"/>
              </a:rPr>
              <a:t>ело</a:t>
            </a:r>
            <a:br>
              <a:rPr sz="7200"/>
            </a:br>
            <a:endParaRPr b="0" lang="en-US" sz="8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1"/>
                </p:tgtEl>
              </p:cMediaNode>
            </p:audio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549000"/>
            <a:ext cx="8510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0000"/>
                </a:solidFill>
                <a:latin typeface="Arial"/>
              </a:rPr>
              <a:t>Конкурс</a:t>
            </a:r>
            <a:br>
              <a:rPr sz="6000"/>
            </a:br>
            <a:r>
              <a:rPr b="1" lang="ru-RU" sz="6000" spc="-1" strike="noStrike">
                <a:solidFill>
                  <a:srgbClr val="ffcc00"/>
                </a:solidFill>
                <a:latin typeface="Arial"/>
              </a:rPr>
              <a:t>«Собери песню»</a:t>
            </a:r>
            <a:br>
              <a:rPr sz="6000"/>
            </a:b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Кто умеет чисто мыться?</a:t>
            </a:r>
            <a:br>
              <a:rPr sz="4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. О.Высотской                                                                 муз. М Иорданского</a:t>
            </a:r>
            <a:endParaRPr b="0" lang="en-US" sz="1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wheel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1680" y="260280"/>
            <a:ext cx="85406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Кто умеет чисто мыться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Кто водички не боится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Это – мы, это – мы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Это, это, это – мы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Умываться мы умеем,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Моем руки, моем шею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И вот так; и вот так,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И вот так, так! И вот так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Мы помылись, как большие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Вот мы чистые какие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Посмотри, посмотри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Посмотри – смотри – смотри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1680" y="404640"/>
            <a:ext cx="8540640" cy="56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Давайте же мыться, плескаться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упаться, нырять, кувыркать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ушате, корыте, лохан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реке, ручейке, океане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ванне, и в бан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сегда и везде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чная слава воде!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6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r>
              <a:rPr b="1" lang="en-US" sz="8000" spc="-1" strike="noStrike">
                <a:solidFill>
                  <a:srgbClr val="ffcc00"/>
                </a:solidFill>
                <a:latin typeface="Arial"/>
              </a:rPr>
              <a:t>АТОТСИЧ – ГОЛАЗ ЯЬВОРОДЗ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3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00"/>
                </a:solidFill>
                <a:latin typeface="Arial"/>
              </a:rPr>
              <a:t>ЧИСТОТА – ЗАЛОГ ЗДОРОВЬЯ</a:t>
            </a:r>
            <a:r>
              <a:rPr b="0" lang="en-US" sz="80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8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5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2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cc00"/>
                </a:solidFill>
                <a:latin typeface="Arial"/>
              </a:rPr>
              <a:t>У нас закон такой:</a:t>
            </a:r>
            <a:br>
              <a:rPr sz="7500"/>
            </a:br>
            <a:r>
              <a:rPr b="0" lang="en-US" sz="7500" spc="-1" strike="noStrike">
                <a:solidFill>
                  <a:srgbClr val="ffcc00"/>
                </a:solidFill>
                <a:latin typeface="Arial"/>
              </a:rPr>
              <a:t>Вход неряхам  </a:t>
            </a:r>
            <a:br>
              <a:rPr sz="7500"/>
            </a:br>
            <a:r>
              <a:rPr b="0" lang="en-US" sz="7500" spc="-1" strike="noStrike">
                <a:solidFill>
                  <a:srgbClr val="ffcc00"/>
                </a:solidFill>
                <a:latin typeface="Arial"/>
              </a:rPr>
              <a:t>             запрещён.</a:t>
            </a:r>
            <a:endParaRPr b="0" lang="en-US" sz="75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68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68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68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68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424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Конкурсы по теме:</a:t>
            </a:r>
            <a:r>
              <a:rPr b="1" lang="en-US" sz="66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Чистота – залог здоровья</a:t>
            </a:r>
            <a:r>
              <a:rPr b="0" lang="en-US" sz="6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907560"/>
            <a:ext cx="8510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Конкурс</a:t>
            </a: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6000"/>
            </a:b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«Загадки о средствах гигиены»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971640" y="3860640"/>
            <a:ext cx="2077920" cy="2095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724360" y="3860640"/>
            <a:ext cx="2246400" cy="1944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1557360"/>
            <a:ext cx="85104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Конкурс</a:t>
            </a: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6600"/>
            </a:b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«Носовой платок»</a:t>
            </a:r>
            <a:endParaRPr b="0" lang="en-US" sz="6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20280"/>
            <a:ext cx="85104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Arial"/>
              </a:rPr>
              <a:t>Конкурс </a:t>
            </a:r>
            <a:br>
              <a:rPr sz="7200"/>
            </a:br>
            <a:r>
              <a:rPr b="1" lang="en-US" sz="7200" spc="-1" strike="noStrike">
                <a:solidFill>
                  <a:srgbClr val="ffcc00"/>
                </a:solidFill>
                <a:latin typeface="Arial"/>
              </a:rPr>
              <a:t>«Неболей-ка»</a:t>
            </a:r>
            <a:endParaRPr b="0" lang="en-US" sz="7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332000" y="3429000"/>
            <a:ext cx="2232000" cy="23065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940360" y="3429000"/>
            <a:ext cx="2303640" cy="2232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11:36:39Z</dcterms:created>
  <dc:creator>Деп.</dc:creator>
  <dc:description/>
  <dc:language>en-US</dc:language>
  <cp:lastModifiedBy>User</cp:lastModifiedBy>
  <dcterms:modified xsi:type="dcterms:W3CDTF">2008-01-13T13:02:15Z</dcterms:modified>
  <cp:revision>5</cp:revision>
  <dc:subject/>
  <dc:title> Коллективное Творческое  Дело </dc:title>
</cp:coreProperties>
</file>