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AFC-C174-4FC2-B70C-72043FD947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EB4-6BAC-434E-A37A-9AD7290E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603-67F7-416A-B0CF-A50C7BA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A2A-8291-41E2-A7DD-C0475EE5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E1C-8C70-4822-8A6A-CE8FEDCB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DED8-4A2B-4CFC-A4D5-B7F5E1D9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4618-D304-4212-B74E-7771DEB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E12E-CDE0-489D-A81F-99FAA7E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A477-C7DF-46BD-B490-80BA8B79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F821-9094-46A4-8075-AAF07BC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011-1CD7-456E-ACED-D275C3F8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BF0C-CFCE-4180-90B6-7AF1FA8A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8B-ADBC-4B42-829A-CFCF2EDF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EA0-36E4-4002-ABF2-FC7DC15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440-53BD-4C9D-9BDE-7C3723F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7CB-5B2F-44C1-8910-806832F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8F4-F2D7-4E6C-BEE0-4EBA28D2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B47-B9B3-4E5B-A25D-3FC32EBF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2AC-234F-4C37-873B-138DC45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3A3-443E-45AD-AA42-AB07449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F4-D9BA-442A-B280-4990656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A88-189B-49AA-812E-C808713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870-5D75-4E92-ABF6-8E53C93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31C-DAAF-4D8D-814A-486F096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81C-DB1C-46C8-A570-92807777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89EA-B4E9-44C6-8C42-4190968813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6CAC-03CF-4C07-8B91-11D981005B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2193.WAV" TargetMode="External"/><Relationship Id="rId4" Type="http://schemas.microsoft.com/office/2007/relationships/media" Target="file:///tmp/home/.config/libreoffice/4/user/gallery/~PP219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file:///tmp/home/.config/libreoffice/4/user/gallery/~PP3175.WAV" TargetMode="External"/><Relationship Id="rId6" Type="http://schemas.microsoft.com/office/2007/relationships/media" Target="file:///tmp/home/.config/libreoffice/4/user/gallery/~PP3175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3108.WAV" TargetMode="External"/><Relationship Id="rId4" Type="http://schemas.microsoft.com/office/2007/relationships/media" Target="file:///tmp/home/.config/libreoffice/4/user/gallery/~PP31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278.WAV" TargetMode="External"/><Relationship Id="rId4" Type="http://schemas.microsoft.com/office/2007/relationships/media" Target="file:///tmp/home/.config/libreoffice/4/user/gallery/~PP127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file:///tmp/home/.config/libreoffice/4/user/gallery/~PP744.WAV" TargetMode="External"/><Relationship Id="rId5" Type="http://schemas.microsoft.com/office/2007/relationships/media" Target="file:///tmp/home/.config/libreoffice/4/user/gallery/~PP744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79.WAV" TargetMode="External"/><Relationship Id="rId4" Type="http://schemas.microsoft.com/office/2007/relationships/media" Target="file:///tmp/home/.config/libreoffice/4/user/gallery/~PP17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1414.WAV" TargetMode="External"/><Relationship Id="rId4" Type="http://schemas.microsoft.com/office/2007/relationships/media" Target="file:///tmp/home/.config/libreoffice/4/user/gallery/~PP141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132.WAV" TargetMode="External"/><Relationship Id="rId3" Type="http://schemas.microsoft.com/office/2007/relationships/media" Target="file:///tmp/home/.config/libreoffice/4/user/gallery/~PP313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1653.WAV" TargetMode="External"/><Relationship Id="rId3" Type="http://schemas.microsoft.com/office/2007/relationships/media" Target="file:///tmp/home/.config/libreoffice/4/user/gallery/~PP165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429.WAV" TargetMode="External"/><Relationship Id="rId3" Type="http://schemas.microsoft.com/office/2007/relationships/media" Target="file:///tmp/home/.config/libreoffice/4/user/gallery/~PP242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804.WAV" TargetMode="External"/><Relationship Id="rId3" Type="http://schemas.microsoft.com/office/2007/relationships/media" Target="file:///tmp/home/.config/libreoffice/4/user/gallery/~PP280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943.WAV" TargetMode="External"/><Relationship Id="rId3" Type="http://schemas.microsoft.com/office/2007/relationships/media" Target="file:///tmp/home/.config/libreoffice/4/user/gallery/~PP94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c0000"/>
                </a:solidFill>
                <a:latin typeface="Arial"/>
              </a:rPr>
              <a:t>КТД</a:t>
            </a:r>
            <a:endParaRPr b="0" lang="en-US" sz="15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12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Трутовик </a:t>
            </a:r>
            <a:br>
              <a:rPr sz="7200"/>
            </a:b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зол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3676680" cy="331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ятой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Расщепленной веточ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сосны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е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3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26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5210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cc0000"/>
                </a:solidFill>
                <a:latin typeface="Arial"/>
              </a:rPr>
              <a:t>Кора дуба</a:t>
            </a:r>
            <a:br>
              <a:rPr sz="4000"/>
            </a:b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03380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Чистотел</a:t>
            </a:r>
            <a:br>
              <a:rPr sz="6000"/>
            </a:b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40000" y="2443320"/>
            <a:ext cx="4319640" cy="3722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одорожник            Лопух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313080" cy="33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3313080" cy="33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Крапива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424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Ромаш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672000" cy="350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052280"/>
            <a:ext cx="8510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Народная мудрость о чистоте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гонь чистит, вода мо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прятный не нравится нерях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 источник – чист руч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ая вода для хвори бе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и здоровье – родные сёст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– залог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 жить – здоровым бы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– лучшая крас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765000"/>
            <a:ext cx="8510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Полезные советы</a:t>
            </a:r>
            <a:br>
              <a:rPr sz="7200"/>
            </a:br>
            <a:br>
              <a:rPr sz="72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Здоровые зубы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оллективное</a:t>
            </a:r>
            <a:br>
              <a:rPr sz="80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ворческое</a:t>
            </a:r>
            <a:r>
              <a:rPr b="1" lang="en-US" sz="8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ело</a:t>
            </a:r>
            <a:br>
              <a:rPr sz="7200"/>
            </a:b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10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Arial"/>
              </a:rPr>
              <a:t>Конкурс</a:t>
            </a:r>
            <a:br>
              <a:rPr sz="6000"/>
            </a:br>
            <a:r>
              <a:rPr b="1" lang="ru-RU" sz="6000" spc="-1" strike="noStrike">
                <a:solidFill>
                  <a:srgbClr val="ffcc00"/>
                </a:solidFill>
                <a:latin typeface="Arial"/>
              </a:rPr>
              <a:t>«Собери песню»</a:t>
            </a:r>
            <a:br>
              <a:rPr sz="60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то умеет чисто мыться?</a:t>
            </a:r>
            <a:br>
              <a:rPr sz="4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. О.Высотской                                                                 муз. М Иорданского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то умеет чисто мытьс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то водички не боится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 – мы, это – мы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, это, это – мы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мываться мы умеем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ем руки, моем ше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вот так; и вот так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вот так, так! И вот так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ы помылись, как большие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от мы чистые какие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мотри, посмотр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мотри – смотри – смотр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авайте же мыться, плескать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паться, нырять, кувырк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ушате, корыте, лохан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еке, ручейке, океан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анне, и в б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гда и везд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чная слава вод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АТОТСИЧ – ГОЛАЗ ЯЬВОРОДЗ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ЧИСТОТА – ЗАЛОГ ЗДОРОВЬЯ</a:t>
            </a: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У нас закон такой:</a:t>
            </a:r>
            <a:br>
              <a:rPr sz="7500"/>
            </a:b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Вход неряхам  </a:t>
            </a:r>
            <a:br>
              <a:rPr sz="7500"/>
            </a:b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             запрещён.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Конкурсы по теме:</a:t>
            </a: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Чистота – залог здоровья</a:t>
            </a: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907560"/>
            <a:ext cx="8510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Загадки о средствах гигиены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2077920" cy="2095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246400" cy="1944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557360"/>
            <a:ext cx="8510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«Носовой платок»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510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Конкурс </a:t>
            </a: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«Неболей-ка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2232000" cy="2306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0360" y="3429000"/>
            <a:ext cx="2303640" cy="22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1:36:39Z</dcterms:created>
  <dc:creator>Деп.</dc:creator>
  <dc:description/>
  <dc:language>en-US</dc:language>
  <cp:lastModifiedBy>User</cp:lastModifiedBy>
  <dcterms:modified xsi:type="dcterms:W3CDTF">2008-01-13T13:02:15Z</dcterms:modified>
  <cp:revision>5</cp:revision>
  <dc:subject/>
  <dc:title> Коллективное Творческое  Дело </dc:title>
</cp:coreProperties>
</file>