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577A-8CE5-4B79-9E38-C6BA82DB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E934-661C-4776-94B1-C4A66D0B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C7AB7-F8FC-4137-B0F2-D4EFD443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B0B1C-701D-4200-8882-7946BE5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6674D-E5E6-4318-A3E5-5D63A479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B5749-9D00-4077-AB23-60924C5F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DE7A9-42E5-4A27-96FA-CC0F1D9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C5B89-EFBC-4FA7-8F12-522E2F8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FE5F9-CEE6-450E-9D21-FD0D6A89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DEEB5-1A69-4CF1-A085-F7DC3E22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5A2D0-0AA3-4E58-A210-627D607C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DA698-BFD7-4153-B640-47E2E4FF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ABBE-9D25-4575-B542-B5E2B691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0EE7B-450C-4256-862B-53522AB3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C4671-053E-42DB-940C-25CAC6F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94F00-17D0-4AC8-AC8C-57C1C35A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39395-5804-43F7-AFD2-08C5207C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C4A0B-5AAD-405B-B0A8-D67419B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59F7-E928-4A98-A65C-16928C3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19B30-A1BF-4824-A480-1652FA1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0D66-EEA8-46C2-99FA-AA78A9F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A83E5-3314-4D24-9E67-6759EF9C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E3D3C-C061-459E-B72F-DCCD4FCE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03F9-1346-4783-99BF-49AEC7C5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19B11-8F86-46B9-998B-84B93416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C5D5-1C18-4054-BCC4-89748DEC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FE881-0804-4B82-AB82-8E24ED05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FE0C2-A9D5-40F1-B566-B6B00029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9E1AC-F788-41D2-B238-C96A2FCB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EFAFC-2272-4EDD-8E29-BE4A802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01969-7AB0-4B2E-88E1-0D21DBF3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D695C-D04D-4B6A-9D88-0B06742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5B04B-534F-405A-B3C9-EBC39ED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B6498-0BF3-4DD0-A192-92236F9E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E39-5F36-408D-BC39-AB7F82E1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C2901-5544-46B3-A90A-0E274455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EE2FE-9E9E-4FDA-8768-E585718D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D2B99-F1BF-44FF-913D-7CD8173B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AACE3-7F99-4B86-A822-96F1D953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70C2-F83F-4FDD-9EE0-F2033341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9CDE6-EB4E-40C9-80CC-F7096BC0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6EF46-1115-40AD-BE75-2AFC9FB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A2AFE-82A9-47C8-B268-C4362C61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D9225-4F0E-41D6-85D0-FB20B7C2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C090C-EE05-46FC-B24A-7C3D89BC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237-72DC-49FA-9438-57DC666B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D4AED-F314-4FA3-8C1A-8B41693D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09C99-A053-4DAA-A232-801817A3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F9991-E1AF-4767-9D6D-4DA0FEA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793F8-73A7-4606-A68E-C71E6688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7F531-9647-4E02-A974-50CB4953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5ACB4-6A1F-4557-977E-419780B0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ACC50-C7AA-446E-BB14-E9B90A8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AC009-4970-4B93-AEC3-62277598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7D3CA-5C44-489D-868E-91C8B9F9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DB78D-A30F-4CD4-A3BC-354C3843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726-0476-433D-ADD9-1927BB2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F9D76-B101-4363-BB40-5886477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17E11-89E5-4505-B5A1-7B018BC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6837F-2316-4A13-9064-24414B5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79F79-D347-4FCD-B4F6-3DE83C8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6B8B0-BF37-485A-8738-92B04B6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2AB41-236E-4440-A8D9-460306A5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E7C0A-A6EC-462C-AE65-E4B74DDD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0C217-7588-4F15-8D9E-80FD5EDC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3CC2F-62E5-4C42-B3D7-CC06C25C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D54FB-8D74-4C67-82E9-E86B4428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45C9-E97B-4E95-A295-364ED192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7D198-3B1E-41FD-A52E-7F9CF06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5D64D-C064-4B97-B175-BE8200D5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CA9B2-7A53-4616-8508-234DAA2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C4F62-79B9-4332-9E15-8F7A00C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813E0-1F45-46DB-A9F9-579EBAA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88A33-05CF-4583-934E-A5B26564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15F18-5DA4-450F-918F-7680429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4A98F-D26B-41B8-A9E0-A781AF37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D52A2-975C-48C5-8801-838B5944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8BDEE-D787-4D12-800C-E59744FF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A015-0D80-4C2B-B77B-045224A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60421-4DE8-471E-9C75-9A436FA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6E2F6-C891-411E-8403-32EBD12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9E75B-3FC0-4CA5-AE7F-A761192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84535-E032-4AA0-BC4F-CA2FD84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607AD-A9A3-418D-9A1F-2C653F68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A8390-AFC9-4644-BA09-9B9D3D3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C5E82-E871-47B1-BCF8-F84B093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8BEE4-7CF3-442E-A239-926F526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742D5-CC33-49F1-A3C4-575310F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7D3A9-98D0-46FE-8E3A-A1B84A4E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9737-F3C1-404E-99C6-F5095C68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EE89A-1487-43A2-B0F9-27784AED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C346C-DB4B-42CA-9DAE-01A8748F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D5A7C-9393-4A27-A00E-2D0750B4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D3A3C-3A10-4E31-A3CD-3E3CECF2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3FDF0-9CEE-453D-994D-09897AB9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D8B47-B2F1-4E44-9E2E-FBC6C45D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5DAF1-A411-45B8-89D5-0E0061C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59D5C-AAC1-47CA-B50D-D6B64B4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9B385-E3A0-4F56-BEB5-8E71617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B0821-D281-4577-90A5-7A7DBFA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475E-8975-4B0F-930B-428AEAC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AA1609-5A9D-4AD7-848D-AD1320DA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60ABA-73CC-42E3-8D4F-C3FB2706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2CF24-321E-4631-AEBD-30FC525C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7D034-C98A-40DF-9407-B0D7DD68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578BF-693F-4181-B583-31B55DB4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59DB3-5891-495C-BF6F-12CF2E1D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589CF-3E93-4D9C-84C6-03046D44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FF58E-B5D7-44F8-A11A-4F69AE5C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811B3-CBF4-4BC2-B8E2-A08A89D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FAB64-4BB1-4251-B883-8AE8E3C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2FC1-061C-4BC8-802A-5788D22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2958-C436-4B7B-B9F0-A54241A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F741C-98D9-4EC9-A4D6-9836A6B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5AED2-3E72-4586-A8D7-60A7DB8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FD38B8-CAFB-401C-92C6-CADE965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02327-0C95-4EB9-B9E8-A1BA4C1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56051-A6B9-44D8-BF2D-FAAB80C0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B8D40E-6DE6-422F-85E8-15F35C39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6D94D6-806C-424F-B3EA-1855D29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EC02CE-F26A-4B57-BCFA-BCA1DF0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8F27AE-1238-4E29-8312-F06C9D23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BACB6E-45FE-41AC-9F05-262648F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350-F0DA-433F-AD91-538C953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923251-33BD-4938-B5F5-EBFAE56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00AA86-8608-4FF6-93AD-A4D53D04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14748B-0FDD-4042-AC99-B7D841D8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CE7608-F187-4E5D-A92B-3615654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0F43FF-177E-4EEE-BE4C-3FEAA52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E0E695-B354-452A-8B8B-4AEECEEA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C7A0BA-8953-41E2-8CCE-1446D048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9C36C-3AE2-4153-A561-DAEE19AC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662E4-2642-440D-8814-A4F83C84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0B208-952E-4A9F-BFB1-506F71F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8297-B688-4CBD-8056-4E89076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4AA96-014C-47A5-9C85-2FC50E98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0A9F0-D5EC-400B-ADFA-11027E7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41155-DAF7-46A5-ABC7-974BB0AD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9276E-EB39-4B77-BD77-09B5507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72559-8AFC-4F5C-9D4F-43586E7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23B04-83AF-4FC4-97EE-99C0C18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A94AD-DFC9-404D-B9E1-9F710218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282B1-36CE-41CD-870E-F20A17A5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9CD32-7ACA-4911-B8B5-B3C64AE2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B4C8-A5E7-48EA-B68F-E3824702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586A-77B6-4006-9D51-3BD9E92E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5390-444C-48C5-BF67-0BE55074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02E4-5379-4976-B3A2-5ADCF86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29D9-3B6F-445D-8705-E6346DB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5BE2-323D-449D-8E1A-1133C70E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3779-AFFF-4704-9906-08AC0F1B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2602-3E57-4CCD-A8AD-EC5A14DF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0753-93FC-4651-851F-3EF81D8F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C635-6974-4565-8E57-776EF05F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A2CC-71DC-40F0-98C9-7E73899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8480-2B49-4D3B-9432-091F0C0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5B6D-4654-4D72-A9C9-450A93DA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29E5-D612-4960-906E-0663CC73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849F-BDB1-4F84-9E1D-235FDA9D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D79D-8672-46C6-AE9A-0715A58C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F2BB-7CFD-4BD9-905D-16A5D38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83D4-C85B-4519-B3A6-FE19E7A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3025-D7BD-4AD6-97FA-A313ED75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A326-AA35-439B-A9CB-06DD1FA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ECD1-0424-4E9B-91B0-C88E069D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104D4-9BC6-4CBC-B01E-4D497FFF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C033-A8B8-4B79-BE0E-4EAC02EC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B77F7-C8E1-4702-841A-AB3D977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5268-5265-46DB-9D70-B15CE996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4C19-7832-406E-9374-090E901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A0B2-7B90-4EEE-83D1-BB63D774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F6BF-A81E-41E9-B195-0507DE09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A2B35-9F11-4371-BB5D-84FB760D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99FD-49E1-473B-BBCB-6D0761FD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090A-FC1A-45A1-B50E-329A6729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5090-95F7-4CAA-B8BE-11B7A0F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B8FD-18FB-4E24-A3C4-72339AC6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10FA1-44BF-4488-80C8-9F145FF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3258-82A6-4418-9CFB-13E8A71A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48DFC-5E71-48F6-81D4-439A7A3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863F-06F9-47CE-9598-9ACC8F57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EA6B-05B5-4E49-B23C-9DB5D3C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DE8E-6C3C-455B-953F-2BD5E566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1C27-75F4-4736-A19C-D9DB5940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A733-38F7-4885-BF29-A4BAFFB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5839-EE6C-49F4-9549-6366C6D9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3DF4-F81E-4F6F-A293-55253071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6136-E1F5-4FD2-8C07-6409C1AF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2872-E57F-4C62-B45E-AF8ED3BE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090A8-04B4-478B-BCA3-06BEDA7A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536D-510E-4442-B950-36AB064B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509B-8DC2-4BA4-8073-5AF993E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C62F-9015-4A56-818E-7E8D81BC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A75C-8F75-4736-A0E4-8243517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738F6-A1D6-4686-ADCB-85EEE97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2831-E511-41C0-86D3-9CEEF0B7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9FD1-84C9-465D-A840-0962317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E65A0-BB7F-40A6-BB96-23684ED3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73D0-A202-4FCF-83F6-4BCC0458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C5673-38EF-4670-A6A3-97D9FB83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BCA96-0887-4CCE-8D50-AB84F69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896F-87C7-439E-AEFE-DA99128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2BF3-758A-4712-918D-E8F419F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50FFA-C9E1-405A-A3F8-4B48D56C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5CA4-9E90-411F-AB43-9FDACF04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7621-A966-4B42-850E-C575A02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1E33-0611-4FA9-8512-27D4984E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866D-A18E-4B0B-9B35-3570D59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B3BC-9DBF-42D1-9CF1-2A8CE96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CFBF0-3BB4-43A6-8842-96AD83D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B69E8-36BC-4074-AD31-3A05C6F9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41AB3-6316-41E2-909A-F4225162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E5E3-1BFF-4CA8-A545-C82E0269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AAA2-3328-4F56-A3D5-AAC3CEB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2F25-4347-434D-8302-2294409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91D2B-343C-498B-B26A-0C510A6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D12F4-F295-41A2-A678-2F38553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FD8C-A93C-47F2-9DB7-224D1BD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3A1A9-2828-470E-813D-B9478F5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26C2F-695B-4ED0-80DF-C843B28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5CF7E-13D5-41E1-8EFC-CCAF382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50381-BA25-445E-9ED3-DD2488D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C7D92-5830-4F6D-B631-6E4AC7CC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923ED-7C6E-4838-9E50-7E622F9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CC47-B86E-4A66-B82B-704469EE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13E5D-EDD4-467D-A946-E6CADEF3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891E5-4441-4985-BBD3-6A832E9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4F6F8-B5FC-4117-B4AC-37818B2E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389F-9DC6-4FCE-B2E4-5E5B061F82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58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62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6B2-076D-4C91-A78E-1D310B504C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0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0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507-8791-4967-8E58-5E2B2926F23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EE5F-F09D-4B59-9566-7B00A08589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BA35-36AD-4205-BDF6-01E13992AE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4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4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7EBB-E32D-4251-8F36-823082C089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38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4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4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4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CD3-02CB-4667-80E4-3CCC358909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26C3-BE52-4EA8-94ED-3A946469C6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825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A835-46BC-481F-8686-58CC28FC6BF9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72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85F6-66D0-4791-99A1-C7A8A3CB7D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21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5DFD-180C-4752-B17C-F5B46C6086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77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B2AB-2AA6-4319-88D7-146C69E96C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FFA-4183-405A-9FA3-56B0513CA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809-2F6A-43D8-A0C6-C33C6F12D7F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522A-DF2B-4D48-A01E-77DBC91DCA6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464E-1ED4-45D6-BDB4-35E45BCE76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7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2E19-6C0F-4061-9EC1-25E113FC0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5BDE-7D61-4F50-8583-AF990080180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D95B-5007-4186-8DD2-90CFDEC4DC9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8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Михаил Афанасьевич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                     Булгак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0" y="3499920"/>
            <a:ext cx="438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Жизнь, творчество, лич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891 – 194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9" name="" descr="Увеличить"/>
          <p:cNvPicPr/>
          <p:nvPr/>
        </p:nvPicPr>
        <p:blipFill>
          <a:blip r:embed="rId1"/>
          <a:stretch/>
        </p:blipFill>
        <p:spPr>
          <a:xfrm>
            <a:off x="88920" y="1413000"/>
            <a:ext cx="40831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Из письма Варвары Михайловны дочери Надежде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478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1800" spc="-1" strike="noStrike">
                <a:solidFill>
                  <a:srgbClr val="3333cc"/>
                </a:solidFill>
                <a:latin typeface="Tahoma"/>
              </a:rPr>
              <a:t>"Давно собираюсь написать тебе, но не в силах в письме изложить тебе всю эпопею, которую я пережила в эту зиму: Миша совершенно измочалил меня... В результате я должна предоставить ему самому пережить все последствия своего безумного шага: 26 апреля предполагается его свадьба. Дела стоят так, что все равно они повенчались бы, только со скандалом и с разрывом с родными; так я решила устроить лучше все без скандала. Пошла к о. Александру Александровичу (можешь представить, как Миша с Тасей меня выпроваживали поскорее на этот визит!), поговорила с ним откровенно, и он сказал, что лучше, конечно, повенчать их, что "Бог устроит все к лучшему"... Если бы я могла надеяться на хороший результат этого брака; а то я, к сожалению, никаких данных с обеих сторон к каким бы то ни было надеждам не вижу, и это меня приводит в ужас. Александр Александрович искренне сочувствовал мне, и мне стало легче после разговора с ним... Потом Миша был у него; он, конечно, старался обратить Мишино внимание на всю серьезность этого шага (а Мише его слова как с гуся вода!), призывал Божье благословение на это дело..."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"Студентом Михаил женился. Его жена была Татьяна Николаевна Лаппа, Тася, дочь управляющего Саратовской казенной палатой, девица со средствами. Михаил хорошо прожил на средства жены последние три года студенчества как в Киеве, так и в Саратове... Своих средств у Михаила не было... Тася не была красива, но была очень хорошей женщиной, тихой и любящей женой, худенькой и незаметной. Детей у их не было. Это было категорическое условие Михаила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24000" y="54936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51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воспоминаний Леонида Сергеевича Карума:</a:t>
            </a:r>
            <a:endParaRPr b="0" lang="en-US" sz="1800" spc="1" strike="noStrike">
              <a:ln w="0">
                <a:noFill/>
              </a:ln>
              <a:solidFill>
                <a:srgbClr val="00051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 rot="1426200">
            <a:off x="4572000" y="1557360"/>
            <a:ext cx="3724200" cy="45086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931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Своё медицинское образ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н скрывал до конца жиз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Увеличить"/>
          <p:cNvPicPr/>
          <p:nvPr/>
        </p:nvPicPr>
        <p:blipFill>
          <a:blip r:embed="rId2"/>
          <a:stretch/>
        </p:blipFill>
        <p:spPr>
          <a:xfrm rot="20595600">
            <a:off x="1168200" y="2419200"/>
            <a:ext cx="2735280" cy="396396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 txBox="1"/>
          <p:nvPr/>
        </p:nvSpPr>
        <p:spPr>
          <a:xfrm>
            <a:off x="971640" y="333360"/>
            <a:ext cx="77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плом Михаила Афанасьевич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952880" y="2362320"/>
            <a:ext cx="3578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…приехал без денег, без вещей в Москву с тем, чтобы остаться в ней навсегд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Из автобиограф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 А. Булгаков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3563640" y="1844640"/>
            <a:ext cx="497340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«Цилиндр мой я с голодухи на базар снёс. Но сердце и мозг не понесу на базар, хоть издохну»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Из книги «Записки на манжетах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717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Увеличить"/>
          <p:cNvPicPr/>
          <p:nvPr/>
        </p:nvPicPr>
        <p:blipFill>
          <a:blip r:embed="rId2"/>
          <a:stretch/>
        </p:blipFill>
        <p:spPr>
          <a:xfrm rot="20291400">
            <a:off x="1033560" y="2336760"/>
            <a:ext cx="2643120" cy="366228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3"/>
          <a:stretch/>
        </p:blipFill>
        <p:spPr>
          <a:xfrm rot="1090800">
            <a:off x="5292360" y="1773000"/>
            <a:ext cx="2795760" cy="4149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 txBox="1"/>
          <p:nvPr/>
        </p:nvSpPr>
        <p:spPr>
          <a:xfrm>
            <a:off x="611280" y="404640"/>
            <a:ext cx="79214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бовь Евгеньевна Белозерская - 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торая жена Булгакова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200" spc="-1" strike="noStrike">
                <a:solidFill>
                  <a:srgbClr val="99cc00"/>
                </a:solidFill>
                <a:latin typeface="Arial"/>
              </a:rPr>
              <a:t>"Тут у Булгакова пошли "дела семейные"- появились новые интересы, ему стало не до меня. Ударил в нос успех! К тому времени вернулся из Берлина Василевский с женой своей … Любовью Евгеньевной, неглупая, практическая женщина, многое испытавшая на своем веку, оставившая в Германии свою "любовь", - Василевская приглядывалась ко всем мужчинам, которые могли бы помочь строить ее будущее. С мужем она была не в ладах. Булгаков подвернулся кстати. Через месяц-два все узнали, что Миша бросил Татьяну Николаевну и сошелся с Любовью Евгеньевной".</a:t>
            </a:r>
            <a:r>
              <a:rPr b="0" lang="en-US" sz="2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1476360" y="549360"/>
            <a:ext cx="61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 воспоминаний писателя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Юрия Слезкина: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374920" cy="345600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560320" y="2349360"/>
            <a:ext cx="640404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"Подавляет меня чувственно моя жена. Это и хорошо, и отчаянно, и сладко, и, в то же время, безнадежно сложно: я как раз сейчас хворый, а она для меня... Как заноза сидит... что чертова баба завязила меня; как пушку в болоте, важный вопрос. Но один, без нее, уже не мыслюсь. Видно привык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Эта ужасно глупо при моих замыслах, но, кажется, я в нее влюблен. Одна мысль интересует меня. При всяком ли она приспособилась бы так же уютно, или это избирательно для меня?"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835280" y="476280"/>
            <a:ext cx="65530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дневника Булгакова: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8360" y="329760"/>
            <a:ext cx="8012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ТЕЛЬСТВУ ССС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8 марта 1930 г. Моск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ихаила Афанасьевича Булгаков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осква, Б. Пироговская, 35-а, к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0" i="1" lang="en-US" sz="1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обращаюсь к правительству со следующим письм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осле того, как все мои произведения были запрещены, среди многих граждан, которым я известен как писатель, стали раздаваться голоса, подающие мне один и тот же сов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Сочинить «коммунистическую пьесу» (в кавычках я привожу цитаты), а кроме того, обратиться </a:t>
            </a:r>
            <a:r>
              <a:rPr b="0" i="1" lang="en-US" sz="1400" spc="-1" strike="noStrike">
                <a:solidFill>
                  <a:srgbClr val="663300"/>
                </a:solidFill>
                <a:latin typeface="Verdana"/>
              </a:rPr>
              <a:t>к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равительству СССР с покаянным письмом, содержащим в себе отказ от прежних моих взглядов, высказанных мною в литературных произведениях, и уверения в том, что отныне я буду работать как преданный идее коммунизма писатель-попутчик. Цель: спастись от гонений, нищеты и неизбежной гибели в фин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Этого совета я не послушался. Навряд ли мне удалось бы предстать перед Правительством СССР в выгодном свете, написав лживое письмо, представляющее собой неопрятный и к тому же наивный политический курбет. Попыток же сочинить коммунистическую пьесу я даже не производил, зная заведомо, что такая пьеса у меня не выйд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Созревшее во мне желание прекратить мои писательские мучения заставляет меня обратиться к Правительству СССР с письмом правдив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роизведя анализ моих альбомных вырезок, я обнаружил в прессе СССР за десять лет моей литературной работы 301 отзыв обо мне. Из них: похвальных — было 3, враждебно-ругательных — 29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Последние 298 представляют собой зеркальное отражение моей писательской жизни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Verdana"/>
              </a:rPr>
              <a:t>Я прошу принять во внимание, что невозможность писать равносильна для меня погребению заживо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прошу правительство СССР приказать мне в срочном порядке покинуть пределы СССР  в сопровождении моей жены Любови Евгеньевны Булгак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обращаюсь к гуманности советской власти и прошу меня, писателя, который не может быть полезен у себя, в отечестве, великодушно отпустить на своб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Если же и то, что я написал, неубедительно и меня обрекут на пожизненное молчание в СССР, я прошу Советское правительство дать мне работу по специальности и командировать меня в театр на работу в качестве штатного режиссе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именно точно и подчеркнуто прошу о КАТЕГОРИЧЕСКОМ ПРИКАЗЕ, О КОМАНДИРОВАНИИ, потому что все мои попытки найти работу в той единственной области, где я могу быть полезен в СССР, как исключительно квалифицированный специалист, потерпели полное фиаско. Мое имя сделано настолько одиозным, что предложения работы с моей стороны встретили ИСПУГ, несмотря на то, что в Москве громадному количеству актеров и режиссеров, а с ними вместе и директорам театров, отлично известно мое виртуозное знание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предлагаю СССР совершенно честного, без всякой тени вредительства специалиста, режиссера и актера, который берется добросовестно ставить любую пьесу, начиная с шекспировских пьес и вплоть до пьес сегодняшнего д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Я прошу о назначении меня лаборантом-режиссером в 1-й Художественный Театр — в  лучшую школу, возглавляемую мастерами К. С. Станиславским и В. И. Немировичем-Данченк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Если меня не назначат режиссером, я прошусь на штатную должность статиста. Если и статистом нельзя — я прошусь на должность рабочего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 — нищета, улица, гиб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М. Булга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11624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На широком поле словесности российской в СССР я был один-единственный литературный волк. Мне советовали выкрасить шкуру. Нелепый совет. Крашеный ли волк, стриженый ли волк, он всё равно не похож на пуде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 письма И. В. Сталину, март 1930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94400" cy="56894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5076720" y="765000"/>
            <a:ext cx="302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1" lang="en-US" sz="1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Vrinda"/>
              </a:rPr>
              <a:t>Из телефонного разговора Булгакова и Сталина: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Мы ваше письмо получили. Читали с товарищам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Вы будете по нему благоприятный ответ иметь. 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может быть, правда, вас пустить за границу? Чт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мы вам очень надое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Я много думал в последние годы, может 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русский писатель жить без родины, и м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кажется, что не може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Вы правы. Я тоже так думаю. Вы где хоти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работать? В Художественном театр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Да, я хотел бы, но я говорил об этом, м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отказ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А вы подайте заявление туда. Мне кажется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они согласятся. Нам бы нужно встретить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поговорить с вам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6720" cy="525600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 txBox="1"/>
          <p:nvPr/>
        </p:nvSpPr>
        <p:spPr>
          <a:xfrm>
            <a:off x="539640" y="26028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Елена Сергеевна Булгакова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третья жена Булгак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757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"Мы познакомились очень неожиданно. Я интересовалась им давно. С тех пор как прочитала «Роковые яйца» и «Белую гвардию». Я почувствовала, что это совершенно особый писатель, хотя литература 20-х годов у нас была очень талантлива. Необычайный взлет был у русской литературы. И среди всех был Булгаков, причем среди этого большого созвездия он стоял как-то в стороне по своей необычности, необычности темы, необычности языка, взгляда, юмора: всего того, что, собственно, определяет писа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Все это поразило ме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Я была женой генерал-лейтенанта Шиловского, прекрасного, благороднейшего человека. Была, что называется, счастливая семья: муж, занимающий высокое положение, двое прекрасных сыновей... Вообще все было хорошо. Но когда я встретила Булгакова случайно в одном доме, я поняла, что это моя судьба, несмотря на безумно трудную трагедию разрыва. Я пошла на все это, потому что без Булгакова для меня не было бы ни смысла жизни, ни оправдания ее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Это было в 29-м году в феврале, на масленую. Какие-то знакомые устроили блины. Ни я не хотела идти туда, ни Булгаков, который почему-то решил, что в этот дом он не будет ходить. Но получилось так, что эти люди сумели заинтересовать составом приглашенных и его, и меня. Ну, меня, конечно, его фамилия. В общем, мы встретились и были рядом. Это была быстрая, необычайно быстрая, во всяком случае с моей стороны, любовь на всю жиз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0" i="1" lang="en-US" sz="1400" spc="-1" strike="noStrike">
                <a:solidFill>
                  <a:srgbClr val="003399"/>
                </a:solidFill>
                <a:latin typeface="Arial"/>
              </a:rPr>
              <a:t>Потом наступили гораздо более трудные времена, когда мне было очень трудно уйти из дома именно из-за того, что муж был очень хорошим человеком, из-за того, что у нас была такая дружная семья. В первый раз я смалодушествовала и осталась, и я не видела Булгакова 20 месяцев, давши слово, что не приму ни одного письма, не подойду ни разу к телефону, не выйду одна на улицу. Но, очевидно, все-таки это была судьба. Потому что, когда я в первый раз вышла на улицу, я встретила его, и первая фраза, которую он сказал, было: «Я не могу без тебя жить». И я ответила: «И я тоже». И мы решили соединиться, несмотря ни на что. Но тогда же он мне сказал то, что, я не знаю почему, но приняла со смехом. Он мне сказал: «Дай мне слово, что умирать я буду у тебя на руках». Если представить, что это говорил человек неполных сорока лет, здоровый, с веселыми голубыми глазами, сияющий от счастья, то, конечно, это выглядело очень странно. И я, смеясь, сказала: «Конечно, конечно, ты будешь умирать у меня на...». Он сказал: «Я говорю очень серьезно, поклянись». И в результате я поклялас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95280" y="26028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воспоминаний Е. С. Булгаковой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cccc00"/>
                </a:solidFill>
                <a:latin typeface="Times New Roman"/>
              </a:rPr>
              <a:t>"Дорогой Евгений Александрович, я виделся с Еленой Сергеевной по ее вызову, и мы объяснились с нею. Мы любим друг друга так же, как любили раньше. И мы хотим пожениться".</a:t>
            </a:r>
            <a:r>
              <a:rPr b="0" lang="en-US" sz="32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33360" y="692280"/>
            <a:ext cx="881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из письма Булгакова Шиловскому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/>
          </p:nvPr>
        </p:nvSpPr>
        <p:spPr>
          <a:xfrm>
            <a:off x="974520" y="2122200"/>
            <a:ext cx="7196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990033"/>
                </a:solidFill>
                <a:latin typeface="Arial"/>
              </a:rPr>
              <a:t>"Секретно. Срочно. В 3 3/4 дня я венчаюсь в Загсе. Отпустите меня через 10 минут"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619280" y="476280"/>
            <a:ext cx="6307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Записка М. Булгакова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з воспоминаний Елены Сергеевн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«Слушали замечательно, после чтения долго, стоя, аплодировали. Однако главный герой пьесы, уже одобренной в Комитете по делам искусств, категорически высказался против ее постановки. Причем, в разговоре с В. Немировичем-Данченко, Сталин сказал, что «пьесу «Батум» он считает очень хорошей, но ее нельзя ставить». Режиссер несостоявшегося спектакля В. Г. Сахновский объяснил Булгакову, почему не приняли пьесу: «Нельзя такое лицо, как Иосиф Виссарионович Сталин, делать романтическим героем, нельзя ставить его в выдуманные положения и вкладывать в его уста выдуманные слова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 rot="20902200">
            <a:off x="250560" y="1844640"/>
            <a:ext cx="4064040" cy="2801880"/>
          </a:xfrm>
          <a:prstGeom prst="rect">
            <a:avLst/>
          </a:prstGeom>
          <a:ln w="0">
            <a:noFill/>
          </a:ln>
        </p:spPr>
      </p:pic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3635280" y="2060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Любовь выскочила перед нами, как из-под земли выскакивает убийца в переулке, и поразила нас сразу обои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поражает молния, так поражает финский нож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а-то, впрочем, утверждала впоследствии, что это не так, что любили мы, конечно, друг друга давным-давно, не зная друг друга...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55640" y="404640"/>
            <a:ext cx="777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Impact"/>
              </a:rPr>
              <a:t>Из романа "Мастер и Маргарит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…Только сильное радостное потрясение… может дать надежду на спасени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письма друзей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. А. Булгакова Стал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2841480" y="1600200"/>
            <a:ext cx="3461040" cy="452592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 txBox="1"/>
          <p:nvPr/>
        </p:nvSpPr>
        <p:spPr>
          <a:xfrm>
            <a:off x="1258920" y="549360"/>
            <a:ext cx="6626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водевичье кладбищ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гила М. А. Булга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емья Булгаковых – большая, дружная, культурная, музыкальная, театральна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5" name="" descr="Варвара Михайловна Булгакова на даче в Буче под Киевом. 1915 год."/>
          <p:cNvPicPr/>
          <p:nvPr/>
        </p:nvPicPr>
        <p:blipFill>
          <a:blip r:embed="rId1"/>
          <a:stretch/>
        </p:blipFill>
        <p:spPr>
          <a:xfrm rot="20860200">
            <a:off x="468000" y="3213000"/>
            <a:ext cx="1913040" cy="237672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Афанасий Иванович Булгаков. Киев, 1890-е годы."/>
          <p:cNvPicPr/>
          <p:nvPr/>
        </p:nvPicPr>
        <p:blipFill>
          <a:blip r:embed="rId2"/>
          <a:stretch/>
        </p:blipFill>
        <p:spPr>
          <a:xfrm rot="790200">
            <a:off x="2339640" y="1916280"/>
            <a:ext cx="1739880" cy="2520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Н. А. Булгаков. Парижская лаборатория. 1930 год."/>
          <p:cNvPicPr/>
          <p:nvPr/>
        </p:nvPicPr>
        <p:blipFill>
          <a:blip r:embed="rId3"/>
          <a:stretch/>
        </p:blipFill>
        <p:spPr>
          <a:xfrm>
            <a:off x="4932360" y="1773360"/>
            <a:ext cx="1643040" cy="223344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И. А. Булгаков. Париж, начало 30-х годов"/>
          <p:cNvPicPr/>
          <p:nvPr/>
        </p:nvPicPr>
        <p:blipFill>
          <a:blip r:embed="rId4"/>
          <a:stretch/>
        </p:blipFill>
        <p:spPr>
          <a:xfrm rot="1624200">
            <a:off x="6516360" y="3141360"/>
            <a:ext cx="1946160" cy="30240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5"/>
          <a:stretch/>
        </p:blipFill>
        <p:spPr>
          <a:xfrm rot="20778000">
            <a:off x="3708360" y="4220640"/>
            <a:ext cx="15368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1" name="" descr="Афанасий Иванович Булгаков. Киев, 1890-е годы."/>
          <p:cNvPicPr/>
          <p:nvPr/>
        </p:nvPicPr>
        <p:blipFill>
          <a:blip r:embed="rId2"/>
          <a:stretch/>
        </p:blipFill>
        <p:spPr>
          <a:xfrm>
            <a:off x="2987640" y="1773360"/>
            <a:ext cx="3328920" cy="48243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 txBox="1"/>
          <p:nvPr/>
        </p:nvSpPr>
        <p:spPr>
          <a:xfrm>
            <a:off x="250920" y="476280"/>
            <a:ext cx="873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фанасий Иванович Булгаков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ц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Варвара Михайловна Булгакова на даче в Буче под Киевом. 1915 год."/>
          <p:cNvPicPr/>
          <p:nvPr/>
        </p:nvPicPr>
        <p:blipFill>
          <a:blip r:embed="rId2"/>
          <a:stretch/>
        </p:blipFill>
        <p:spPr>
          <a:xfrm>
            <a:off x="2556000" y="1700280"/>
            <a:ext cx="3940200" cy="4895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468360" y="404640"/>
            <a:ext cx="849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рвара Михайловна Булгаков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ь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2797200" y="1484280"/>
            <a:ext cx="3360600" cy="50403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 txBox="1"/>
          <p:nvPr/>
        </p:nvSpPr>
        <p:spPr>
          <a:xfrm>
            <a:off x="684360" y="836640"/>
            <a:ext cx="76863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ил Булгаков в годы учёбы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овской гимназ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Arial"/>
              </a:rPr>
              <a:t>Дом на Воздвиженской № 10 в Киеве, где родился Булгак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48" name="" descr="Увеличить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50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" descr="Увеличить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560736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468360" y="189000"/>
            <a:ext cx="83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к выглядел Андреевский спус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нц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Увеличить"/>
          <p:cNvPicPr/>
          <p:nvPr/>
        </p:nvPicPr>
        <p:blipFill>
          <a:blip r:embed="rId2"/>
          <a:stretch/>
        </p:blipFill>
        <p:spPr>
          <a:xfrm>
            <a:off x="1908000" y="1557360"/>
            <a:ext cx="4651560" cy="5040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 txBox="1"/>
          <p:nvPr/>
        </p:nvSpPr>
        <p:spPr>
          <a:xfrm>
            <a:off x="324000" y="333360"/>
            <a:ext cx="84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тьяна Николаевна Лаппа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жена Булга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5:44:55Z</dcterms:created>
  <dc:creator>user</dc:creator>
  <dc:description/>
  <dc:language>en-US</dc:language>
  <cp:lastModifiedBy>user</cp:lastModifiedBy>
  <dcterms:modified xsi:type="dcterms:W3CDTF">2008-01-30T08:05:34Z</dcterms:modified>
  <cp:revision>3</cp:revision>
  <dc:subject/>
  <dc:title>Михаил Афанасьевич                        Булга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