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103D-C7B9-40CA-B6BB-AD0737A3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7C78-24FD-4DF8-B9F0-3E134917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A0EC2-5327-4A46-810D-0C025F48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0D6C7-52A4-458D-8A02-38B1BF69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54A78-3288-4A33-96A8-9791255E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B5D6C-2BBA-47DF-A460-AFA90D30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937CE-5B16-4714-8F55-DE3D79EB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E4C0D-E5D9-436D-BFC2-2DA38AFA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9B2CB-6195-4BEC-BDCA-2D3181D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87E6D-92B1-407A-B001-81A783E4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74953-DE6E-425A-9F58-8A6D01C1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3767F-04F0-405E-A698-0D1683AB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406F-EB7A-401E-9DB8-26E44CB1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1382A-E6BB-4F93-BAD9-7931437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F9601-71B8-4343-AD73-6029F633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40927-613E-424E-8925-9A45171A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3F0BF-E2CB-429F-94DD-76E060D0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2AEA0-A835-4164-BBF8-A95F799E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7E3E7-CA17-4CB8-ABA9-1953D245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2317E-B52C-4942-A826-0D44139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A44AF-41E4-4B84-8B1E-5F30E99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F1FA3-053D-4D33-97E1-89B145A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20094-2E36-4082-BC00-75421E4E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6FD5-C83F-448E-8F55-DDE017FE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65427-49F0-44C7-A7D8-C697212B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6970C-6E0F-4872-9657-4B66EBB4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D1F25-C14F-4E6B-830F-E5E51F2F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3340D-2AD3-4429-8D97-C54939DA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157B-761A-4E39-BC44-66F49B7D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3D16F-3B38-494A-AF11-7C06D203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4CC3A-AF80-4008-9DB2-3F9ACF53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D61B2-2976-45E4-96DB-1ABC0E7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AD58A-F2D6-41A1-BC96-35467A5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89506-0EB8-4ACB-BEAA-F4C3263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CE13-74FD-4545-8A2F-EBDA5A13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BE489-A262-44A6-B1D4-8E4E9CB5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C8CC9-1912-471F-876F-7BF709F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1C290-D575-4D8A-A5CB-21ED9346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2943F-054C-4950-8916-A09EE4F4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2B298-CE54-4385-8064-950A6F4E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6102D-DE32-48C8-860E-B311C395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A3C8E-57A5-4CD6-9091-04DD701E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28F1B-FA0C-42F5-BD3B-10215FF7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2559E-E3DE-438A-B9BB-A63A1A8F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87D38-F0AE-4FE9-8F0E-3D0A0CE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92AA-B206-4324-90B3-7FBF1415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4CEAB-39F2-4548-9E79-CD88557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B947F-020C-4C95-9734-EE2AFA5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598D9-53CF-4690-B465-3375AC34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EFB60-A0A2-434E-8073-B233369D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5C3E7-390C-4D9C-9FF6-CD725EB5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BF70E-35E4-4C1D-8D9B-64BCA633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FE41D-252E-41E1-BBB4-4FF4AC01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AD921-DD22-4141-90A6-21536DEA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AFA48-97EC-4783-9330-66DAA1BA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7B4EB-D573-4DA8-8090-BDA01096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FEBF-3170-4395-8201-936C51B6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9D4B1-9E00-4FA9-85DE-1BCDCB6E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37EA3-4873-49EC-97C3-15878AA6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16EA9-E2AB-481B-AA77-D0B80B38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D19A3-B891-4B49-A076-44D7291A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09958-1EFE-4F79-A6D2-E6519BE0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B8D4A-EBDA-45F9-8580-65FBF816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3F21B-0805-4ADF-B79F-F3DE079B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87F2A-76FB-46E5-978D-2638493E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04E35-4285-4346-B70B-DE0975F4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AFF56-57A8-4ACF-8037-705F666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72C9-BC5C-4D8F-8980-AB49808B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3D694-05E9-41F5-95E1-B89A1308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EC2E1-A328-406C-AA5C-316269AA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51942-B1FE-4EBC-97F4-4AB4609A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00CE6-C88F-499F-A8F2-2590F67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63E91-F4B4-4DB8-8903-A1EC981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1C6E5-932C-4A2A-AAD2-CF66500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4F323-D4DD-4645-A43F-69DAA4C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3E69F-4616-4EA6-AC48-E7FA3ADB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0B553-B52E-46EA-88E8-9E86B92B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3F45C-E581-4098-9D5B-D4FEE8E9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543A-4FC4-426F-B13B-E727FE2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8AA43-E4B6-4043-A864-3FE8773B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211B6-324A-4548-8E98-011A91DE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C076E-4598-423C-8B28-16C21191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A71F1-2FA8-4D3E-BDD0-E6C88A5C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97798-45A6-4367-93DB-329A36B2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89569-A557-4B50-82AF-0F991E4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3C87B-5E05-4A70-B5A8-99FC1B2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23B059-998C-45F8-81FC-22AAB889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4F6C8-1612-465F-8F57-C42FA19A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892E9-CF3D-4BDB-AD8F-A2E6F3F4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D0E-FE4E-4122-8F6C-F426498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EEC7A-15F5-4E7F-87F6-156638A5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5DBD4-EA7D-4C93-BBAC-28647D5F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8A4B5-E272-4C76-804F-84746DC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42F0A-136A-4AC8-8091-BFE96CD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54272-EFCD-49ED-8FA9-6DF4BD59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F68F9-D7CF-49FE-8425-7C884844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A8D53-0BAB-419D-9F8D-A3B405E3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DB46A-90C2-4051-BEF8-26DCE61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CC80B-E8D6-4B2F-A82E-DD1A4E6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9C457-D83B-4401-8056-43D68EB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A8A5-547B-489A-AC1D-1DFDC933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A80D7-FE74-4080-8A54-FBAFDF8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FD29E-CDBE-41F4-BF38-78971B73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38B05-ADFD-49B2-BA89-A3E107FB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FA490-BE1E-49BD-8E9F-EDB26ECB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686AC-DB01-47D3-A07E-B50CE1BD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436CA-74B9-48BC-8E9B-20AC774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9FDCC-5003-4A42-8198-6F444FBB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8AB8F-F5AC-43FF-80A3-D22BC3CF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3D031-D8A3-44D1-8C2C-931CE6B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5925C-503A-427C-8277-541C43F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0FCF-7EEE-4253-B581-13A8F50D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1FF8-4E4E-4CF1-A44A-3D61CA9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F0B01-C1D8-4E81-9534-81C490A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485B2-36C3-4FB6-9A48-23278D2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97C41-A807-4187-9190-36119818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08206-D57F-4920-8FEA-2C0D63EC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876BA-26B9-42E7-9C2C-41FC6841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CCF741-FD73-435A-A472-AFBCAD7E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E1FFFB-3E43-41A6-A6BD-14BA6E6D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3C9872-99A0-43DE-A889-9249315C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EC57B4-1216-439B-A874-92D16366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3DAAC6-8852-4318-894B-247388FF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83A-E4C9-41AA-949F-741EB98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A4C5354-8486-49EF-B0A3-EEDB1790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A12048-F5E4-46CF-8399-76031A9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45B6AF-94BB-46D4-BC2F-9FA6309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22E8C1-7F02-40B6-AD15-07D13A44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53705D-5A00-45A5-A9E8-0180575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13B44C-6584-482B-8EE3-BC389B33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E81687-43D6-4DDF-B648-5D6EB898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5F709-8B65-41ED-A1D7-D1B22E2E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FB6C3-CF7B-4BC1-8BE5-ECB919F5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D39A9-4A07-455B-9EF2-58C869CD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6FB4-4741-4E99-9821-3902FAC7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3D06C-817C-4C3D-A970-4E2E4FD5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D2699-3261-42BD-95DB-83A122C2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371C2-13EA-4CC0-8D26-BA9377DA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41FE0-9F1D-4F52-A8FC-323F7F2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2FA48-62D2-47E8-AC8E-002A71C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6905E-6F69-4309-9117-85A7360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95947-F556-4C87-943D-C6B2AE65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22B6C3-5D37-42AF-8F83-A7998C0D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CEEE8-3A68-4281-9042-1118F49B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4A21-59BE-425A-BBDC-8F305D13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5725-AEDD-4943-A5DF-1FFFEDE1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11A7-5E1C-4247-BDA8-0077C0F0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0BB7-8A58-4363-8824-C4EB2DC6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699D-F638-4E6C-8CDC-6C9B3BFA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66F9-823C-4147-8C7B-4416BD6D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1FF8-7A44-4EEA-9788-D66F2537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3A7A-9524-4B6A-A57F-31DB4587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BA84-C82C-44A7-8036-42B49B8E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43B0-C982-45DA-B0EB-C7F6B538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95CD-9F45-4C0A-9E93-A1A66C64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5911-C9E8-4BA6-A185-9FAACF88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13C3-F337-4600-9AC0-EFB2134C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7AD0-76E6-49DE-81AB-30733B75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1D3A-2436-486A-AB4D-8DB43E9C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A0187-F900-47F3-988B-D499F4E0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B1A3-191D-44AB-B88A-1CCFEC46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AD79-18E3-49D3-A891-4475DD30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ABD1-1C86-4A9F-8B9B-EC6B99BD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BC7B-C105-47B5-A90C-A5E2A90C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D978-DB6B-4C21-8EFC-7DAD25E5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6A1B-9177-4A77-A3AD-ECCE77B5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FD20-B9C4-455D-8B24-03B27042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7343-AFB2-47B8-8A42-CC5A7C2A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5C93-3469-430D-A483-355EFB07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3E0DA-C9D2-4CB8-A265-C42CA39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56FCD-B1CE-4B8B-87EC-23C07A51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A310-DF0A-47DD-9454-26BAB8E5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6CF11-0042-4291-B02C-A142250F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DB44-79F6-4120-88C3-56ABBB04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9DF0-C2F8-4433-A6A0-DC7BCD75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FF455-D161-4B87-A54C-9A347DF9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41B1-ED72-4B59-A34B-51FD07D1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F188E-DA36-4C80-8200-3769955C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99EB9-08CA-483D-B435-0A54F5D9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1757-BB4F-439B-9AA6-3A4FAB5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D6DC5-79A1-4331-B89A-87664CE5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B055F-E8FB-40EC-8F18-3CCFB312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8C28-2D36-4B30-9D21-A6E80CCC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46594-857E-4CF5-BA1D-A6C969F9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DE26-4044-495D-A6D7-462781D2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E69F4-77D5-4DE2-94DD-C4173053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0F49-95BB-420A-B45A-8448D53D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D8492-1D54-4741-BE81-D8906B77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C989-0D8B-4595-B0D4-995879A2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FFD73-510E-4758-9D72-8D61CFDA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A2A5E-3D5C-499C-AA80-07C2363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6FEE-761D-44E8-97F4-82CF500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F39CF-910A-4A34-8196-B2F2990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28E8-03BE-4A4A-A402-2B6E0EC7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C7D4E-148B-4758-B320-29C7D7C3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61C7-A388-4638-A455-CF7768CC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D60A-69AD-4946-8EFB-910EF39F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9C053-4DD5-4C96-B652-98637DE1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9BB63-22B5-4755-8EF4-104F3E31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A584F-65AB-49BF-9637-C64FBD27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C7199-182A-40D1-9CDA-8C68F3FB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374F1-CA4D-45A5-844B-91AB3E90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2EE04-524D-43FC-8DAB-773A204E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907A-4ABE-44FC-BC8B-899B0871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82DC-34D4-4E8B-A489-C69A589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1393A-1581-48F9-A755-0DFFD13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7283-FB53-43D8-B59E-89432C3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E1F6C-7818-4772-8E86-0A96253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70EC5-EED7-4A84-BD9E-4824B68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C1EA-17D2-4A14-9B41-1C246B22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078C-A477-4469-BFBD-C0C647EA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3025-4E5A-4F33-97AC-6A581181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1FB65-0ED6-4B4F-97E4-641CBD01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5B109-15F8-41CC-A824-5E2731B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5334-8CF3-4559-A63F-438AF1FA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D1435-BF98-490C-A3B9-3B367CCF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B9EB3-58B9-4DE1-908B-CC5B7C5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8116-9143-4482-AD63-2349EF4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33DA8-6159-48BB-8A9C-97588EC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697B-2788-49A3-A3A2-5ED0B2E9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A19BF-CE4C-4556-8520-FED0C924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91E14-F7C3-4B79-9F0C-EF4FB01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0AE01-E7D8-4FB9-A14E-E7188B4C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0FBB-2A6F-4A79-B614-AEDE0BDB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02CE-820E-4B8D-B4EC-B03CE85B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DF7C1-69F2-469D-B096-DE22FA61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9CED0-2AD7-4D2F-B020-B6216C78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C35C7-37BB-492F-B486-E7F1ECC7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95D5-5A97-46D2-B01D-AFACA8355C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6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5DCC-7F8F-4C35-B3DC-6AB7BC2AAFC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0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0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6DBA-A3A7-42F7-950B-BAA51C60FA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C570-21F4-4F7E-99B2-4FDF607BC8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C9BE-445B-43C9-AFF3-9ADF0249EE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4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4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4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B80A-2ACD-4F1C-BED4-0F14EB237D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38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4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4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4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B5AD-D09C-4AD1-90F6-538FB429F4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A78D-C2FC-46DA-8F53-521DDEEFDD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825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8D1C-B9BC-4638-BAA5-A579094D96F7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72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B7F7-24D5-4B35-9AC7-B46770F3DC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921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10EE-C8FD-47D4-8EDE-C5E411E5E8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77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D6B5-AB5D-4C33-A913-F3AFAF6F50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0BCB-3DA1-4916-BE36-1261969A06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7416-353F-46A8-8D2E-8EB95ED06AA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47C6-DBBF-4D69-8D1F-841D634870A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5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B992-8E75-4AAD-88B0-76573EC8AD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7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AF3C-DC16-4566-99AD-02217D3FE1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6A6-6283-478B-BE19-50F22B7EFF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6E9D-1296-48C0-A47C-60DC5EA7496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5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8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Михаил Афанасьевич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                     Булгаков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0" y="3499920"/>
            <a:ext cx="438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изнь, творчество, лич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891 – 194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9" name="" descr="Увеличить"/>
          <p:cNvPicPr/>
          <p:nvPr/>
        </p:nvPicPr>
        <p:blipFill>
          <a:blip r:embed="rId1"/>
          <a:stretch/>
        </p:blipFill>
        <p:spPr>
          <a:xfrm>
            <a:off x="88920" y="1413000"/>
            <a:ext cx="408312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Из письма Варвары Михайловны дочери Надежде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478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"Давно собираюсь написать тебе, но не в силах в письме изложить тебе всю эпопею, которую я пережила в эту зиму: Миша совершенно измочалил меня... В результате я должна предоставить ему самому пережить все последствия своего безумного шага: 26 апреля предполагается его свадьба. Дела стоят так, что все равно они повенчались бы, только со скандалом и с разрывом с родными; так я решила устроить лучше все без скандала. Пошла к о. Александру Александровичу (можешь представить, как Миша с Тасей меня выпроваживали поскорее на этот визит!), поговорила с ним откровенно, и он сказал, что лучше, конечно, повенчать их, что "Бог устроит все к лучшему"... Если бы я могла надеяться на хороший результат этого брака; а то я, к сожалению, никаких данных с обеих сторон к каким бы то ни было надеждам не вижу, и это меня приводит в ужас. Александр Александрович искренне сочувствовал мне, и мне стало легче после разговора с ним... Потом Миша был у него; он, конечно, старался обратить Мишино внимание на всю серьезность этого шага (а Мише его слова как с гуся вода!), призывал Божье благословение на это дело..."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"Студентом Михаил женился. Его жена была Татьяна Николаевна Лаппа, Тася, дочь управляющего Саратовской казенной палатой, девица со средствами. Михаил хорошо прожил на средства жены последние три года студенчества как в Киеве, так и в Саратове... Своих средств у Михаила не было... Тася не была красива, но была очень хорошей женщиной, тихой и любящей женой, худенькой и незаметной. Детей у их не было. Это было категорическое условие Михаила..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24000" y="549360"/>
            <a:ext cx="84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51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воспоминаний Леонида Сергеевича Карума:</a:t>
            </a:r>
            <a:endParaRPr b="0" lang="en-US" sz="1800" spc="1" strike="noStrike">
              <a:ln w="0">
                <a:noFill/>
              </a:ln>
              <a:solidFill>
                <a:srgbClr val="00051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 rot="1426200">
            <a:off x="4572000" y="1557360"/>
            <a:ext cx="3724200" cy="45086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931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воё медицинское образ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он скрывал до конца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Увеличить"/>
          <p:cNvPicPr/>
          <p:nvPr/>
        </p:nvPicPr>
        <p:blipFill>
          <a:blip r:embed="rId2"/>
          <a:stretch/>
        </p:blipFill>
        <p:spPr>
          <a:xfrm rot="20595600">
            <a:off x="1168200" y="2419200"/>
            <a:ext cx="2735280" cy="396396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 txBox="1"/>
          <p:nvPr/>
        </p:nvSpPr>
        <p:spPr>
          <a:xfrm>
            <a:off x="971640" y="333360"/>
            <a:ext cx="77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плом Михаила Афанасьевич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952880" y="2362320"/>
            <a:ext cx="3578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…приехал без денег, без вещей в Москву с тем, чтобы остаться в ней навсегд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Из автобиограф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. А. Булгаков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3563640" y="1844640"/>
            <a:ext cx="497340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Цилиндр мой я с голодухи на базар снёс. Но сердце и мозг не понесу на базар, хоть издохну»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Из книги «Записки на манжетах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717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" descr="Увеличить"/>
          <p:cNvPicPr/>
          <p:nvPr/>
        </p:nvPicPr>
        <p:blipFill>
          <a:blip r:embed="rId2"/>
          <a:stretch/>
        </p:blipFill>
        <p:spPr>
          <a:xfrm rot="20291400">
            <a:off x="1033560" y="2336760"/>
            <a:ext cx="2643120" cy="366228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3"/>
          <a:stretch/>
        </p:blipFill>
        <p:spPr>
          <a:xfrm rot="1090800">
            <a:off x="5292360" y="1773000"/>
            <a:ext cx="2795760" cy="4149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 txBox="1"/>
          <p:nvPr/>
        </p:nvSpPr>
        <p:spPr>
          <a:xfrm>
            <a:off x="611280" y="404640"/>
            <a:ext cx="79214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юбовь Евгеньевна Белозерская - 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торая жена Булгакова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200" spc="-1" strike="noStrike">
                <a:solidFill>
                  <a:srgbClr val="99cc00"/>
                </a:solidFill>
                <a:latin typeface="Arial"/>
              </a:rPr>
              <a:t>"Тут у Булгакова пошли "дела семейные"- появились новые интересы, ему стало не до меня. Ударил в нос успех! К тому времени вернулся из Берлина Василевский с женой своей … Любовью Евгеньевной, неглупая, практическая женщина, многое испытавшая на своем веку, оставившая в Германии свою "любовь", - Василевская приглядывалась ко всем мужчинам, которые могли бы помочь строить ее будущее. С мужем она была не в ладах. Булгаков подвернулся кстати. Через месяц-два все узнали, что Миша бросил Татьяну Николаевну и сошелся с Любовью Евгеньевной".</a:t>
            </a:r>
            <a:r>
              <a:rPr b="0" lang="en-US" sz="2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1476360" y="549360"/>
            <a:ext cx="61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 воспоминаний писателя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Юрия Слезкина: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374920" cy="345600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560320" y="2349360"/>
            <a:ext cx="640404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"Подавляет меня чувственно моя жена. Это и хорошо, и отчаянно, и сладко, и, в то же время, безнадежно сложно: я как раз сейчас хворый, а она для меня... Как заноза сидит... что чертова баба завязила меня; как пушку в болоте, важный вопрос. Но один, без нее, уже не мыслюсь. Видно привык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Эта ужасно глупо при моих замыслах, но, кажется, я в нее влюблен. Одна мысль интересует меня. При всяком ли она приспособилась бы так же уютно, или это избирательно для меня?"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1835280" y="476280"/>
            <a:ext cx="655308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 дневника Булгакова: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68360" y="329760"/>
            <a:ext cx="8012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ТЕЛЬСТВУ ССС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8 марта 1930 г. Москв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хаила Афанасьевича Булгаков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осква, Б. Пироговская, 35-а, к.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Я</a:t>
            </a:r>
            <a:r>
              <a:rPr b="0" i="1" lang="en-US" sz="14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обращаюсь к правительству со следующим письм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После того, как все мои произведения были запрещены, среди многих граждан, которым я известен как писатель, стали раздаваться голоса, подающие мне один и тот же сов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Сочинить «коммунистическую пьесу» (в кавычках я привожу цитаты), а кроме того, обратиться </a:t>
            </a:r>
            <a:r>
              <a:rPr b="0" i="1" lang="en-US" sz="1400" spc="-1" strike="noStrike">
                <a:solidFill>
                  <a:srgbClr val="663300"/>
                </a:solidFill>
                <a:latin typeface="Verdana"/>
              </a:rPr>
              <a:t>к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Правительству СССР с покаянным письмом, содержащим в себе отказ от прежних моих взглядов, высказанных мною в литературных произведениях, и уверения в том, что отныне я буду работать как преданный идее коммунизма писатель-попутчик. Цель: спастись от гонений, нищеты и неизбежной гибели в фина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Этого совета я не послушался. Навряд ли мне удалось бы предстать перед Правительством СССР в выгодном свете, написав лживое письмо, представляющее собой неопрятный и к тому же наивный политический курбет. Попыток же сочинить коммунистическую пьесу я даже не производил, зная заведомо, что такая пьеса у меня не выйд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Созревшее во мне желание прекратить мои писательские мучения заставляет меня обратиться к Правительству СССР с письмом правдив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Произведя анализ моих альбомных вырезок, я обнаружил в прессе СССР за десять лет моей литературной работы 301 отзыв обо мне. Из них: похвальных — было 3, враждебно-ругательных — 29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Последние 298 представляют собой зеркальное отражение моей писательской жизни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Я прошу принять во внимание, что невозможность писать равносильна для меня погребению заживо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прошу правительство СССР приказать мне в срочном порядке покинуть пределы СССР  в сопровождении моей жены Любови Евгеньевны Булгак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обращаюсь к гуманности советской власти и прошу меня, писателя, который не может быть полезен у себя, в отечестве, великодушно отпустить на своб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Если же и то, что я написал, неубедительно и меня обрекут на пожизненное молчание в СССР, я прошу Советское правительство дать мне работу по специальности и командировать меня в театр на работу в качестве штатного режиссе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именно точно и подчеркнуто прошу о КАТЕГОРИЧЕСКОМ ПРИКАЗЕ, О КОМАНДИРОВАНИИ, потому что все мои попытки найти работу в той единственной области, где я могу быть полезен в СССР, как исключительно квалифицированный специалист, потерпели полное фиаско. Мое имя сделано настолько одиозным, что предложения работы с моей стороны встретили ИСПУГ, несмотря на то, что в Москве громадному количеству актеров и режиссеров, а с ними вместе и директорам театров, отлично известно мое виртуозное знание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предлагаю СССР совершенно честного, без всякой тени вредительства специалиста, режиссера и актера, который берется добросовестно ставить любую пьесу, начиная с шекспировских пьес и вплоть до пьес сегодняшнего д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прошу о назначении меня лаборантом-режиссером в 1-й Художественный Театр — в  лучшую школу, возглавляемую мастерами К. С. Станиславским и В. И. Немировичем-Данченк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Если меня не назначат режиссером, я прошусь на штатную должность статиста. Если и статистом нельзя — я прошусь на должность рабочего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Если же и это невозможно, я прошу советское Правительство поступить со мной, как оно найдет нужным, но как-нибудь поступить, потому что у меня, драматурга, написавшего 5 пьес, известного в СССР и за границей, налицо, В ДАННЫЙ МОМЕНТ, — нищета, улица, гиб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                                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М. Булга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11624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На широком поле словесности российской в СССР я был один-единственный литературный волк. Мне советовали выкрасить шкуру. Нелепый совет. Крашеный ли волк, стриженый ли волк, он всё равно не похож на пуде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 письма И. В. Сталину, март 1930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794400" cy="56894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5076720" y="765000"/>
            <a:ext cx="302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1" lang="en-US" sz="1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Vrinda"/>
              </a:rPr>
              <a:t>Из телефонного разговора Булгакова и Сталина: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Мы ваше письмо получили. Читали с товарищам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Вы будете по нему благоприятный ответ иметь. 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может быть, правда, вас пустить за границу? Чт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мы вам очень надое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Булгаков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Я много думал в последние годы, может 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русский писатель жить без родины, и м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кажется, что не може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Вы правы. Я тоже так думаю. Вы где хотит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работать? В Художественном театр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Булгаков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Да, я хотел бы, но я говорил об этом, м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отказ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А вы подайте заявление туда. Мне кажется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они согласятся. Нам бы нужно встретить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поговорить с вами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6720" cy="525600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 txBox="1"/>
          <p:nvPr/>
        </p:nvSpPr>
        <p:spPr>
          <a:xfrm>
            <a:off x="539640" y="26028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Елена Сергеевна Булгакова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третья жена Булгак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757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"Мы познакомились очень неожиданно. Я интересовалась им давно. С тех пор как прочитала «Роковые яйца» и «Белую гвардию». Я почувствовала, что это совершенно особый писатель, хотя литература 20-х годов у нас была очень талантлива. Необычайный взлет был у русской литературы. И среди всех был Булгаков, причем среди этого большого созвездия он стоял как-то в стороне по своей необычности, необычности темы, необычности языка, взгляда, юмора: всего того, что, собственно, определяет писате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Все это поразило ме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Я была женой генерал-лейтенанта Шиловского, прекрасного, благороднейшего человека. Была, что называется, счастливая семья: муж, занимающий высокое положение, двое прекрасных сыновей... Вообще все было хорошо. Но когда я встретила Булгакова случайно в одном доме, я поняла, что это моя судьба, несмотря на безумно трудную трагедию разрыва. Я пошла на все это, потому что без Булгакова для меня не было бы ни смысла жизни, ни оправдания ее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Это было в 29-м году в феврале, на масленую. Какие-то знакомые устроили блины. Ни я не хотела идти туда, ни Булгаков, который почему-то решил, что в этот дом он не будет ходить. Но получилось так, что эти люди сумели заинтересовать составом приглашенных и его, и меня. Ну, меня, конечно, его фамилия. В общем, мы встретились и были рядом. Это была быстрая, необычайно быстрая, во всяком случае с моей стороны, любовь на всю жиз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Потом наступили гораздо более трудные времена, когда мне было очень трудно уйти из дома именно из-за того, что муж был очень хорошим человеком, из-за того, что у нас была такая дружная семья. В первый раз я смалодушествовала и осталась, и я не видела Булгакова 20 месяцев, давши слово, что не приму ни одного письма, не подойду ни разу к телефону, не выйду одна на улицу. Но, очевидно, все-таки это была судьба. Потому что, когда я в первый раз вышла на улицу, я встретила его, и первая фраза, которую он сказал, было: «Я не могу без тебя жить». И я ответила: «И я тоже». И мы решили соединиться, несмотря ни на что. Но тогда же он мне сказал то, что, я не знаю почему, но приняла со смехом. Он мне сказал: «Дай мне слово, что умирать я буду у тебя на руках». Если представить, что это говорил человек неполных сорока лет, здоровый, с веселыми голубыми глазами, сияющий от счастья, то, конечно, это выглядело очень странно. И я, смеясь, сказала: «Конечно, конечно, ты будешь умирать у меня на...». Он сказал: «Я говорю очень серьезно, поклянись». И в результате я поклялас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95280" y="260280"/>
            <a:ext cx="828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воспоминаний Е. С. Булгаковой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cccc00"/>
                </a:solidFill>
                <a:latin typeface="Times New Roman"/>
              </a:rPr>
              <a:t>"Дорогой Евгений Александрович, я виделся с Еленой Сергеевной по ее вызову, и мы объяснились с нею. Мы любим друг друга так же, как любили раньше. И мы хотим пожениться".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33360" y="692280"/>
            <a:ext cx="881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ывок из письма Булгакова Шиловскому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/>
          </p:nvPr>
        </p:nvSpPr>
        <p:spPr>
          <a:xfrm>
            <a:off x="974520" y="2122200"/>
            <a:ext cx="7196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990033"/>
                </a:solidFill>
                <a:latin typeface="Arial"/>
              </a:rPr>
              <a:t>"Секретно. Срочно. В 3 3/4 дня я венчаюсь в Загсе. Отпустите меня через 10 минут"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1619280" y="476280"/>
            <a:ext cx="6307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Записка М. Булгакова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 воспоминаний Елены Сергеевн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«Слушали замечательно, после чтения долго, стоя, аплодировали. Однако главный герой пьесы, уже одобренной в Комитете по делам искусств, категорически высказался против ее постановки. Причем, в разговоре с В. Немировичем-Данченко, Сталин сказал, что «пьесу «Батум» он считает очень хорошей, но ее нельзя ставить». Режиссер несостоявшегося спектакля В. Г. Сахновский объяснил Булгакову, почему не приняли пьесу: «Нельзя такое лицо, как Иосиф Виссарионович Сталин, делать романтическим героем, нельзя ставить его в выдуманные положения и вкладывать в его уста выдуманные слова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 rot="20902200">
            <a:off x="250560" y="1844640"/>
            <a:ext cx="4064040" cy="280188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3635280" y="2060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Любовь выскочила перед нами, как из-под земли выскакивает убийца в переулке, и поразила нас сразу обои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 поражает молния, так поражает финский нож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а-то, впрочем, утверждала впоследствии, что это не так, что любили мы, конечно, друг друга давным-давно, не зная друг друга...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755640" y="404640"/>
            <a:ext cx="7777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Impact"/>
              </a:rPr>
              <a:t>Из романа "Мастер и Маргарит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…Только сильное радостное потрясение… может дать надежду на спасени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письма друзей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. А. Булгакова Стал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2841480" y="1600200"/>
            <a:ext cx="3461040" cy="452592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 txBox="1"/>
          <p:nvPr/>
        </p:nvSpPr>
        <p:spPr>
          <a:xfrm>
            <a:off x="1258920" y="549360"/>
            <a:ext cx="6626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водевичье кладбищ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гила М. А. Булгак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емья Булгаковых – большая, дружная, культурная, музыкальная, театральна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5" name="" descr="Варвара Михайловна Булгакова на даче в Буче под Киевом. 1915 год."/>
          <p:cNvPicPr/>
          <p:nvPr/>
        </p:nvPicPr>
        <p:blipFill>
          <a:blip r:embed="rId1"/>
          <a:stretch/>
        </p:blipFill>
        <p:spPr>
          <a:xfrm rot="20860200">
            <a:off x="468000" y="3213000"/>
            <a:ext cx="1913040" cy="237672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Афанасий Иванович Булгаков. Киев, 1890-е годы."/>
          <p:cNvPicPr/>
          <p:nvPr/>
        </p:nvPicPr>
        <p:blipFill>
          <a:blip r:embed="rId2"/>
          <a:stretch/>
        </p:blipFill>
        <p:spPr>
          <a:xfrm rot="790200">
            <a:off x="2339640" y="1916280"/>
            <a:ext cx="1739880" cy="2520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Н. А. Булгаков. Парижская лаборатория. 1930 год."/>
          <p:cNvPicPr/>
          <p:nvPr/>
        </p:nvPicPr>
        <p:blipFill>
          <a:blip r:embed="rId3"/>
          <a:stretch/>
        </p:blipFill>
        <p:spPr>
          <a:xfrm>
            <a:off x="4932360" y="1773360"/>
            <a:ext cx="1643040" cy="223344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И. А. Булгаков. Париж, начало 30-х годов"/>
          <p:cNvPicPr/>
          <p:nvPr/>
        </p:nvPicPr>
        <p:blipFill>
          <a:blip r:embed="rId4"/>
          <a:stretch/>
        </p:blipFill>
        <p:spPr>
          <a:xfrm rot="1624200">
            <a:off x="6516360" y="3141360"/>
            <a:ext cx="1946160" cy="30240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5"/>
          <a:stretch/>
        </p:blipFill>
        <p:spPr>
          <a:xfrm rot="20778000">
            <a:off x="3708360" y="4220640"/>
            <a:ext cx="15368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1" name="" descr="Афанасий Иванович Булгаков. Киев, 1890-е годы."/>
          <p:cNvPicPr/>
          <p:nvPr/>
        </p:nvPicPr>
        <p:blipFill>
          <a:blip r:embed="rId2"/>
          <a:stretch/>
        </p:blipFill>
        <p:spPr>
          <a:xfrm>
            <a:off x="2987640" y="1773360"/>
            <a:ext cx="3328920" cy="482436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 txBox="1"/>
          <p:nvPr/>
        </p:nvSpPr>
        <p:spPr>
          <a:xfrm>
            <a:off x="250920" y="476280"/>
            <a:ext cx="873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фанасий Иванович Булгаков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ец писа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Варвара Михайловна Булгакова на даче в Буче под Киевом. 1915 год."/>
          <p:cNvPicPr/>
          <p:nvPr/>
        </p:nvPicPr>
        <p:blipFill>
          <a:blip r:embed="rId2"/>
          <a:stretch/>
        </p:blipFill>
        <p:spPr>
          <a:xfrm>
            <a:off x="2556000" y="1700280"/>
            <a:ext cx="3940200" cy="48956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468360" y="404640"/>
            <a:ext cx="849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рвара Михайловна Булгакова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ть писа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2797200" y="1484280"/>
            <a:ext cx="3360600" cy="50403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 txBox="1"/>
          <p:nvPr/>
        </p:nvSpPr>
        <p:spPr>
          <a:xfrm>
            <a:off x="684360" y="836640"/>
            <a:ext cx="76863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ил Булгаков в годы учёбы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андровской гимназ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Дом на Воздвиженской № 10 в Киеве, где родился Булгак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48" name="" descr="Увеличить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50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" descr="Увеличить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560736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 txBox="1"/>
          <p:nvPr/>
        </p:nvSpPr>
        <p:spPr>
          <a:xfrm>
            <a:off x="468360" y="189000"/>
            <a:ext cx="83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к выглядел Андреевский спус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конце XIX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Увеличить"/>
          <p:cNvPicPr/>
          <p:nvPr/>
        </p:nvPicPr>
        <p:blipFill>
          <a:blip r:embed="rId2"/>
          <a:stretch/>
        </p:blipFill>
        <p:spPr>
          <a:xfrm>
            <a:off x="1908000" y="1557360"/>
            <a:ext cx="4651560" cy="50403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 txBox="1"/>
          <p:nvPr/>
        </p:nvSpPr>
        <p:spPr>
          <a:xfrm>
            <a:off x="324000" y="333360"/>
            <a:ext cx="84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тьяна Николаевна Лаппа 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ая жена Булгако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5:44:55Z</dcterms:created>
  <dc:creator>user</dc:creator>
  <dc:description/>
  <dc:language>en-US</dc:language>
  <cp:lastModifiedBy>user</cp:lastModifiedBy>
  <dcterms:modified xsi:type="dcterms:W3CDTF">2008-01-30T08:05:34Z</dcterms:modified>
  <cp:revision>3</cp:revision>
  <dc:subject/>
  <dc:title>Михаил Афанасьевич                        Булга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