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7BC-9E03-40EF-BFFF-6C3717AA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F01-84F1-4CC8-8220-AC124C3F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7CC-F8BE-4F52-8001-FBFB4D6E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569-884C-490B-9BC6-D4838C65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2710-2B7B-4118-8F41-F7D58AC5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2547-560A-4A8A-B055-3411334D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0890-1279-4BAD-B5B1-F348147D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7AF0-47F9-4D11-B90E-124DBE24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1F18-21EC-4A8F-80B5-C05DA6B7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F9A-70B1-48A3-86A8-7E5134C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A39C-AF5E-4E25-B597-300F9A2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5EC-2816-441A-8D45-5D4C3E1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2170-8EF8-47FE-9249-44075EB6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6CC6-B2A9-4418-B157-2F22D280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3929-A453-4710-9AD6-B21AB33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FEE3-8549-4184-BA87-E02AFDFA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3D5C-58A2-4958-A75C-7B34C2CA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086-0FE7-42D1-997B-019D9AE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A3C-64AA-434B-A52D-E91A9722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337-9C10-497D-8696-D2FC36D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5FF-24A3-42FE-9360-263A28B5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FDC-D10A-442D-A3E5-DB022D9F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B4E-DA64-4350-84F7-F868EBD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E1B-2FA0-4598-A598-1BB4071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FE05-4F2A-4E81-A143-6C94C22CB74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22EE-D233-4AF2-B9E6-C855242DBCC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9.png"/><Relationship Id="rId67" Type="http://schemas.openxmlformats.org/officeDocument/2006/relationships/image" Target="../media/image6.png"/><Relationship Id="rId6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10.png"/><Relationship Id="rId50" Type="http://schemas.openxmlformats.org/officeDocument/2006/relationships/image" Target="../media/image11.png"/><Relationship Id="rId5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12.png"/><Relationship Id="rId50" Type="http://schemas.openxmlformats.org/officeDocument/2006/relationships/image" Target="../media/image13.png"/><Relationship Id="rId51" Type="http://schemas.openxmlformats.org/officeDocument/2006/relationships/image" Target="../media/image14.png"/><Relationship Id="rId52" Type="http://schemas.openxmlformats.org/officeDocument/2006/relationships/image" Target="../media/image15.png"/><Relationship Id="rId53" Type="http://schemas.openxmlformats.org/officeDocument/2006/relationships/image" Target="../media/image16.png"/><Relationship Id="rId54" Type="http://schemas.openxmlformats.org/officeDocument/2006/relationships/image" Target="../media/image17.png"/><Relationship Id="rId5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18.png"/><Relationship Id="rId50" Type="http://schemas.openxmlformats.org/officeDocument/2006/relationships/image" Target="../media/image19.png"/><Relationship Id="rId51" Type="http://schemas.openxmlformats.org/officeDocument/2006/relationships/image" Target="../media/image20.png"/><Relationship Id="rId52" Type="http://schemas.openxmlformats.org/officeDocument/2006/relationships/image" Target="../media/image21.png"/><Relationship Id="rId5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3.jpe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47640" y="1219320"/>
            <a:ext cx="6048720" cy="30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ОСНОВАНИЕ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 </a:t>
            </a: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ГРЕЧЕСКИХ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КОЛОНИЙ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042920" y="620640"/>
            <a:ext cx="7129080" cy="152640"/>
            <a:chOff x="1042920" y="620640"/>
            <a:chExt cx="7129080" cy="152640"/>
          </a:xfrm>
        </p:grpSpPr>
        <p:grpSp>
          <p:nvGrpSpPr>
            <p:cNvPr id="84" name=""/>
            <p:cNvGrpSpPr/>
            <p:nvPr/>
          </p:nvGrpSpPr>
          <p:grpSpPr>
            <a:xfrm>
              <a:off x="1042920" y="620640"/>
              <a:ext cx="2376000" cy="152640"/>
              <a:chOff x="1042920" y="620640"/>
              <a:chExt cx="2376000" cy="152640"/>
            </a:xfrm>
          </p:grpSpPr>
          <p:pic>
            <p:nvPicPr>
              <p:cNvPr id="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92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33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6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2792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128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12228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825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5796000" y="620640"/>
              <a:ext cx="2376000" cy="152640"/>
              <a:chOff x="5796000" y="620640"/>
              <a:chExt cx="2376000" cy="152640"/>
            </a:xfrm>
          </p:grpSpPr>
          <p:pic>
            <p:nvPicPr>
              <p:cNvPr id="9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9300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96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687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90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8100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8436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87536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7836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3419280" y="620640"/>
              <a:ext cx="2376000" cy="152640"/>
              <a:chOff x="3419280" y="620640"/>
              <a:chExt cx="2376000" cy="152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1628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419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310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013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90428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60764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98640" y="620640"/>
                <a:ext cx="296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201640" y="620640"/>
                <a:ext cx="297000" cy="15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" name=""/>
          <p:cNvGrpSpPr/>
          <p:nvPr/>
        </p:nvGrpSpPr>
        <p:grpSpPr>
          <a:xfrm>
            <a:off x="1042920" y="6013440"/>
            <a:ext cx="7129080" cy="152280"/>
            <a:chOff x="1042920" y="6013440"/>
            <a:chExt cx="7129080" cy="152280"/>
          </a:xfrm>
        </p:grpSpPr>
        <p:grpSp>
          <p:nvGrpSpPr>
            <p:cNvPr id="112" name=""/>
            <p:cNvGrpSpPr/>
            <p:nvPr/>
          </p:nvGrpSpPr>
          <p:grpSpPr>
            <a:xfrm>
              <a:off x="1042920" y="6013440"/>
              <a:ext cx="2376000" cy="152280"/>
              <a:chOff x="1042920" y="6013440"/>
              <a:chExt cx="2376000" cy="152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33992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042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933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636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52792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223128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12228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825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"/>
            <p:cNvGrpSpPr/>
            <p:nvPr/>
          </p:nvGrpSpPr>
          <p:grpSpPr>
            <a:xfrm>
              <a:off x="5796000" y="6013440"/>
              <a:ext cx="2376000" cy="152280"/>
              <a:chOff x="5796000" y="6013440"/>
              <a:chExt cx="2376000" cy="1522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609300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796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687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390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728100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98436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787536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757836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"/>
            <p:cNvGrpSpPr/>
            <p:nvPr/>
          </p:nvGrpSpPr>
          <p:grpSpPr>
            <a:xfrm>
              <a:off x="3419280" y="6013440"/>
              <a:ext cx="2376000" cy="152280"/>
              <a:chOff x="3419280" y="6013440"/>
              <a:chExt cx="2376000" cy="152280"/>
            </a:xfrm>
          </p:grpSpPr>
          <p:pic>
            <p:nvPicPr>
              <p:cNvPr id="131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371628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3419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310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013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90428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0764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5498640" y="6013440"/>
                <a:ext cx="2966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01640" y="6013440"/>
                <a:ext cx="297000" cy="1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"/>
          <p:cNvSpPr/>
          <p:nvPr/>
        </p:nvSpPr>
        <p:spPr>
          <a:xfrm>
            <a:off x="1116000" y="55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МОУ СОШ №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55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 Narrow"/>
              </a:rPr>
              <a:t>учитель </a:t>
            </a: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Тюрина С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4942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Narrow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H="1">
            <a:off x="3491640" y="2203560"/>
            <a:ext cx="4464360" cy="388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364" y="561"/>
                  <a:pt x="3127" y="5080"/>
                  <a:pt x="3127" y="10800"/>
                </a:cubicBezTo>
                <a:cubicBezTo>
                  <a:pt x="3127" y="16520"/>
                  <a:pt x="12364" y="210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a3cdf3">
                  <a:alpha val="83137"/>
                </a:srgbClr>
              </a:gs>
              <a:gs pos="50000">
                <a:srgbClr val="ffffe3">
                  <a:alpha val="83137"/>
                </a:srgbClr>
              </a:gs>
              <a:gs pos="100000">
                <a:srgbClr val="a3cdf3">
                  <a:alpha val="8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304920"/>
            <a:ext cx="842472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99"/>
                </a:solidFill>
                <a:latin typeface="Book Antiqua"/>
              </a:rPr>
              <a:t>ПРИЧИНЫ     ГРЕЧЕСКОЙ     КОЛОНИЗАЦИ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333399"/>
              </a:solidFill>
              <a:latin typeface="Book Antiqua"/>
              <a:ea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9507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Изучив источник и литературу мы поняли, что греки основывали колонии, т.к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4000" y="1916280"/>
            <a:ext cx="4319280" cy="1800000"/>
            <a:chOff x="324000" y="1916280"/>
            <a:chExt cx="4319280" cy="1800000"/>
          </a:xfrm>
        </p:grpSpPr>
        <p:sp>
          <p:nvSpPr>
            <p:cNvPr id="146" name=""/>
            <p:cNvSpPr/>
            <p:nvPr/>
          </p:nvSpPr>
          <p:spPr>
            <a:xfrm>
              <a:off x="324000" y="1916280"/>
              <a:ext cx="4319280" cy="1800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7254"/>
                  </a:srgbClr>
                </a:gs>
                <a:gs pos="100000">
                  <a:srgbClr val="ffffe3">
                    <a:alpha val="5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8000" y="2203560"/>
              <a:ext cx="40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в Греции ощущалась острая нехватка земли из-за перенаселения полисов и возникала угроза гол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643280" y="3068640"/>
            <a:ext cx="4319640" cy="1800000"/>
            <a:chOff x="4643280" y="3068640"/>
            <a:chExt cx="4319640" cy="1800000"/>
          </a:xfrm>
        </p:grpSpPr>
        <p:sp>
          <p:nvSpPr>
            <p:cNvPr id="149" name=""/>
            <p:cNvSpPr/>
            <p:nvPr/>
          </p:nvSpPr>
          <p:spPr>
            <a:xfrm>
              <a:off x="4643280" y="3068640"/>
              <a:ext cx="4319640" cy="1800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7254"/>
                  </a:srgbClr>
                </a:gs>
                <a:gs pos="100000">
                  <a:srgbClr val="ffffe3">
                    <a:alpha val="5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60800" y="3243240"/>
              <a:ext cx="3673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 </a:t>
              </a: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шла ожесточенная борьба между знатью и демосом, и проигравшая сторона вынуждена была покидать свой поли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96720" y="4508640"/>
            <a:ext cx="4319640" cy="1800000"/>
            <a:chOff x="396720" y="4508640"/>
            <a:chExt cx="4319640" cy="1800000"/>
          </a:xfrm>
        </p:grpSpPr>
        <p:sp>
          <p:nvSpPr>
            <p:cNvPr id="152" name=""/>
            <p:cNvSpPr/>
            <p:nvPr/>
          </p:nvSpPr>
          <p:spPr>
            <a:xfrm>
              <a:off x="396720" y="4508640"/>
              <a:ext cx="4319640" cy="1800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7254"/>
                  </a:srgbClr>
                </a:gs>
                <a:gs pos="100000">
                  <a:srgbClr val="ffffe3">
                    <a:alpha val="5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440" y="4825800"/>
              <a:ext cx="410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греки стремились развивать свою торговлю и ремесло (поэтому нуждались в источниках сырья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00720" y="5013360"/>
            <a:ext cx="2589120" cy="1611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33440" y="3130560"/>
            <a:ext cx="2158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425680" y="1527120"/>
            <a:ext cx="6321600" cy="158760"/>
            <a:chOff x="2425680" y="1527120"/>
            <a:chExt cx="6321600" cy="158760"/>
          </a:xfrm>
        </p:grpSpPr>
        <p:grpSp>
          <p:nvGrpSpPr>
            <p:cNvPr id="157" name=""/>
            <p:cNvGrpSpPr/>
            <p:nvPr/>
          </p:nvGrpSpPr>
          <p:grpSpPr>
            <a:xfrm>
              <a:off x="2425680" y="1527120"/>
              <a:ext cx="2107080" cy="158760"/>
              <a:chOff x="2425680" y="1527120"/>
              <a:chExt cx="2107080" cy="158760"/>
            </a:xfrm>
          </p:grpSpPr>
          <p:pic>
            <p:nvPicPr>
              <p:cNvPr id="1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8884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256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158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523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7425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94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696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060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6640200" y="1527120"/>
              <a:ext cx="2107080" cy="158760"/>
              <a:chOff x="6640200" y="1527120"/>
              <a:chExt cx="2107080" cy="1587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9033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402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304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1668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9570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9392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48412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60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532760" y="1527120"/>
              <a:ext cx="2107080" cy="158760"/>
              <a:chOff x="4532760" y="1527120"/>
              <a:chExt cx="2107080" cy="158760"/>
            </a:xfrm>
          </p:grpSpPr>
          <p:pic>
            <p:nvPicPr>
              <p:cNvPr id="17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9592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327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3229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05944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84964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5864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37668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113160" y="1527120"/>
                <a:ext cx="263160" cy="15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85840" y="907920"/>
            <a:ext cx="8534160" cy="5061240"/>
            <a:chOff x="285840" y="907920"/>
            <a:chExt cx="8534160" cy="506124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361800" y="907920"/>
              <a:ext cx="8458200" cy="50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846600">
              <a:off x="3257280" y="50544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Средиземное мо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3120" y="38354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Малая Аз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34000" y="24638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Черное мо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5320" y="543564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Афр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840" y="284472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Испа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3044400">
              <a:off x="2890080" y="26733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Итал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29040" y="39416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о. Сицил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96120" y="485604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о. Кип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153120" y="1655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Оль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24720" y="13208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Тана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01040" y="18828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Пантикап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76600" y="56642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Кир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13320" y="3254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Неап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62000" y="234144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Массал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6240" y="42926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Сираку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640" y="304920"/>
            <a:ext cx="828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НАПРАВЛЕНИЯ   КОЛОНИЗАЦИ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sp>
        <p:nvSpPr>
          <p:cNvPr id="202" name=""/>
          <p:cNvSpPr/>
          <p:nvPr/>
        </p:nvSpPr>
        <p:spPr>
          <a:xfrm>
            <a:off x="7219800" y="238752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01040" y="2082960"/>
            <a:ext cx="7596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187488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91200" y="58928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62400" y="56642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38320" y="2540160"/>
            <a:ext cx="7632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7440" y="292104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91000" y="334008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90800" y="45212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95520" y="261612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81920" y="15494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48000" y="36068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01040" y="307332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1800" y="3911760"/>
            <a:ext cx="7632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09920" y="429264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4221000"/>
            <a:ext cx="7632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8244800">
            <a:off x="5329080" y="2744280"/>
            <a:ext cx="2950920" cy="1008000"/>
          </a:xfrm>
          <a:custGeom>
            <a:avLst/>
            <a:gdLst>
              <a:gd name="textAreaLeft" fmla="*/ 0 w 2950920"/>
              <a:gd name="textAreaRight" fmla="*/ 2951280 w 29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3110921"/>
                <a:lnTo>
                  <a:pt x="2837" y="3504"/>
                </a:lnTo>
                <a:arcTo wR="10800" hR="10800" stAng="-8250284" swAng="3110921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4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9084200">
            <a:off x="5003640" y="3141360"/>
            <a:ext cx="3851280" cy="107928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077700"/>
                <a:lnTo>
                  <a:pt x="5354" y="1474"/>
                </a:lnTo>
                <a:arcTo wR="10800" hR="10800" stAng="-7217063" swAng="2077700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33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1136000">
            <a:off x="3058920" y="3789000"/>
            <a:ext cx="2950920" cy="1008000"/>
          </a:xfrm>
          <a:custGeom>
            <a:avLst/>
            <a:gdLst>
              <a:gd name="textAreaLeft" fmla="*/ 0 w 2950920"/>
              <a:gd name="textAreaRight" fmla="*/ 2951280 w 29509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215081"/>
                <a:lnTo>
                  <a:pt x="4985" y="1699"/>
                </a:lnTo>
                <a:arcTo wR="10800" hR="10800" stAng="-7354444" swAng="2215081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21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434200">
            <a:off x="4716360" y="5229360"/>
            <a:ext cx="2951280" cy="100800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1951747"/>
                <a:lnTo>
                  <a:pt x="5699" y="1281"/>
                </a:lnTo>
                <a:arcTo wR="10800" hR="10800" stAng="-7091110" swAng="1951747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83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2663600">
            <a:off x="1370160" y="2594880"/>
            <a:ext cx="6264000" cy="1800360"/>
          </a:xfrm>
          <a:custGeom>
            <a:avLst/>
            <a:gdLst>
              <a:gd name="textAreaLeft" fmla="*/ 0 w 6264000"/>
              <a:gd name="textAreaRight" fmla="*/ 6264360 w 6264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7729" y="17438"/>
                </a:moveTo>
                <a:arcTo wR="-7314" hR="-7314" stAng="6889429" swAng="-3089941"/>
                <a:lnTo>
                  <a:pt x="5952" y="1149"/>
                </a:lnTo>
                <a:arcTo wR="10800" hR="10800" stAng="-7000512" swAng="3089941"/>
                <a:lnTo>
                  <a:pt x="16468" y="-1453"/>
                </a:lnTo>
                <a:lnTo>
                  <a:pt x="18635" y="4445"/>
                </a:lnTo>
                <a:lnTo>
                  <a:pt x="12737" y="6612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9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7713600">
            <a:off x="4355640" y="4581360"/>
            <a:ext cx="1297080" cy="1008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600333"/>
                <a:lnTo>
                  <a:pt x="4004" y="2406"/>
                </a:lnTo>
                <a:arcTo wR="10800" hR="10800" stAng="-7739696" swAng="2600333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30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0120" y="3835440"/>
            <a:ext cx="1523880" cy="1295280"/>
          </a:xfrm>
          <a:prstGeom prst="ellipse">
            <a:avLst/>
          </a:prstGeom>
          <a:gradFill rotWithShape="0">
            <a:gsLst>
              <a:gs pos="0">
                <a:srgbClr val="bbe0e3">
                  <a:alpha val="29019"/>
                </a:srgbClr>
              </a:gs>
              <a:gs pos="100000">
                <a:srgbClr val="da2a00">
                  <a:alpha val="84313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1136000">
            <a:off x="1041120" y="3075120"/>
            <a:ext cx="3168720" cy="100800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3200092"/>
                <a:lnTo>
                  <a:pt x="2650" y="3713"/>
                </a:lnTo>
                <a:arcTo wR="10800" hR="10800" stAng="-8339455" swAng="3200092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21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308200">
            <a:off x="4211280" y="3501360"/>
            <a:ext cx="1368360" cy="1079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4911" y="17958"/>
                </a:moveTo>
                <a:arcTo wR="-9269" hR="-9269" stAng="7766680" swAng="-1604130"/>
                <a:lnTo>
                  <a:pt x="13176" y="265"/>
                </a:lnTo>
                <a:arcTo wR="10800" hR="10800" stAng="-4637450" swAng="1604130"/>
                <a:lnTo>
                  <a:pt x="19377" y="375"/>
                </a:lnTo>
                <a:lnTo>
                  <a:pt x="19851" y="5253"/>
                </a:lnTo>
                <a:lnTo>
                  <a:pt x="14974" y="5727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180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2a00"/>
                </a:solidFill>
                <a:latin typeface="Arial"/>
              </a:rPr>
              <a:t>ГРЕ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3213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Визан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14840" y="3454560"/>
            <a:ext cx="7596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3357720"/>
            <a:ext cx="76320" cy="7596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6375240"/>
            <a:ext cx="75960" cy="76320"/>
          </a:xfrm>
          <a:prstGeom prst="ellipse">
            <a:avLst/>
          </a:prstGeom>
          <a:solidFill>
            <a:srgbClr val="da2a00"/>
          </a:solidFill>
          <a:ln w="9360">
            <a:solidFill>
              <a:srgbClr val="da2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1447400">
            <a:off x="4284360" y="5653800"/>
            <a:ext cx="1224000" cy="863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10259" y="17921"/>
                </a:moveTo>
                <a:arcTo wR="-7142" hR="-7142" stAng="5660637" swAng="-2600333"/>
                <a:lnTo>
                  <a:pt x="4004" y="2406"/>
                </a:lnTo>
                <a:arcTo wR="10800" hR="10800" stAng="-7739696" swAng="2600333"/>
                <a:lnTo>
                  <a:pt x="11823" y="-2661"/>
                </a:lnTo>
                <a:lnTo>
                  <a:pt x="15995" y="2198"/>
                </a:lnTo>
                <a:lnTo>
                  <a:pt x="11136" y="6371"/>
                </a:lnTo>
                <a:close/>
              </a:path>
            </a:pathLst>
          </a:custGeom>
          <a:gradFill rotWithShape="0">
            <a:gsLst>
              <a:gs pos="0">
                <a:srgbClr val="e24620">
                  <a:alpha val="70196"/>
                </a:srgbClr>
              </a:gs>
              <a:gs pos="100000">
                <a:srgbClr val="ff4f25">
                  <a:alpha val="70196"/>
                </a:srgbClr>
              </a:gs>
            </a:gsLst>
            <a:lin ang="209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6230880"/>
            <a:ext cx="24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6"/>
                </a:solidFill>
                <a:latin typeface="Arial Narrow"/>
              </a:rPr>
              <a:t>Греческая коло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19640" y="62308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6"/>
                </a:solidFill>
                <a:latin typeface="Arial Narrow"/>
              </a:rPr>
              <a:t>Направление коло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60360" y="6021360"/>
            <a:ext cx="8459640" cy="144360"/>
            <a:chOff x="360360" y="6021360"/>
            <a:chExt cx="8459640" cy="14436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8100720" y="6021360"/>
              <a:ext cx="179640" cy="14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360360" y="6021360"/>
              <a:ext cx="8459640" cy="144360"/>
              <a:chOff x="360360" y="6021360"/>
              <a:chExt cx="8459640" cy="144360"/>
            </a:xfrm>
          </p:grpSpPr>
          <p:pic>
            <p:nvPicPr>
              <p:cNvPr id="2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21080" y="6021360"/>
                <a:ext cx="17928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41800" y="6021360"/>
                <a:ext cx="179280" cy="14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0" name=""/>
              <p:cNvGrpSpPr/>
              <p:nvPr/>
            </p:nvGrpSpPr>
            <p:grpSpPr>
              <a:xfrm>
                <a:off x="360360" y="6021360"/>
                <a:ext cx="8459640" cy="144360"/>
                <a:chOff x="360360" y="6021360"/>
                <a:chExt cx="8459640" cy="144360"/>
              </a:xfrm>
            </p:grpSpPr>
            <p:grpSp>
              <p:nvGrpSpPr>
                <p:cNvPr id="241" name=""/>
                <p:cNvGrpSpPr/>
                <p:nvPr/>
              </p:nvGrpSpPr>
              <p:grpSpPr>
                <a:xfrm>
                  <a:off x="360360" y="6021360"/>
                  <a:ext cx="3779640" cy="144360"/>
                  <a:chOff x="360360" y="6021360"/>
                  <a:chExt cx="3779640" cy="144360"/>
                </a:xfrm>
              </p:grpSpPr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360360" y="6021360"/>
                    <a:ext cx="1439280" cy="144360"/>
                    <a:chOff x="360360" y="6021360"/>
                    <a:chExt cx="1439280" cy="144360"/>
                  </a:xfrm>
                </p:grpSpPr>
                <p:pic>
                  <p:nvPicPr>
                    <p:cNvPr id="2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036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6036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0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6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08036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2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44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0000" y="6021360"/>
                    <a:ext cx="1792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79640" y="6021360"/>
                    <a:ext cx="1810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1080" y="6021360"/>
                    <a:ext cx="1792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60720" y="6021360"/>
                    <a:ext cx="1792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00360" y="6021360"/>
                    <a:ext cx="1810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1800000" y="6021360"/>
                    <a:ext cx="1439640" cy="144360"/>
                    <a:chOff x="1800000" y="6021360"/>
                    <a:chExt cx="1439640" cy="144360"/>
                  </a:xfrm>
                </p:grpSpPr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98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0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34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15964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70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3060000" y="6021360"/>
                      <a:ext cx="17964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880000" y="6021360"/>
                      <a:ext cx="18000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4500360" y="6021360"/>
                  <a:ext cx="1439640" cy="144360"/>
                  <a:chOff x="4500360" y="6021360"/>
                  <a:chExt cx="1439640" cy="144360"/>
                </a:xfrm>
              </p:grpSpPr>
              <p:pic>
                <p:nvPicPr>
                  <p:cNvPr id="26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68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0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04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6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40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2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76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58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74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380000" y="6021360"/>
                  <a:ext cx="17964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920000" y="6021360"/>
                  <a:ext cx="18072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561080" y="6021360"/>
                  <a:ext cx="1792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7740360" y="6021360"/>
                  <a:ext cx="1810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8" name=""/>
                <p:cNvGrpSpPr/>
                <p:nvPr/>
              </p:nvGrpSpPr>
              <p:grpSpPr>
                <a:xfrm>
                  <a:off x="5940360" y="6021360"/>
                  <a:ext cx="1439280" cy="144360"/>
                  <a:chOff x="5940360" y="6021360"/>
                  <a:chExt cx="1439280" cy="144360"/>
                </a:xfrm>
              </p:grpSpPr>
              <p:pic>
                <p:nvPicPr>
                  <p:cNvPr id="279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612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94036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1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648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30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3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684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66036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5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200000" y="6021360"/>
                    <a:ext cx="17964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6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020000" y="6021360"/>
                    <a:ext cx="18000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87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8280360" y="6021360"/>
                  <a:ext cx="1792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8461080" y="6021360"/>
                  <a:ext cx="17964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640720" y="6021360"/>
                  <a:ext cx="179280" cy="14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90" name=""/>
          <p:cNvSpPr/>
          <p:nvPr/>
        </p:nvSpPr>
        <p:spPr>
          <a:xfrm>
            <a:off x="7236000" y="22766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Georgia"/>
                <a:ea typeface="Arial"/>
              </a:rPr>
              <a:t>Херсон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54560" y="33336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территории, колонизированные гре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4378320"/>
            <a:ext cx="88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греки основывали свои колонии на побережье Средиземного и Черного мор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36720" y="5850360"/>
            <a:ext cx="7596000" cy="45972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Греки расселись вокруг моря, как лягушки среди бо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653160" y="404640"/>
            <a:ext cx="439920" cy="25560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6232680" y="1311120"/>
            <a:ext cx="2803320" cy="177480"/>
            <a:chOff x="6232680" y="1311120"/>
            <a:chExt cx="2803320" cy="177480"/>
          </a:xfrm>
        </p:grpSpPr>
        <p:grpSp>
          <p:nvGrpSpPr>
            <p:cNvPr id="296" name=""/>
            <p:cNvGrpSpPr/>
            <p:nvPr/>
          </p:nvGrpSpPr>
          <p:grpSpPr>
            <a:xfrm>
              <a:off x="6232680" y="1311120"/>
              <a:ext cx="1401480" cy="177480"/>
              <a:chOff x="6232680" y="1311120"/>
              <a:chExt cx="1401480" cy="177480"/>
            </a:xfrm>
          </p:grpSpPr>
          <p:pic>
            <p:nvPicPr>
              <p:cNvPr id="2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80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5828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296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0856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336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4592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83880" y="1311120"/>
                <a:ext cx="175320" cy="177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5" name=""/>
            <p:cNvGrpSpPr/>
            <p:nvPr/>
          </p:nvGrpSpPr>
          <p:grpSpPr>
            <a:xfrm>
              <a:off x="7634520" y="1311120"/>
              <a:ext cx="1401480" cy="177480"/>
              <a:chOff x="7634520" y="1311120"/>
              <a:chExt cx="1401480" cy="177480"/>
            </a:xfrm>
          </p:grpSpPr>
          <p:pic>
            <p:nvPicPr>
              <p:cNvPr id="30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0948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3452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816012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9848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1040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33544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886104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685720" y="1311120"/>
                <a:ext cx="174960" cy="177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4" name=""/>
          <p:cNvSpPr/>
          <p:nvPr/>
        </p:nvSpPr>
        <p:spPr>
          <a:xfrm>
            <a:off x="7524720" y="6243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Сок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36520" y="5497560"/>
            <a:ext cx="8706240" cy="163440"/>
            <a:chOff x="236520" y="5497560"/>
            <a:chExt cx="8706240" cy="163440"/>
          </a:xfrm>
        </p:grpSpPr>
        <p:pic>
          <p:nvPicPr>
            <p:cNvPr id="316" name="" descr=""/>
            <p:cNvPicPr/>
            <p:nvPr/>
          </p:nvPicPr>
          <p:blipFill>
            <a:blip r:embed="rId19"/>
            <a:stretch/>
          </p:blipFill>
          <p:spPr>
            <a:xfrm>
              <a:off x="8203320" y="5497560"/>
              <a:ext cx="184680" cy="1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"/>
            <p:cNvGrpSpPr/>
            <p:nvPr/>
          </p:nvGrpSpPr>
          <p:grpSpPr>
            <a:xfrm>
              <a:off x="236520" y="5497560"/>
              <a:ext cx="8706240" cy="163440"/>
              <a:chOff x="236520" y="5497560"/>
              <a:chExt cx="8706240" cy="163440"/>
            </a:xfrm>
          </p:grpSpPr>
          <p:pic>
            <p:nvPicPr>
              <p:cNvPr id="31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312800" y="5497560"/>
                <a:ext cx="184320" cy="16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128480" y="5497560"/>
                <a:ext cx="184320" cy="163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0" name=""/>
              <p:cNvGrpSpPr/>
              <p:nvPr/>
            </p:nvGrpSpPr>
            <p:grpSpPr>
              <a:xfrm>
                <a:off x="236520" y="5497560"/>
                <a:ext cx="8706240" cy="163440"/>
                <a:chOff x="236520" y="5497560"/>
                <a:chExt cx="8706240" cy="16344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236520" y="5497560"/>
                  <a:ext cx="3889440" cy="163440"/>
                  <a:chOff x="236520" y="5497560"/>
                  <a:chExt cx="3889440" cy="16344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36520" y="5497560"/>
                    <a:ext cx="1481400" cy="163440"/>
                    <a:chOff x="236520" y="5497560"/>
                    <a:chExt cx="1481400" cy="163440"/>
                  </a:xfrm>
                </p:grpSpPr>
                <p:pic>
                  <p:nvPicPr>
                    <p:cNvPr id="32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2156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4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3652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920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066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1624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9774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53288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134748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33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00040" y="5497560"/>
                    <a:ext cx="1843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3755160" y="5497560"/>
                    <a:ext cx="1861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497560"/>
                    <a:ext cx="1843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4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941640" y="5497560"/>
                    <a:ext cx="1843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570840" y="5497560"/>
                    <a:ext cx="18612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1717920" y="5497560"/>
                    <a:ext cx="1481760" cy="163440"/>
                    <a:chOff x="1717920" y="5497560"/>
                    <a:chExt cx="1481760" cy="163440"/>
                  </a:xfrm>
                </p:grpSpPr>
                <p:pic>
                  <p:nvPicPr>
                    <p:cNvPr id="337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190296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8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171792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9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22734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0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0880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1" name="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26438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2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45880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30146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4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2829240" y="5497560"/>
                      <a:ext cx="185040" cy="16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4497120" y="5497560"/>
                  <a:ext cx="1481760" cy="163440"/>
                  <a:chOff x="4497120" y="5497560"/>
                  <a:chExt cx="1481760" cy="163440"/>
                </a:xfrm>
              </p:grpSpPr>
              <p:pic>
                <p:nvPicPr>
                  <p:cNvPr id="346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468216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4971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8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50526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8672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0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54230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52380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2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57938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6084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54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461000" y="5497560"/>
                  <a:ext cx="18468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8016480" y="5497560"/>
                  <a:ext cx="1857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647120" y="5497560"/>
                  <a:ext cx="1843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831800" y="5497560"/>
                  <a:ext cx="1861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8" name=""/>
                <p:cNvGrpSpPr/>
                <p:nvPr/>
              </p:nvGrpSpPr>
              <p:grpSpPr>
                <a:xfrm>
                  <a:off x="5979240" y="5497560"/>
                  <a:ext cx="1481400" cy="163440"/>
                  <a:chOff x="5979240" y="5497560"/>
                  <a:chExt cx="1481400" cy="163440"/>
                </a:xfrm>
              </p:grpSpPr>
              <p:pic>
                <p:nvPicPr>
                  <p:cNvPr id="359" name="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616428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924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1" name="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65347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3493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3" name="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690516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72012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5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72756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6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090200" y="5497560"/>
                    <a:ext cx="185040" cy="1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67" name="" descr="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8387640" y="5497560"/>
                  <a:ext cx="1843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8573400" y="5497560"/>
                  <a:ext cx="18468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758440" y="5497560"/>
                  <a:ext cx="18432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70" name="" descr=""/>
          <p:cNvPicPr/>
          <p:nvPr/>
        </p:nvPicPr>
        <p:blipFill>
          <a:blip r:embed="rId66"/>
          <a:stretch/>
        </p:blipFill>
        <p:spPr>
          <a:xfrm>
            <a:off x="179280" y="260280"/>
            <a:ext cx="5977080" cy="3570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2411280" y="39085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6"/>
                </a:solidFill>
                <a:latin typeface="Arial Narrow"/>
              </a:rPr>
              <a:t>Исследовав карту, мы выяснили, ч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67"/>
          <a:stretch/>
        </p:blipFill>
        <p:spPr>
          <a:xfrm>
            <a:off x="6443640" y="1916280"/>
            <a:ext cx="2376360" cy="168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2349360"/>
            <a:ext cx="1512720" cy="223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51" y="736"/>
                  <a:pt x="4102" y="5080"/>
                  <a:pt x="4102" y="10800"/>
                </a:cubicBezTo>
                <a:cubicBezTo>
                  <a:pt x="4102" y="16520"/>
                  <a:pt x="12851" y="2086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e3">
                  <a:alpha val="83137"/>
                </a:srgbClr>
              </a:gs>
              <a:gs pos="50000">
                <a:srgbClr val="a3cdf3">
                  <a:alpha val="83137"/>
                </a:srgbClr>
              </a:gs>
              <a:gs pos="100000">
                <a:srgbClr val="ffffe3">
                  <a:alpha val="8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1080" y="5992920"/>
            <a:ext cx="6940080" cy="172800"/>
            <a:chOff x="181080" y="5992920"/>
            <a:chExt cx="6940080" cy="17280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tretch/>
          </p:blipFill>
          <p:spPr>
            <a:xfrm>
              <a:off x="6531120" y="5992920"/>
              <a:ext cx="147240" cy="17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181080" y="5992920"/>
              <a:ext cx="6940080" cy="172800"/>
              <a:chOff x="181080" y="5992920"/>
              <a:chExt cx="6940080" cy="172800"/>
            </a:xfrm>
          </p:grpSpPr>
          <p:pic>
            <p:nvPicPr>
              <p:cNvPr id="3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430440" y="599292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83200" y="599292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9" name=""/>
              <p:cNvGrpSpPr/>
              <p:nvPr/>
            </p:nvGrpSpPr>
            <p:grpSpPr>
              <a:xfrm>
                <a:off x="181080" y="5992920"/>
                <a:ext cx="6940080" cy="172800"/>
                <a:chOff x="181080" y="5992920"/>
                <a:chExt cx="6940080" cy="17280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181080" y="5992920"/>
                  <a:ext cx="3100320" cy="172800"/>
                  <a:chOff x="181080" y="5992920"/>
                  <a:chExt cx="3100320" cy="17280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181080" y="5992920"/>
                    <a:ext cx="1180440" cy="172800"/>
                    <a:chOff x="181080" y="5992920"/>
                    <a:chExt cx="1180440" cy="172800"/>
                  </a:xfrm>
                </p:grpSpPr>
                <p:pic>
                  <p:nvPicPr>
                    <p:cNvPr id="3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86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10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38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62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190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14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142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666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3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43400" y="59929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85840" y="599292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91720" y="59929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34520" y="59929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9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38960" y="599292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1361880" y="5992920"/>
                    <a:ext cx="1180800" cy="172800"/>
                    <a:chOff x="1361880" y="5992920"/>
                    <a:chExt cx="1180800" cy="172800"/>
                  </a:xfrm>
                </p:grpSpPr>
                <p:pic>
                  <p:nvPicPr>
                    <p:cNvPr id="39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0948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3618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046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6570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09988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95264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395440" y="59929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247840" y="5992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3577320" y="5992920"/>
                  <a:ext cx="1180800" cy="172800"/>
                  <a:chOff x="3577320" y="5992920"/>
                  <a:chExt cx="1180800" cy="172800"/>
                </a:xfrm>
              </p:grpSpPr>
              <p:pic>
                <p:nvPicPr>
                  <p:cNvPr id="40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2492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5773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0201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8725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1532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16808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61088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46328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13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940000" y="599292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383160" y="5992920"/>
                  <a:ext cx="14796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088680" y="599292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6235560" y="5992920"/>
                  <a:ext cx="14832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17" name=""/>
                <p:cNvGrpSpPr/>
                <p:nvPr/>
              </p:nvGrpSpPr>
              <p:grpSpPr>
                <a:xfrm>
                  <a:off x="4758840" y="5992920"/>
                  <a:ext cx="1180440" cy="172800"/>
                  <a:chOff x="4758840" y="5992920"/>
                  <a:chExt cx="1180440" cy="172800"/>
                </a:xfrm>
              </p:grpSpPr>
              <p:pic>
                <p:nvPicPr>
                  <p:cNvPr id="41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90644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7588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2016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1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50540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4968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3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534924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792040" y="599292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5644440" y="599292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26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6678720" y="599292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6827040" y="599292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6974280" y="599292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429" name="" descr=""/>
          <p:cNvPicPr/>
          <p:nvPr/>
        </p:nvPicPr>
        <p:blipFill>
          <a:blip r:embed="rId49"/>
          <a:stretch/>
        </p:blipFill>
        <p:spPr>
          <a:xfrm>
            <a:off x="1611360" y="1989000"/>
            <a:ext cx="7281720" cy="2767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533520" y="304920"/>
            <a:ext cx="5910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ГРЕЧЕСКАЯ КОЛОНИЯ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9558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Изучив источник  и  рассмотрев иллюстрацию, мы поняли, чт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24000" y="1484280"/>
            <a:ext cx="3527280" cy="1584360"/>
            <a:chOff x="324000" y="1484280"/>
            <a:chExt cx="3527280" cy="1584360"/>
          </a:xfrm>
        </p:grpSpPr>
        <p:sp>
          <p:nvSpPr>
            <p:cNvPr id="433" name=""/>
            <p:cNvSpPr/>
            <p:nvPr/>
          </p:nvSpPr>
          <p:spPr>
            <a:xfrm>
              <a:off x="324000" y="1484280"/>
              <a:ext cx="352728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880" y="1628640"/>
              <a:ext cx="3391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греки создавали свои поселения на свободных землях, на берегу моря с удобной бухто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4000" y="4076640"/>
            <a:ext cx="3671640" cy="1584360"/>
            <a:chOff x="324000" y="4076640"/>
            <a:chExt cx="3671640" cy="1584360"/>
          </a:xfrm>
        </p:grpSpPr>
        <p:sp>
          <p:nvSpPr>
            <p:cNvPr id="436" name=""/>
            <p:cNvSpPr/>
            <p:nvPr/>
          </p:nvSpPr>
          <p:spPr>
            <a:xfrm>
              <a:off x="324000" y="4076640"/>
              <a:ext cx="367164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080" y="4233960"/>
              <a:ext cx="3534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6"/>
                  </a:solidFill>
                  <a:latin typeface="Arial Narrow"/>
                </a:rPr>
                <a:t>греки укрепляли свои поселения крепостными стенами, опасаясь внешних враго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" descr=""/>
          <p:cNvPicPr/>
          <p:nvPr/>
        </p:nvPicPr>
        <p:blipFill>
          <a:blip r:embed="rId50">
            <a:lum bright="-6000"/>
          </a:blip>
          <a:stretch/>
        </p:blipFill>
        <p:spPr>
          <a:xfrm>
            <a:off x="5364000" y="4130640"/>
            <a:ext cx="3780000" cy="2727360"/>
          </a:xfrm>
          <a:prstGeom prst="rect">
            <a:avLst/>
          </a:prstGeom>
          <a:ln w="0">
            <a:noFill/>
          </a:ln>
          <a:effectLst>
            <a:outerShdw dist="28496" dir="17774481" blurRad="0" rotWithShape="0">
              <a:srgbClr val="afc2ff"/>
            </a:outerShdw>
          </a:effectLst>
        </p:spPr>
      </p:pic>
      <p:sp>
        <p:nvSpPr>
          <p:cNvPr id="439" name=""/>
          <p:cNvSpPr/>
          <p:nvPr/>
        </p:nvSpPr>
        <p:spPr>
          <a:xfrm>
            <a:off x="1763640" y="6308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Narrow"/>
              </a:rPr>
              <a:t>Храм Геры на о.Сиц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8720280" y="-27000"/>
            <a:ext cx="172800" cy="6940080"/>
            <a:chOff x="8720280" y="-27000"/>
            <a:chExt cx="172800" cy="6940080"/>
          </a:xfrm>
        </p:grpSpPr>
        <p:pic>
          <p:nvPicPr>
            <p:cNvPr id="44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8732880" y="6310080"/>
              <a:ext cx="147240" cy="17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8720280" y="-27000"/>
              <a:ext cx="172800" cy="6940080"/>
              <a:chOff x="8720280" y="-27000"/>
              <a:chExt cx="172800" cy="6940080"/>
            </a:xfrm>
          </p:grpSpPr>
          <p:pic>
            <p:nvPicPr>
              <p:cNvPr id="443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8733240" y="320940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8733240" y="306216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5" name=""/>
              <p:cNvGrpSpPr/>
              <p:nvPr/>
            </p:nvGrpSpPr>
            <p:grpSpPr>
              <a:xfrm>
                <a:off x="8720280" y="-27000"/>
                <a:ext cx="172800" cy="6940080"/>
                <a:chOff x="8720280" y="-27000"/>
                <a:chExt cx="172800" cy="694008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8720280" y="-27000"/>
                  <a:ext cx="172800" cy="3100320"/>
                  <a:chOff x="8720280" y="-27000"/>
                  <a:chExt cx="172800" cy="3100320"/>
                </a:xfrm>
              </p:grpSpPr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8720280" y="-27000"/>
                    <a:ext cx="172800" cy="1180440"/>
                    <a:chOff x="8720280" y="-27000"/>
                    <a:chExt cx="172800" cy="1180440"/>
                  </a:xfrm>
                </p:grpSpPr>
                <p:pic>
                  <p:nvPicPr>
                    <p:cNvPr id="4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5400000">
                      <a:off x="8732880" y="1076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5400000">
                      <a:off x="8732880" y="-396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 rot="5400000">
                      <a:off x="8732880" y="4032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5400000">
                      <a:off x="8732880" y="2556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5400000">
                      <a:off x="8732880" y="6984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5400000">
                      <a:off x="8732880" y="5504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 rot="5400000">
                      <a:off x="8732880" y="9932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 rot="5400000">
                      <a:off x="8732880" y="8460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45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rot="5400000">
                    <a:off x="8733240" y="232236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5400000">
                    <a:off x="8732520" y="276552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5400000">
                    <a:off x="8733240" y="247068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 rot="5400000">
                    <a:off x="8733240" y="291348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5400000">
                    <a:off x="8732520" y="261864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8720280" y="1153800"/>
                    <a:ext cx="172800" cy="1180800"/>
                    <a:chOff x="8720280" y="1153800"/>
                    <a:chExt cx="172800" cy="1180800"/>
                  </a:xfrm>
                </p:grpSpPr>
                <p:pic>
                  <p:nvPicPr>
                    <p:cNvPr id="46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 rot="5400000">
                      <a:off x="8732880" y="128844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 rot="5400000">
                      <a:off x="8732880" y="11412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 rot="5400000">
                      <a:off x="8732880" y="15840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 rot="5400000">
                      <a:off x="8732880" y="14364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 rot="5400000">
                      <a:off x="8732880" y="18792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7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 rot="5400000">
                      <a:off x="8732880" y="17316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 rot="5400000">
                      <a:off x="8732880" y="21744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69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 rot="5400000">
                      <a:off x="8732880" y="20271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8720280" y="3369240"/>
                  <a:ext cx="172800" cy="1180800"/>
                  <a:chOff x="8720280" y="3369240"/>
                  <a:chExt cx="172800" cy="1180800"/>
                </a:xfrm>
              </p:grpSpPr>
              <p:pic>
                <p:nvPicPr>
                  <p:cNvPr id="4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5400000">
                    <a:off x="8732880" y="350388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5400000">
                    <a:off x="8732880" y="3356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5400000">
                    <a:off x="8732880" y="37994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5400000">
                    <a:off x="8732880" y="36518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5400000">
                    <a:off x="8732880" y="4094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5400000">
                    <a:off x="8732880" y="39470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 rot="5400000">
                    <a:off x="8732880" y="43898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5400000">
                    <a:off x="8732880" y="424260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79" name="" descr=""/>
                <p:cNvPicPr/>
                <p:nvPr/>
              </p:nvPicPr>
              <p:blipFill>
                <a:blip r:embed="rId34"/>
                <a:stretch/>
              </p:blipFill>
              <p:spPr>
                <a:xfrm rot="5400000">
                  <a:off x="8732880" y="571896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35"/>
                <a:stretch/>
              </p:blipFill>
              <p:spPr>
                <a:xfrm rot="5400000">
                  <a:off x="8732520" y="6162480"/>
                  <a:ext cx="14796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36"/>
                <a:stretch/>
              </p:blipFill>
              <p:spPr>
                <a:xfrm rot="5400000">
                  <a:off x="8733240" y="58676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37"/>
                <a:stretch/>
              </p:blipFill>
              <p:spPr>
                <a:xfrm rot="5400000">
                  <a:off x="8732520" y="6015240"/>
                  <a:ext cx="14832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83" name=""/>
                <p:cNvGrpSpPr/>
                <p:nvPr/>
              </p:nvGrpSpPr>
              <p:grpSpPr>
                <a:xfrm>
                  <a:off x="8720280" y="4550760"/>
                  <a:ext cx="172800" cy="1180440"/>
                  <a:chOff x="8720280" y="4550760"/>
                  <a:chExt cx="172800" cy="1180440"/>
                </a:xfrm>
              </p:grpSpPr>
              <p:pic>
                <p:nvPicPr>
                  <p:cNvPr id="48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 rot="5400000">
                    <a:off x="8732880" y="46854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5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 rot="5400000">
                    <a:off x="8732880" y="4538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 rot="5400000">
                    <a:off x="8732880" y="49809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 rot="5400000">
                    <a:off x="8732880" y="48333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 rot="5400000">
                    <a:off x="8732880" y="5276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9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 rot="5400000">
                    <a:off x="8732880" y="51282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 rot="5400000">
                    <a:off x="8732880" y="55710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91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 rot="5400000">
                    <a:off x="8732880" y="54237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92" name="" descr=""/>
                <p:cNvPicPr/>
                <p:nvPr/>
              </p:nvPicPr>
              <p:blipFill>
                <a:blip r:embed="rId46"/>
                <a:stretch/>
              </p:blipFill>
              <p:spPr>
                <a:xfrm rot="5400000">
                  <a:off x="8733240" y="645768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47"/>
                <a:stretch/>
              </p:blipFill>
              <p:spPr>
                <a:xfrm rot="5400000">
                  <a:off x="8732880" y="660600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48"/>
                <a:stretch/>
              </p:blipFill>
              <p:spPr>
                <a:xfrm rot="5400000">
                  <a:off x="8733240" y="67532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495" name=""/>
          <p:cNvSpPr/>
          <p:nvPr/>
        </p:nvSpPr>
        <p:spPr>
          <a:xfrm>
            <a:off x="5064120" y="3328920"/>
            <a:ext cx="3513240" cy="266400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e3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48360" y="1917720"/>
            <a:ext cx="3311280" cy="720720"/>
            <a:chOff x="5148360" y="1917720"/>
            <a:chExt cx="3311280" cy="720720"/>
          </a:xfrm>
        </p:grpSpPr>
        <p:sp>
          <p:nvSpPr>
            <p:cNvPr id="497" name=""/>
            <p:cNvSpPr/>
            <p:nvPr/>
          </p:nvSpPr>
          <p:spPr>
            <a:xfrm>
              <a:off x="5148360" y="1917720"/>
              <a:ext cx="331128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22560" y="204840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в колон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 rot="438000">
            <a:off x="3779640" y="1557000"/>
            <a:ext cx="1873080" cy="595440"/>
          </a:xfrm>
          <a:custGeom>
            <a:avLst/>
            <a:gdLst>
              <a:gd name="textAreaLeft" fmla="*/ 363960 w 1873080"/>
              <a:gd name="textAreaRight" fmla="*/ 1255320 w 187308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99" hR="21600" stAng="10800000" swAng="5400000"/>
                <a:lnTo>
                  <a:pt x="10278" y="0"/>
                </a:lnTo>
                <a:arcTo wR="8399" hR="21600" stAng="-5400000" swAng="2125740"/>
                <a:lnTo>
                  <a:pt x="20571" y="11241"/>
                </a:lnTo>
                <a:lnTo>
                  <a:pt x="17737" y="21600"/>
                </a:lnTo>
                <a:lnTo>
                  <a:pt x="12844" y="11241"/>
                </a:lnTo>
                <a:lnTo>
                  <a:pt x="15768" y="11241"/>
                </a:lnTo>
                <a:arcTo wR="8399" hR="21600" stAng="-3274260" swAng="-1975366"/>
                <a:lnTo>
                  <a:pt x="9338" y="136"/>
                </a:lnTo>
                <a:arcTo wR="8399" hR="21600" stAng="-5550375" swAng="-5249625"/>
                <a:close/>
              </a:path>
              <a:path fill="darkenLess" w="21600" h="21600">
                <a:moveTo>
                  <a:pt x="0" y="21600"/>
                </a:moveTo>
                <a:arcTo wR="8399" hR="21600" stAng="10800000" swAng="5400000"/>
                <a:lnTo>
                  <a:pt x="8399" y="0"/>
                </a:lnTo>
                <a:arcTo wR="8399" hR="21600" stAng="-5400000" swAng="150375"/>
                <a:lnTo>
                  <a:pt x="9338" y="136"/>
                </a:lnTo>
                <a:arcTo wR="8399" hR="21600" stAng="-5550375" swAng="-5249625"/>
                <a:close/>
              </a:path>
            </a:pathLst>
          </a:custGeom>
          <a:solidFill>
            <a:srgbClr val="afc2ff"/>
          </a:solidFill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340000" y="279360"/>
            <a:ext cx="626436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РАЗВИТИЕ ТОРГОВЛ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55640" y="1844640"/>
            <a:ext cx="3384720" cy="720720"/>
            <a:chOff x="755640" y="1844640"/>
            <a:chExt cx="3384720" cy="720720"/>
          </a:xfrm>
        </p:grpSpPr>
        <p:sp>
          <p:nvSpPr>
            <p:cNvPr id="502" name=""/>
            <p:cNvSpPr/>
            <p:nvPr/>
          </p:nvSpPr>
          <p:spPr>
            <a:xfrm>
              <a:off x="755640" y="1844640"/>
              <a:ext cx="331164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5640" y="1962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из городов Гре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24000" y="836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Греческие купцы привози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62680" y="2751480"/>
            <a:ext cx="3528720" cy="45972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e3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оливковое масло, в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64120" y="3402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изделия ремес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83400" y="3905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84840" y="4456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ва</a:t>
            </a:r>
            <a:r>
              <a:rPr b="1" lang="ru-RU" sz="2400" spc="-1" strike="noStrike">
                <a:solidFill>
                  <a:srgbClr val="580058"/>
                </a:solidFill>
                <a:latin typeface="Arial Unicode MS"/>
              </a:rPr>
              <a:t>з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56400" y="4986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статуи из мра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83400" y="5489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07040" y="2968560"/>
            <a:ext cx="129960" cy="115920"/>
          </a:xfrm>
          <a:prstGeom prst="ellipse">
            <a:avLst/>
          </a:prstGeom>
          <a:solidFill>
            <a:srgbClr val="42004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21440" y="3575160"/>
            <a:ext cx="129960" cy="115920"/>
          </a:xfrm>
          <a:prstGeom prst="ellipse">
            <a:avLst/>
          </a:prstGeom>
          <a:solidFill>
            <a:srgbClr val="42004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49"/>
          <a:stretch/>
        </p:blipFill>
        <p:spPr>
          <a:xfrm>
            <a:off x="3924360" y="4487760"/>
            <a:ext cx="1438200" cy="22050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5003640" y="6021360"/>
            <a:ext cx="352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80058"/>
                </a:solidFill>
                <a:latin typeface="Arial Narrow"/>
              </a:rPr>
              <a:t>Амфора – </a:t>
            </a: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сосуд для хранения вина или ма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50"/>
          <a:stretch/>
        </p:blipFill>
        <p:spPr>
          <a:xfrm>
            <a:off x="250920" y="2276640"/>
            <a:ext cx="2009520" cy="42922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51">
            <a:lum contrast="6000"/>
          </a:blip>
          <a:stretch/>
        </p:blipFill>
        <p:spPr>
          <a:xfrm>
            <a:off x="1332000" y="4508640"/>
            <a:ext cx="1438200" cy="21650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2"/>
          <a:stretch/>
        </p:blipFill>
        <p:spPr>
          <a:xfrm>
            <a:off x="2195640" y="5229360"/>
            <a:ext cx="1512720" cy="1482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53">
            <a:lum contrast="6000"/>
          </a:blip>
          <a:stretch/>
        </p:blipFill>
        <p:spPr>
          <a:xfrm>
            <a:off x="2916360" y="4292640"/>
            <a:ext cx="720720" cy="7128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54"/>
          <a:stretch/>
        </p:blipFill>
        <p:spPr>
          <a:xfrm rot="1191000">
            <a:off x="2268000" y="3644640"/>
            <a:ext cx="808200" cy="792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124000" y="328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Монеты</a:t>
            </a:r>
            <a:r>
              <a:rPr b="1" lang="en-US" sz="18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из Аф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 flipH="1" rot="21336000">
            <a:off x="3561840" y="2146320"/>
            <a:ext cx="1873440" cy="595440"/>
          </a:xfrm>
          <a:custGeom>
            <a:avLst/>
            <a:gdLst>
              <a:gd name="textAreaLeft" fmla="*/ 364320 w 1873440"/>
              <a:gd name="textAreaRight" fmla="*/ 1256040 w 1873440"/>
              <a:gd name="textAreaTop" fmla="*/ 79560 h 595440"/>
              <a:gd name="textAreaBottom" fmla="*/ 515880 h 595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99" hR="21600" stAng="10800000" swAng="5400000"/>
                <a:lnTo>
                  <a:pt x="10278" y="0"/>
                </a:lnTo>
                <a:arcTo wR="8399" hR="21600" stAng="-5400000" swAng="2125740"/>
                <a:lnTo>
                  <a:pt x="20571" y="11241"/>
                </a:lnTo>
                <a:lnTo>
                  <a:pt x="17737" y="21600"/>
                </a:lnTo>
                <a:lnTo>
                  <a:pt x="12844" y="11241"/>
                </a:lnTo>
                <a:lnTo>
                  <a:pt x="15768" y="11241"/>
                </a:lnTo>
                <a:arcTo wR="8399" hR="21600" stAng="-3274260" swAng="-1975366"/>
                <a:lnTo>
                  <a:pt x="9338" y="136"/>
                </a:lnTo>
                <a:arcTo wR="8399" hR="21600" stAng="-5550375" swAng="-5249625"/>
                <a:close/>
              </a:path>
              <a:path fill="darkenLess" w="21600" h="21600">
                <a:moveTo>
                  <a:pt x="0" y="21600"/>
                </a:moveTo>
                <a:arcTo wR="8399" hR="21600" stAng="10800000" swAng="5400000"/>
                <a:lnTo>
                  <a:pt x="8399" y="0"/>
                </a:lnTo>
                <a:arcTo wR="8399" hR="21600" stAng="-5400000" swAng="150375"/>
                <a:lnTo>
                  <a:pt x="9338" y="136"/>
                </a:lnTo>
                <a:arcTo wR="8399" hR="21600" stAng="-5550375" swAng="-5249625"/>
                <a:close/>
              </a:path>
            </a:pathLst>
          </a:custGeom>
          <a:solidFill>
            <a:srgbClr val="afc2ff"/>
          </a:solidFill>
          <a:ln w="9360">
            <a:solidFill>
              <a:srgbClr val="000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629080" y="228600"/>
            <a:ext cx="626400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РАЗВИТИЕ ТОРГОВЛИ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sp>
        <p:nvSpPr>
          <p:cNvPr id="523" name=""/>
          <p:cNvSpPr/>
          <p:nvPr/>
        </p:nvSpPr>
        <p:spPr>
          <a:xfrm>
            <a:off x="3851280" y="9777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Греческие купцы привози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076720" y="2525760"/>
            <a:ext cx="3311640" cy="720720"/>
            <a:chOff x="5076720" y="2525760"/>
            <a:chExt cx="3311640" cy="720720"/>
          </a:xfrm>
        </p:grpSpPr>
        <p:sp>
          <p:nvSpPr>
            <p:cNvPr id="525" name=""/>
            <p:cNvSpPr/>
            <p:nvPr/>
          </p:nvSpPr>
          <p:spPr>
            <a:xfrm>
              <a:off x="5076720" y="2525760"/>
              <a:ext cx="331164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51280" y="265644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из коло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11280" y="2471760"/>
            <a:ext cx="3384360" cy="720720"/>
            <a:chOff x="611280" y="2471760"/>
            <a:chExt cx="3384360" cy="720720"/>
          </a:xfrm>
        </p:grpSpPr>
        <p:sp>
          <p:nvSpPr>
            <p:cNvPr id="528" name=""/>
            <p:cNvSpPr/>
            <p:nvPr/>
          </p:nvSpPr>
          <p:spPr>
            <a:xfrm>
              <a:off x="611280" y="2471760"/>
              <a:ext cx="3311280" cy="72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8235"/>
                  </a:srgbClr>
                </a:gs>
                <a:gs pos="100000">
                  <a:srgbClr val="ffffe3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1280" y="258948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6"/>
                  </a:solidFill>
                  <a:latin typeface="Arial Narrow"/>
                </a:rPr>
                <a:t>в города Гре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50920" y="0"/>
            <a:ext cx="172800" cy="6940080"/>
            <a:chOff x="250920" y="0"/>
            <a:chExt cx="172800" cy="6940080"/>
          </a:xfrm>
        </p:grpSpPr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 rot="5400000">
              <a:off x="263520" y="6337080"/>
              <a:ext cx="147240" cy="17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"/>
            <p:cNvGrpSpPr/>
            <p:nvPr/>
          </p:nvGrpSpPr>
          <p:grpSpPr>
            <a:xfrm>
              <a:off x="250920" y="0"/>
              <a:ext cx="172800" cy="6940080"/>
              <a:chOff x="250920" y="0"/>
              <a:chExt cx="172800" cy="694008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263880" y="323640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263880" y="3089520"/>
                <a:ext cx="146880" cy="172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250920" y="0"/>
                <a:ext cx="172800" cy="6940080"/>
                <a:chOff x="250920" y="0"/>
                <a:chExt cx="172800" cy="694008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250920" y="0"/>
                  <a:ext cx="172800" cy="3100680"/>
                  <a:chOff x="250920" y="0"/>
                  <a:chExt cx="172800" cy="310068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50920" y="0"/>
                    <a:ext cx="172800" cy="1180800"/>
                    <a:chOff x="250920" y="0"/>
                    <a:chExt cx="172800" cy="1180800"/>
                  </a:xfrm>
                </p:grpSpPr>
                <p:pic>
                  <p:nvPicPr>
                    <p:cNvPr id="5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rot="5400000">
                      <a:off x="263520" y="1350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5400000">
                      <a:off x="263520" y="-1260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 rot="5400000">
                      <a:off x="263520" y="4305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5400000">
                      <a:off x="263520" y="2829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5400000">
                      <a:off x="263520" y="7257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5400000">
                      <a:off x="263520" y="5778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 rot="5400000">
                      <a:off x="263520" y="102060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 rot="5400000">
                      <a:off x="263520" y="8733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54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rot="5400000">
                    <a:off x="263880" y="234972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5400000">
                    <a:off x="263160" y="279288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rot="5400000">
                    <a:off x="263880" y="249804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 rot="5400000">
                    <a:off x="263880" y="2940840"/>
                    <a:ext cx="1468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5400000">
                    <a:off x="263160" y="2646000"/>
                    <a:ext cx="14832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50920" y="1181160"/>
                    <a:ext cx="172800" cy="1181160"/>
                    <a:chOff x="250920" y="1181160"/>
                    <a:chExt cx="172800" cy="1181160"/>
                  </a:xfrm>
                </p:grpSpPr>
                <p:pic>
                  <p:nvPicPr>
                    <p:cNvPr id="55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 rot="5400000">
                      <a:off x="263520" y="131616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 rot="5400000">
                      <a:off x="263520" y="116856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 rot="5400000">
                      <a:off x="263520" y="16117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5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 rot="5400000">
                      <a:off x="263520" y="14641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 rot="5400000">
                      <a:off x="263520" y="190692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7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 rot="5400000">
                      <a:off x="263520" y="175896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 rot="5400000">
                      <a:off x="263520" y="2202120"/>
                      <a:ext cx="14724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59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 rot="5400000">
                      <a:off x="263520" y="2054880"/>
                      <a:ext cx="1476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250920" y="3396240"/>
                  <a:ext cx="172800" cy="1180800"/>
                  <a:chOff x="250920" y="3396240"/>
                  <a:chExt cx="172800" cy="1180800"/>
                </a:xfrm>
              </p:grpSpPr>
              <p:pic>
                <p:nvPicPr>
                  <p:cNvPr id="56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 rot="5400000">
                    <a:off x="263520" y="353088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 rot="5400000">
                    <a:off x="263520" y="3383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 rot="5400000">
                    <a:off x="263520" y="38264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 rot="5400000">
                    <a:off x="263520" y="36788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 rot="5400000">
                    <a:off x="263520" y="412164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5400000">
                    <a:off x="263520" y="39740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 rot="5400000">
                    <a:off x="263520" y="441684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8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5400000">
                    <a:off x="263520" y="426960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569" name="" descr=""/>
                <p:cNvPicPr/>
                <p:nvPr/>
              </p:nvPicPr>
              <p:blipFill>
                <a:blip r:embed="rId34"/>
                <a:stretch/>
              </p:blipFill>
              <p:spPr>
                <a:xfrm rot="5400000">
                  <a:off x="263520" y="574596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35"/>
                <a:stretch/>
              </p:blipFill>
              <p:spPr>
                <a:xfrm rot="5400000">
                  <a:off x="263160" y="6189480"/>
                  <a:ext cx="14796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36"/>
                <a:stretch/>
              </p:blipFill>
              <p:spPr>
                <a:xfrm rot="5400000">
                  <a:off x="263880" y="58946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37"/>
                <a:stretch/>
              </p:blipFill>
              <p:spPr>
                <a:xfrm rot="5400000">
                  <a:off x="263160" y="6042240"/>
                  <a:ext cx="14832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73" name=""/>
                <p:cNvGrpSpPr/>
                <p:nvPr/>
              </p:nvGrpSpPr>
              <p:grpSpPr>
                <a:xfrm>
                  <a:off x="250920" y="4577760"/>
                  <a:ext cx="172800" cy="1180440"/>
                  <a:chOff x="250920" y="4577760"/>
                  <a:chExt cx="172800" cy="1180440"/>
                </a:xfrm>
              </p:grpSpPr>
              <p:pic>
                <p:nvPicPr>
                  <p:cNvPr id="57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 rot="5400000">
                    <a:off x="263520" y="47124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5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 rot="5400000">
                    <a:off x="263520" y="4565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 rot="5400000">
                    <a:off x="263520" y="50079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7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 rot="5400000">
                    <a:off x="263520" y="48603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 rot="5400000">
                    <a:off x="263520" y="53031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9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 rot="5400000">
                    <a:off x="263520" y="51552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 rot="5400000">
                    <a:off x="263520" y="5598000"/>
                    <a:ext cx="1472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1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 rot="5400000">
                    <a:off x="263520" y="5450760"/>
                    <a:ext cx="1476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582" name="" descr=""/>
                <p:cNvPicPr/>
                <p:nvPr/>
              </p:nvPicPr>
              <p:blipFill>
                <a:blip r:embed="rId46"/>
                <a:stretch/>
              </p:blipFill>
              <p:spPr>
                <a:xfrm rot="5400000">
                  <a:off x="263880" y="648468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" descr=""/>
                <p:cNvPicPr/>
                <p:nvPr/>
              </p:nvPicPr>
              <p:blipFill>
                <a:blip r:embed="rId47"/>
                <a:stretch/>
              </p:blipFill>
              <p:spPr>
                <a:xfrm rot="5400000">
                  <a:off x="263520" y="6633000"/>
                  <a:ext cx="1472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4" name="" descr=""/>
                <p:cNvPicPr/>
                <p:nvPr/>
              </p:nvPicPr>
              <p:blipFill>
                <a:blip r:embed="rId48"/>
                <a:stretch/>
              </p:blipFill>
              <p:spPr>
                <a:xfrm rot="5400000">
                  <a:off x="263880" y="6780240"/>
                  <a:ext cx="14688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85" name=""/>
          <p:cNvSpPr/>
          <p:nvPr/>
        </p:nvSpPr>
        <p:spPr>
          <a:xfrm>
            <a:off x="755640" y="3535200"/>
            <a:ext cx="3240000" cy="288000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e3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87280" y="37249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пшени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87280" y="4230720"/>
            <a:ext cx="14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раб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89080" y="4734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ме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87280" y="5238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шкуры живот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49"/>
          <a:stretch/>
        </p:blipFill>
        <p:spPr>
          <a:xfrm>
            <a:off x="0" y="0"/>
            <a:ext cx="2556000" cy="15699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187280" y="5742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800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ск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50"/>
          <a:stretch/>
        </p:blipFill>
        <p:spPr>
          <a:xfrm>
            <a:off x="4643280" y="3246480"/>
            <a:ext cx="2016360" cy="1876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1"/>
          <a:stretch/>
        </p:blipFill>
        <p:spPr>
          <a:xfrm>
            <a:off x="6413400" y="3174840"/>
            <a:ext cx="2695680" cy="36388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5219640" y="5006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из г. Мил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36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Взвешивание сильфия (ценного растения) в г. Кирены (Афри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52"/>
          <a:stretch/>
        </p:blipFill>
        <p:spPr>
          <a:xfrm>
            <a:off x="4284720" y="4924440"/>
            <a:ext cx="1871640" cy="1598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995640" y="45435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67280" y="6094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0058"/>
                </a:solidFill>
                <a:latin typeface="Arial Narrow"/>
              </a:rPr>
              <a:t>с о. Род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492280" cy="32004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3924360" y="216000"/>
            <a:ext cx="4968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6"/>
                </a:solidFill>
                <a:latin typeface="Book Antiqua"/>
              </a:rPr>
              <a:t>ГРЕКИ  И  СКИФЫ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6"/>
              </a:solidFill>
              <a:latin typeface="Book Antiqua"/>
              <a:ea typeface="Book Antiqu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77920" y="476280"/>
            <a:ext cx="3590280" cy="158760"/>
            <a:chOff x="277920" y="476280"/>
            <a:chExt cx="3590280" cy="158760"/>
          </a:xfrm>
        </p:grpSpPr>
        <p:grpSp>
          <p:nvGrpSpPr>
            <p:cNvPr id="602" name=""/>
            <p:cNvGrpSpPr/>
            <p:nvPr/>
          </p:nvGrpSpPr>
          <p:grpSpPr>
            <a:xfrm>
              <a:off x="277920" y="476280"/>
              <a:ext cx="1197000" cy="158760"/>
              <a:chOff x="277920" y="476280"/>
              <a:chExt cx="1197000" cy="158760"/>
            </a:xfrm>
          </p:grpSpPr>
          <p:pic>
            <p:nvPicPr>
              <p:cNvPr id="6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3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9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8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70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260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66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255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757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1" name=""/>
            <p:cNvGrpSpPr/>
            <p:nvPr/>
          </p:nvGrpSpPr>
          <p:grpSpPr>
            <a:xfrm>
              <a:off x="2671560" y="476280"/>
              <a:ext cx="1196640" cy="158760"/>
              <a:chOff x="2671560" y="476280"/>
              <a:chExt cx="1196640" cy="158760"/>
            </a:xfrm>
          </p:grpSpPr>
          <p:pic>
            <p:nvPicPr>
              <p:cNvPr id="61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209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6715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1201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707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192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698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7188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5690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"/>
            <p:cNvGrpSpPr/>
            <p:nvPr/>
          </p:nvGrpSpPr>
          <p:grpSpPr>
            <a:xfrm>
              <a:off x="1474920" y="476280"/>
              <a:ext cx="1196640" cy="158760"/>
              <a:chOff x="1474920" y="476280"/>
              <a:chExt cx="1196640" cy="158760"/>
            </a:xfrm>
          </p:grpSpPr>
          <p:pic>
            <p:nvPicPr>
              <p:cNvPr id="6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6243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47492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234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77408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2226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07324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52216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372400" y="476280"/>
                <a:ext cx="149400" cy="15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9" name=""/>
          <p:cNvSpPr/>
          <p:nvPr/>
        </p:nvSpPr>
        <p:spPr>
          <a:xfrm>
            <a:off x="6443640" y="119700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80058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580058"/>
                </a:solidFill>
                <a:latin typeface="Arial Narrow"/>
              </a:rPr>
              <a:t>Скифский лучник. </a:t>
            </a:r>
            <a:r>
              <a:rPr b="1" lang="ru-RU" sz="1600" spc="-1" strike="noStrike">
                <a:solidFill>
                  <a:srgbClr val="580058"/>
                </a:solidFill>
                <a:latin typeface="Arial Narrow"/>
              </a:rPr>
              <a:t>Изображение на древнегреческой ваз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47640" y="62722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80058"/>
                </a:solidFill>
                <a:latin typeface="Arial Narrow"/>
              </a:rPr>
              <a:t>Золотые вещи из скифских кург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24000" y="1052640"/>
            <a:ext cx="4967280" cy="4935240"/>
            <a:chOff x="324000" y="1052640"/>
            <a:chExt cx="4967280" cy="4935240"/>
          </a:xfrm>
        </p:grpSpPr>
        <p:pic>
          <p:nvPicPr>
            <p:cNvPr id="632" name="" descr=""/>
            <p:cNvPicPr/>
            <p:nvPr/>
          </p:nvPicPr>
          <p:blipFill>
            <a:blip r:embed="rId27"/>
            <a:stretch/>
          </p:blipFill>
          <p:spPr>
            <a:xfrm>
              <a:off x="324000" y="1052640"/>
              <a:ext cx="4967280" cy="4935240"/>
            </a:xfrm>
            <a:prstGeom prst="rect">
              <a:avLst/>
            </a:prstGeom>
            <a:ln w="9360">
              <a:solidFill>
                <a:srgbClr val="000096"/>
              </a:solidFill>
              <a:miter/>
            </a:ln>
          </p:spPr>
        </p:pic>
        <p:sp>
          <p:nvSpPr>
            <p:cNvPr id="633" name=""/>
            <p:cNvSpPr/>
            <p:nvPr/>
          </p:nvSpPr>
          <p:spPr>
            <a:xfrm>
              <a:off x="2195640" y="1844640"/>
              <a:ext cx="12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Georgia"/>
                  <a:ea typeface="Arial"/>
                </a:rPr>
                <a:t>Ольв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46240" y="214308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00360" y="29178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6"/>
                  </a:solidFill>
                  <a:latin typeface="Arial"/>
                </a:rPr>
                <a:t>Черное мо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3389400">
              <a:off x="1164240" y="4916880"/>
              <a:ext cx="18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6"/>
                  </a:solidFill>
                  <a:latin typeface="Arial"/>
                </a:rPr>
                <a:t>Эгейское мор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2556000" y="1557360"/>
              <a:ext cx="2087280" cy="64764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4322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990033"/>
                  </a:solidFill>
                  <a:latin typeface="Arial"/>
                </a:rPr>
                <a:t>скифы</a:t>
              </a:r>
              <a:endParaRPr b="0" lang="en-US" sz="2400" spc="1" strike="noStrike">
                <a:ln w="0">
                  <a:noFill/>
                </a:ln>
                <a:solidFill>
                  <a:srgbClr val="990033"/>
                </a:solidFill>
                <a:latin typeface="Arial"/>
                <a:ea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40000" y="479736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Georgia"/>
                  <a:ea typeface="Arial"/>
                </a:rPr>
                <a:t>Миле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50880" y="493704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57280" y="503856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32000" y="4941720"/>
              <a:ext cx="72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Афины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71640" y="5065560"/>
              <a:ext cx="72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Спарт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33360" y="5222880"/>
              <a:ext cx="76320" cy="76320"/>
            </a:xfrm>
            <a:prstGeom prst="ellipse">
              <a:avLst/>
            </a:prstGeom>
            <a:solidFill>
              <a:srgbClr val="da2a00"/>
            </a:solidFill>
            <a:ln w="936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V="1">
            <a:off x="2411280" y="2204640"/>
            <a:ext cx="576360" cy="2808360"/>
          </a:xfrm>
          <a:prstGeom prst="line">
            <a:avLst/>
          </a:prstGeom>
          <a:ln w="28440">
            <a:solidFill>
              <a:srgbClr val="00009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8"/>
          <a:stretch/>
        </p:blipFill>
        <p:spPr>
          <a:xfrm>
            <a:off x="5364000" y="4869000"/>
            <a:ext cx="1514520" cy="18208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9"/>
          <a:stretch/>
        </p:blipFill>
        <p:spPr>
          <a:xfrm>
            <a:off x="4427640" y="692280"/>
            <a:ext cx="2448000" cy="2008080"/>
          </a:xfrm>
          <a:prstGeom prst="rect">
            <a:avLst/>
          </a:prstGeom>
          <a:ln w="0">
            <a:noFill/>
          </a:ln>
          <a:effectLst>
            <a:outerShdw dist="45929" dir="12828878" blurRad="0" rotWithShape="0">
              <a:srgbClr val="afc2ff"/>
            </a:outerShdw>
          </a:effectLst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1219320" y="457200"/>
            <a:ext cx="655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Book Antiqua"/>
              </a:rPr>
              <a:t>ЧТО  ДАЛА  КОЛОНИЗАЦИЯ  ГРЕКАМ</a:t>
            </a:r>
            <a:endParaRPr b="0" lang="en-US" sz="32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Book Antiqua"/>
              <a:ea typeface="Book Antiqua"/>
            </a:endParaRPr>
          </a:p>
        </p:txBody>
      </p:sp>
      <p:sp>
        <p:nvSpPr>
          <p:cNvPr id="648" name=""/>
          <p:cNvSpPr/>
          <p:nvPr/>
        </p:nvSpPr>
        <p:spPr>
          <a:xfrm>
            <a:off x="539640" y="1842840"/>
            <a:ext cx="8209080" cy="119124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расширила знания древних греков. Они встретились со множеством новых для них народов, узнали об их обычаях, религии и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9640" y="3397320"/>
            <a:ext cx="8209080" cy="82548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способствовала развитию хозяйства и торговли, а также мореплавания. Росли и богатели новые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9640" y="4611600"/>
            <a:ext cx="8209080" cy="1617840"/>
          </a:xfrm>
          <a:prstGeom prst="rect">
            <a:avLst/>
          </a:pr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e3">
                  <a:alpha val="5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заставила греков осознать себя единым народом, отличающимся от других народов. Греки стали называть себя </a:t>
            </a:r>
            <a:r>
              <a:rPr b="1" lang="ru-RU" sz="2800" spc="-1" strike="noStrike">
                <a:solidFill>
                  <a:srgbClr val="990033"/>
                </a:solidFill>
                <a:latin typeface="Arial Narrow"/>
              </a:rPr>
              <a:t>эллинами</a:t>
            </a: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, а свою страну - </a:t>
            </a:r>
            <a:r>
              <a:rPr b="1" lang="ru-RU" sz="2800" spc="-1" strike="noStrike">
                <a:solidFill>
                  <a:srgbClr val="990033"/>
                </a:solidFill>
                <a:latin typeface="Arial Narrow"/>
              </a:rPr>
              <a:t>Элладой</a:t>
            </a:r>
            <a:r>
              <a:rPr b="1" lang="ru-RU" sz="2400" spc="-1" strike="noStrike">
                <a:solidFill>
                  <a:srgbClr val="660066"/>
                </a:solidFill>
                <a:latin typeface="Arial Narrow"/>
              </a:rPr>
              <a:t>.  Другие народы они называли варвар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105264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Narrow"/>
              </a:rPr>
              <a:t>Колонизац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67120" y="1298520"/>
            <a:ext cx="5781240" cy="189000"/>
            <a:chOff x="2967120" y="1298520"/>
            <a:chExt cx="5781240" cy="189000"/>
          </a:xfrm>
        </p:grpSpPr>
        <p:grpSp>
          <p:nvGrpSpPr>
            <p:cNvPr id="653" name=""/>
            <p:cNvGrpSpPr/>
            <p:nvPr/>
          </p:nvGrpSpPr>
          <p:grpSpPr>
            <a:xfrm>
              <a:off x="2967120" y="1298520"/>
              <a:ext cx="1926720" cy="189000"/>
              <a:chOff x="2967120" y="1298520"/>
              <a:chExt cx="1926720" cy="189000"/>
            </a:xfrm>
          </p:grpSpPr>
          <p:pic>
            <p:nvPicPr>
              <p:cNvPr id="6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796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71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896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488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713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3084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5336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4125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2" name=""/>
            <p:cNvGrpSpPr/>
            <p:nvPr/>
          </p:nvGrpSpPr>
          <p:grpSpPr>
            <a:xfrm>
              <a:off x="6821640" y="1298520"/>
              <a:ext cx="1926720" cy="189000"/>
              <a:chOff x="6821640" y="1298520"/>
              <a:chExt cx="1926720" cy="189000"/>
            </a:xfrm>
          </p:grpSpPr>
          <p:pic>
            <p:nvPicPr>
              <p:cNvPr id="66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6248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216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4416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033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258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8536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0788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826704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"/>
            <p:cNvGrpSpPr/>
            <p:nvPr/>
          </p:nvGrpSpPr>
          <p:grpSpPr>
            <a:xfrm>
              <a:off x="4894200" y="1298520"/>
              <a:ext cx="1926720" cy="189000"/>
              <a:chOff x="4894200" y="1298520"/>
              <a:chExt cx="1926720" cy="189000"/>
            </a:xfrm>
          </p:grpSpPr>
          <p:pic>
            <p:nvPicPr>
              <p:cNvPr id="67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13504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942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1672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37588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0984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85792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580440" y="1298520"/>
                <a:ext cx="240480" cy="1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39600" y="1298520"/>
                <a:ext cx="240840" cy="1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80" name="" descr=""/>
          <p:cNvPicPr/>
          <p:nvPr/>
        </p:nvPicPr>
        <p:blipFill>
          <a:blip r:embed="rId26"/>
          <a:stretch/>
        </p:blipFill>
        <p:spPr>
          <a:xfrm>
            <a:off x="4356000" y="3106800"/>
            <a:ext cx="243000" cy="20484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7"/>
          <a:stretch/>
        </p:blipFill>
        <p:spPr>
          <a:xfrm>
            <a:off x="4356000" y="4330800"/>
            <a:ext cx="243000" cy="20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8-01-28T14:01:19Z</dcterms:modified>
  <cp:revision>37</cp:revision>
  <dc:subject/>
  <dc:title>PowerPoint Presentation</dc:title>
</cp:coreProperties>
</file>