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AD5-3446-4B99-B3C0-8768F446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42C-7690-411D-A8AB-814BD0D3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472A-3A7E-4690-B54A-39177F9D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68A-258D-431F-BB17-41ECC0C1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ACE5-4791-4D31-8A63-0C4FF73F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2843-A338-445C-BD3D-E715ED03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83D7-DB52-4555-B96F-037BA20A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92A3-AACB-413E-A448-4AD21D4A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8EEA-6494-4B02-953E-CC9BD062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CCEB-3C91-45AD-B03A-261CA99B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665A-AD22-407F-BDCC-679AC3A7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A7B-7236-412C-A1AE-FAEB02A4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DEF8-1CB1-4355-A4AE-0E41593C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42C0-8990-454A-968F-1E20CAA7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DBD1-B1D5-4000-838F-874C4B5E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7FB3-828D-49B8-A33D-248DC554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3982-F2E1-4CBD-B2AA-529DA462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C176-CC34-4E8A-8BC7-68CB94D8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915D8-B59B-4BF7-A02D-F8B985A7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27E29-D89C-4E1D-A322-062B79CA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095F6-E1EC-4E1F-9C07-BD9D7F07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FB5A-F16F-415B-BC28-12F68556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4BD-A521-4AD3-BD8D-FB98D6C6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BCDF5-F615-494B-B18C-6BF658D5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48D40-6D57-49B8-B193-885B8027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C747-8AC6-4936-8B08-5F918E2E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FC378-4EB1-4DC7-A41F-B496108E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236E-6828-441E-8DFC-7A21B577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289C8-9796-4F03-A5CF-0016E3BC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E99C-FDF0-4D68-B9B2-FA97C3F9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E7A924-1EAC-4176-8620-AE9EBDF1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120FAF-EC5F-40D2-A669-0CF92D2E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17B74-B6EB-41BE-BDA8-5B893B0C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1A8-7EE6-4716-A4ED-6472D7B2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61C19D-9DC2-4E7F-AF04-673E76B3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A09935-CC03-4E9D-BA5C-5B093A1B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DDEE60-3DA5-4839-8A6E-0FDB444A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ABD762-0D7B-4CA2-99B3-105D5636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756625-98D4-476E-9192-11E2D432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BECA8C-58AA-4B03-80F8-192DFBD9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F1440C-AEB6-42A4-8DB2-96E9CE36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E350B4-618C-4418-88AA-594577D1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C55958-D62D-432B-A42E-507D5058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C36D8-26E0-4669-A926-CACB7479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B76-EB20-4252-90BE-56F63C0B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32276-5E90-45ED-8043-81ECF0D4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675BA-68AE-41D2-850B-F8E9E242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59BCF-EA4A-48C5-8C8E-74800049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1B645-ADBD-45A2-964E-8F290757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D1132-DDC9-43A2-8953-49DD56BF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86104-88A4-4B80-AB89-3A1313A8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E8D46-85F2-4207-864D-4242EF9A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DFA9F-5948-48CF-B937-860DCFA7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98DCA-F4DA-422C-8DE3-C47C2C8D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2CBFB-3D36-4188-A1A8-C9548629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586-1CCC-491F-A2AB-F6922F61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0B866-CC6C-4FE4-946F-AFBF5ED8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AF3FD-9474-4994-BC9C-239CEFBC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B16AC-FD1C-4875-9F5D-24BAFB1C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6EE66-FF94-4AD2-A6C7-0DCC9947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147E8-C5E8-41B0-8774-729C1E60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A58DD-E21F-4BA8-BBB7-9292D984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DB4C9-ED13-4507-95E1-FB0932A1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AF826-77DE-493A-AC43-4F5D14BA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0D7FE-2695-4D7F-8082-8AB850B6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1AFBC-95EF-45E1-8132-88BF8C69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C99-694D-4172-9DA4-784D9873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FA0B0-75F1-422A-849A-B77A9F1A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BF8A8-D1E0-4752-969E-608739BF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0FAAC-F003-42E0-9EB9-B6993AAE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B36-16B0-47BE-83AC-B80C1A09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32D-0F58-4686-886A-169D4C8C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8C7F-687D-4DFF-B7A4-EFB25E2C7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4F60-BB1B-4F3D-8686-E9A67C41E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5ABF-B796-425F-88A2-2258F7EC9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BD43-9FAF-4DED-825E-C6B5CF998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65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36D2-0753-4399-8B8A-4C558D1B70B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2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8EF8-F4BD-4D12-9DB9-CF2C17920A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Материал по курсу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«БИОЛОГИЯ»,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 класс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ема: «БИОСИНТЕЗ БЕЛКА»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Белых Надежда 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учитель би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Красногвардейской специальной (коррекционной) общеобразовательной школы-интерната №25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VI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Трансляц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торой этап биосинтеза– трансляц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Трансляция– перевод последовательности нуклеотидов в последовательность аминокислот бел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цитоплазме  аминокислоты под строгим контролем ферментов аминоацил-тРНК-синтетаз соединяются с тРНК, образуя аминоацил-тРНК. Это очень видоспецифичные реакции: определенный фермент способен узнавать и связывать с соответствующей тРНК только свою аминокислоту.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3962520"/>
            <a:ext cx="1752840" cy="16002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0988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33920" y="3886200"/>
            <a:ext cx="1752480" cy="16002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3886200"/>
            <a:ext cx="4032360" cy="399960"/>
          </a:xfrm>
          <a:custGeom>
            <a:avLst/>
            <a:gdLst/>
            <a:ahLst/>
            <a:rect l="l" t="t" r="r" b="b"/>
            <a:pathLst>
              <a:path w="2540" h="252">
                <a:moveTo>
                  <a:pt x="0" y="252"/>
                </a:moveTo>
                <a:cubicBezTo>
                  <a:pt x="17" y="246"/>
                  <a:pt x="19" y="236"/>
                  <a:pt x="32" y="228"/>
                </a:cubicBezTo>
                <a:cubicBezTo>
                  <a:pt x="44" y="221"/>
                  <a:pt x="66" y="217"/>
                  <a:pt x="80" y="212"/>
                </a:cubicBezTo>
                <a:cubicBezTo>
                  <a:pt x="96" y="207"/>
                  <a:pt x="112" y="189"/>
                  <a:pt x="128" y="184"/>
                </a:cubicBezTo>
                <a:cubicBezTo>
                  <a:pt x="144" y="179"/>
                  <a:pt x="160" y="177"/>
                  <a:pt x="176" y="172"/>
                </a:cubicBezTo>
                <a:cubicBezTo>
                  <a:pt x="198" y="165"/>
                  <a:pt x="216" y="192"/>
                  <a:pt x="238" y="182"/>
                </a:cubicBezTo>
                <a:cubicBezTo>
                  <a:pt x="258" y="178"/>
                  <a:pt x="273" y="185"/>
                  <a:pt x="302" y="191"/>
                </a:cubicBezTo>
                <a:cubicBezTo>
                  <a:pt x="331" y="197"/>
                  <a:pt x="379" y="214"/>
                  <a:pt x="411" y="219"/>
                </a:cubicBezTo>
                <a:cubicBezTo>
                  <a:pt x="447" y="204"/>
                  <a:pt x="456" y="224"/>
                  <a:pt x="494" y="219"/>
                </a:cubicBezTo>
                <a:cubicBezTo>
                  <a:pt x="543" y="212"/>
                  <a:pt x="531" y="231"/>
                  <a:pt x="567" y="219"/>
                </a:cubicBezTo>
                <a:cubicBezTo>
                  <a:pt x="595" y="210"/>
                  <a:pt x="574" y="216"/>
                  <a:pt x="603" y="210"/>
                </a:cubicBezTo>
                <a:cubicBezTo>
                  <a:pt x="658" y="199"/>
                  <a:pt x="721" y="150"/>
                  <a:pt x="777" y="146"/>
                </a:cubicBezTo>
                <a:cubicBezTo>
                  <a:pt x="814" y="134"/>
                  <a:pt x="896" y="75"/>
                  <a:pt x="933" y="73"/>
                </a:cubicBezTo>
                <a:cubicBezTo>
                  <a:pt x="992" y="76"/>
                  <a:pt x="1021" y="44"/>
                  <a:pt x="1079" y="54"/>
                </a:cubicBezTo>
                <a:cubicBezTo>
                  <a:pt x="1116" y="69"/>
                  <a:pt x="1248" y="22"/>
                  <a:pt x="1288" y="28"/>
                </a:cubicBezTo>
                <a:cubicBezTo>
                  <a:pt x="1311" y="36"/>
                  <a:pt x="1336" y="36"/>
                  <a:pt x="1360" y="40"/>
                </a:cubicBezTo>
                <a:cubicBezTo>
                  <a:pt x="1423" y="51"/>
                  <a:pt x="1468" y="61"/>
                  <a:pt x="1536" y="64"/>
                </a:cubicBezTo>
                <a:cubicBezTo>
                  <a:pt x="1648" y="61"/>
                  <a:pt x="1672" y="64"/>
                  <a:pt x="1752" y="44"/>
                </a:cubicBezTo>
                <a:cubicBezTo>
                  <a:pt x="1824" y="47"/>
                  <a:pt x="1874" y="48"/>
                  <a:pt x="1940" y="64"/>
                </a:cubicBezTo>
                <a:cubicBezTo>
                  <a:pt x="2075" y="62"/>
                  <a:pt x="2204" y="60"/>
                  <a:pt x="2336" y="44"/>
                </a:cubicBezTo>
                <a:cubicBezTo>
                  <a:pt x="2368" y="33"/>
                  <a:pt x="2392" y="45"/>
                  <a:pt x="2427" y="36"/>
                </a:cubicBezTo>
                <a:cubicBezTo>
                  <a:pt x="2466" y="26"/>
                  <a:pt x="2499" y="0"/>
                  <a:pt x="254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0" y="3657600"/>
            <a:ext cx="1181160" cy="241200"/>
          </a:xfrm>
          <a:custGeom>
            <a:avLst/>
            <a:gdLst/>
            <a:ahLst/>
            <a:rect l="l" t="t" r="r" b="b"/>
            <a:pathLst>
              <a:path w="744" h="152">
                <a:moveTo>
                  <a:pt x="0" y="152"/>
                </a:moveTo>
                <a:cubicBezTo>
                  <a:pt x="57" y="144"/>
                  <a:pt x="110" y="119"/>
                  <a:pt x="168" y="112"/>
                </a:cubicBezTo>
                <a:cubicBezTo>
                  <a:pt x="235" y="104"/>
                  <a:pt x="302" y="97"/>
                  <a:pt x="368" y="84"/>
                </a:cubicBezTo>
                <a:cubicBezTo>
                  <a:pt x="412" y="75"/>
                  <a:pt x="455" y="60"/>
                  <a:pt x="500" y="52"/>
                </a:cubicBezTo>
                <a:cubicBezTo>
                  <a:pt x="553" y="42"/>
                  <a:pt x="608" y="37"/>
                  <a:pt x="660" y="24"/>
                </a:cubicBezTo>
                <a:cubicBezTo>
                  <a:pt x="680" y="19"/>
                  <a:pt x="700" y="13"/>
                  <a:pt x="720" y="8"/>
                </a:cubicBezTo>
                <a:cubicBezTo>
                  <a:pt x="728" y="6"/>
                  <a:pt x="744" y="0"/>
                  <a:pt x="744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480" y="38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-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1430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952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6765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050840" y="39625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203480" y="396252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55760" y="396252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84360" y="388620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736640" y="380988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6200" y="3733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8457200">
            <a:off x="2515320" y="5333040"/>
            <a:ext cx="1087560" cy="110808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11720" y="5734080"/>
            <a:ext cx="1027080" cy="992160"/>
          </a:xfrm>
          <a:custGeom>
            <a:avLst/>
            <a:gdLst/>
            <a:ahLst/>
            <a:rect l="l" t="t" r="r" b="b"/>
            <a:pathLst>
              <a:path w="647" h="625">
                <a:moveTo>
                  <a:pt x="541" y="625"/>
                </a:moveTo>
                <a:cubicBezTo>
                  <a:pt x="530" y="608"/>
                  <a:pt x="518" y="591"/>
                  <a:pt x="507" y="574"/>
                </a:cubicBezTo>
                <a:cubicBezTo>
                  <a:pt x="478" y="544"/>
                  <a:pt x="400" y="405"/>
                  <a:pt x="342" y="445"/>
                </a:cubicBezTo>
                <a:cubicBezTo>
                  <a:pt x="326" y="441"/>
                  <a:pt x="305" y="447"/>
                  <a:pt x="292" y="457"/>
                </a:cubicBezTo>
                <a:cubicBezTo>
                  <a:pt x="267" y="468"/>
                  <a:pt x="250" y="477"/>
                  <a:pt x="228" y="495"/>
                </a:cubicBezTo>
                <a:cubicBezTo>
                  <a:pt x="187" y="513"/>
                  <a:pt x="150" y="549"/>
                  <a:pt x="113" y="574"/>
                </a:cubicBezTo>
                <a:cubicBezTo>
                  <a:pt x="94" y="581"/>
                  <a:pt x="74" y="578"/>
                  <a:pt x="56" y="573"/>
                </a:cubicBezTo>
                <a:cubicBezTo>
                  <a:pt x="46" y="566"/>
                  <a:pt x="38" y="563"/>
                  <a:pt x="28" y="556"/>
                </a:cubicBezTo>
                <a:cubicBezTo>
                  <a:pt x="0" y="525"/>
                  <a:pt x="4" y="523"/>
                  <a:pt x="13" y="490"/>
                </a:cubicBezTo>
                <a:cubicBezTo>
                  <a:pt x="32" y="477"/>
                  <a:pt x="29" y="469"/>
                  <a:pt x="47" y="462"/>
                </a:cubicBezTo>
                <a:cubicBezTo>
                  <a:pt x="72" y="446"/>
                  <a:pt x="77" y="452"/>
                  <a:pt x="97" y="438"/>
                </a:cubicBezTo>
                <a:cubicBezTo>
                  <a:pt x="107" y="434"/>
                  <a:pt x="157" y="439"/>
                  <a:pt x="167" y="432"/>
                </a:cubicBezTo>
                <a:cubicBezTo>
                  <a:pt x="206" y="418"/>
                  <a:pt x="249" y="382"/>
                  <a:pt x="278" y="357"/>
                </a:cubicBezTo>
                <a:cubicBezTo>
                  <a:pt x="297" y="335"/>
                  <a:pt x="303" y="329"/>
                  <a:pt x="306" y="304"/>
                </a:cubicBezTo>
                <a:cubicBezTo>
                  <a:pt x="286" y="278"/>
                  <a:pt x="270" y="255"/>
                  <a:pt x="254" y="228"/>
                </a:cubicBezTo>
                <a:cubicBezTo>
                  <a:pt x="250" y="224"/>
                  <a:pt x="184" y="177"/>
                  <a:pt x="181" y="171"/>
                </a:cubicBezTo>
                <a:cubicBezTo>
                  <a:pt x="179" y="168"/>
                  <a:pt x="142" y="140"/>
                  <a:pt x="139" y="137"/>
                </a:cubicBezTo>
                <a:cubicBezTo>
                  <a:pt x="131" y="125"/>
                  <a:pt x="120" y="97"/>
                  <a:pt x="124" y="84"/>
                </a:cubicBezTo>
                <a:cubicBezTo>
                  <a:pt x="124" y="65"/>
                  <a:pt x="122" y="38"/>
                  <a:pt x="137" y="24"/>
                </a:cubicBezTo>
                <a:cubicBezTo>
                  <a:pt x="140" y="2"/>
                  <a:pt x="198" y="5"/>
                  <a:pt x="215" y="0"/>
                </a:cubicBezTo>
                <a:cubicBezTo>
                  <a:pt x="229" y="3"/>
                  <a:pt x="252" y="15"/>
                  <a:pt x="266" y="12"/>
                </a:cubicBezTo>
                <a:cubicBezTo>
                  <a:pt x="277" y="18"/>
                  <a:pt x="286" y="34"/>
                  <a:pt x="299" y="39"/>
                </a:cubicBezTo>
                <a:cubicBezTo>
                  <a:pt x="321" y="53"/>
                  <a:pt x="325" y="84"/>
                  <a:pt x="333" y="109"/>
                </a:cubicBezTo>
                <a:cubicBezTo>
                  <a:pt x="352" y="136"/>
                  <a:pt x="363" y="170"/>
                  <a:pt x="358" y="203"/>
                </a:cubicBezTo>
                <a:cubicBezTo>
                  <a:pt x="365" y="213"/>
                  <a:pt x="369" y="228"/>
                  <a:pt x="370" y="241"/>
                </a:cubicBezTo>
                <a:cubicBezTo>
                  <a:pt x="376" y="250"/>
                  <a:pt x="379" y="258"/>
                  <a:pt x="384" y="267"/>
                </a:cubicBezTo>
                <a:cubicBezTo>
                  <a:pt x="405" y="285"/>
                  <a:pt x="401" y="281"/>
                  <a:pt x="424" y="278"/>
                </a:cubicBezTo>
                <a:cubicBezTo>
                  <a:pt x="464" y="234"/>
                  <a:pt x="445" y="240"/>
                  <a:pt x="470" y="208"/>
                </a:cubicBezTo>
                <a:cubicBezTo>
                  <a:pt x="495" y="186"/>
                  <a:pt x="542" y="162"/>
                  <a:pt x="562" y="163"/>
                </a:cubicBezTo>
                <a:cubicBezTo>
                  <a:pt x="578" y="158"/>
                  <a:pt x="600" y="181"/>
                  <a:pt x="616" y="186"/>
                </a:cubicBezTo>
                <a:cubicBezTo>
                  <a:pt x="641" y="203"/>
                  <a:pt x="647" y="241"/>
                  <a:pt x="626" y="274"/>
                </a:cubicBezTo>
                <a:cubicBezTo>
                  <a:pt x="586" y="310"/>
                  <a:pt x="542" y="316"/>
                  <a:pt x="496" y="344"/>
                </a:cubicBezTo>
                <a:cubicBezTo>
                  <a:pt x="459" y="389"/>
                  <a:pt x="473" y="369"/>
                  <a:pt x="487" y="412"/>
                </a:cubicBezTo>
                <a:cubicBezTo>
                  <a:pt x="501" y="429"/>
                  <a:pt x="514" y="448"/>
                  <a:pt x="525" y="468"/>
                </a:cubicBezTo>
                <a:cubicBezTo>
                  <a:pt x="548" y="498"/>
                  <a:pt x="572" y="528"/>
                  <a:pt x="599" y="555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095880" y="4952880"/>
            <a:ext cx="1087560" cy="110808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440080" y="53341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16040" y="51055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745000" y="51055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68880" y="57150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45560" y="556272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81640" y="549756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141960" y="4100760"/>
            <a:ext cx="639360" cy="476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589880" y="4024440"/>
            <a:ext cx="639360" cy="476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924680" y="5604840"/>
            <a:ext cx="577800" cy="8204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54880" y="47242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707160" y="46483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60160" y="472428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52680" y="5867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29200" y="63244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0" y="5715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148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267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495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6483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800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80988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62520" y="3657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1480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43400" y="36576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495680" y="35812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648320" y="35053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58 0.09849 -0.23142 0.19722 -0.27778 0.23676 E">
                                      <p:cBhvr>
                                        <p:cTn id="297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452 0.12717 -0.20886 0.25457 -0.24931 0.30451 E">
                                      <p:cBhvr>
                                        <p:cTn id="300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348 0.01271 -0.10678 0.02543 -0.12865 0.02959 E">
                                      <p:cBhvr>
                                        <p:cTn id="303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7631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лее тРНК движется к и-РНК и связывается комплементарно своим антикодоном с кодоном и-РНК. Затем второй кодон соединяется с  комплексом второй аминоацил-тРНК, содержащей свой  специфический антикодон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1800" spc="-1" strike="noStrike">
                <a:solidFill>
                  <a:srgbClr val="b9efee"/>
                </a:solidFill>
                <a:latin typeface="Garamond"/>
              </a:rPr>
              <a:t>Антикодон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– триплет нуклеотидов на верхушке тРН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1800" spc="-1" strike="noStrike">
                <a:solidFill>
                  <a:srgbClr val="b9efee"/>
                </a:solidFill>
                <a:latin typeface="Garamond"/>
              </a:rPr>
              <a:t>Кодон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– триплет нуклеотидов на и-РНК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"/>
          <p:cNvSpPr/>
          <p:nvPr/>
        </p:nvSpPr>
        <p:spPr>
          <a:xfrm>
            <a:off x="838080" y="3962520"/>
            <a:ext cx="1752840" cy="16002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0988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33920" y="3886200"/>
            <a:ext cx="1752480" cy="16002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09480" y="3886200"/>
            <a:ext cx="4032360" cy="399960"/>
          </a:xfrm>
          <a:custGeom>
            <a:avLst/>
            <a:gdLst/>
            <a:ahLst/>
            <a:rect l="l" t="t" r="r" b="b"/>
            <a:pathLst>
              <a:path w="2540" h="252">
                <a:moveTo>
                  <a:pt x="0" y="252"/>
                </a:moveTo>
                <a:cubicBezTo>
                  <a:pt x="17" y="246"/>
                  <a:pt x="19" y="236"/>
                  <a:pt x="32" y="228"/>
                </a:cubicBezTo>
                <a:cubicBezTo>
                  <a:pt x="44" y="221"/>
                  <a:pt x="66" y="217"/>
                  <a:pt x="80" y="212"/>
                </a:cubicBezTo>
                <a:cubicBezTo>
                  <a:pt x="96" y="207"/>
                  <a:pt x="112" y="189"/>
                  <a:pt x="128" y="184"/>
                </a:cubicBezTo>
                <a:cubicBezTo>
                  <a:pt x="144" y="179"/>
                  <a:pt x="160" y="177"/>
                  <a:pt x="176" y="172"/>
                </a:cubicBezTo>
                <a:cubicBezTo>
                  <a:pt x="198" y="165"/>
                  <a:pt x="216" y="192"/>
                  <a:pt x="238" y="182"/>
                </a:cubicBezTo>
                <a:cubicBezTo>
                  <a:pt x="258" y="178"/>
                  <a:pt x="273" y="185"/>
                  <a:pt x="302" y="191"/>
                </a:cubicBezTo>
                <a:cubicBezTo>
                  <a:pt x="331" y="197"/>
                  <a:pt x="379" y="214"/>
                  <a:pt x="411" y="219"/>
                </a:cubicBezTo>
                <a:cubicBezTo>
                  <a:pt x="447" y="204"/>
                  <a:pt x="456" y="224"/>
                  <a:pt x="494" y="219"/>
                </a:cubicBezTo>
                <a:cubicBezTo>
                  <a:pt x="543" y="212"/>
                  <a:pt x="531" y="231"/>
                  <a:pt x="567" y="219"/>
                </a:cubicBezTo>
                <a:cubicBezTo>
                  <a:pt x="595" y="210"/>
                  <a:pt x="574" y="216"/>
                  <a:pt x="603" y="210"/>
                </a:cubicBezTo>
                <a:cubicBezTo>
                  <a:pt x="658" y="199"/>
                  <a:pt x="721" y="150"/>
                  <a:pt x="777" y="146"/>
                </a:cubicBezTo>
                <a:cubicBezTo>
                  <a:pt x="814" y="134"/>
                  <a:pt x="896" y="75"/>
                  <a:pt x="933" y="73"/>
                </a:cubicBezTo>
                <a:cubicBezTo>
                  <a:pt x="992" y="76"/>
                  <a:pt x="1021" y="44"/>
                  <a:pt x="1079" y="54"/>
                </a:cubicBezTo>
                <a:cubicBezTo>
                  <a:pt x="1116" y="69"/>
                  <a:pt x="1248" y="22"/>
                  <a:pt x="1288" y="28"/>
                </a:cubicBezTo>
                <a:cubicBezTo>
                  <a:pt x="1311" y="36"/>
                  <a:pt x="1336" y="36"/>
                  <a:pt x="1360" y="40"/>
                </a:cubicBezTo>
                <a:cubicBezTo>
                  <a:pt x="1423" y="51"/>
                  <a:pt x="1468" y="61"/>
                  <a:pt x="1536" y="64"/>
                </a:cubicBezTo>
                <a:cubicBezTo>
                  <a:pt x="1648" y="61"/>
                  <a:pt x="1672" y="64"/>
                  <a:pt x="1752" y="44"/>
                </a:cubicBezTo>
                <a:cubicBezTo>
                  <a:pt x="1824" y="47"/>
                  <a:pt x="1874" y="48"/>
                  <a:pt x="1940" y="64"/>
                </a:cubicBezTo>
                <a:cubicBezTo>
                  <a:pt x="2075" y="62"/>
                  <a:pt x="2204" y="60"/>
                  <a:pt x="2336" y="44"/>
                </a:cubicBezTo>
                <a:cubicBezTo>
                  <a:pt x="2368" y="33"/>
                  <a:pt x="2392" y="45"/>
                  <a:pt x="2427" y="36"/>
                </a:cubicBezTo>
                <a:cubicBezTo>
                  <a:pt x="2466" y="26"/>
                  <a:pt x="2499" y="0"/>
                  <a:pt x="254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3657600"/>
            <a:ext cx="1181160" cy="241200"/>
          </a:xfrm>
          <a:custGeom>
            <a:avLst/>
            <a:gdLst/>
            <a:ahLst/>
            <a:rect l="l" t="t" r="r" b="b"/>
            <a:pathLst>
              <a:path w="744" h="152">
                <a:moveTo>
                  <a:pt x="0" y="152"/>
                </a:moveTo>
                <a:cubicBezTo>
                  <a:pt x="57" y="144"/>
                  <a:pt x="110" y="119"/>
                  <a:pt x="168" y="112"/>
                </a:cubicBezTo>
                <a:cubicBezTo>
                  <a:pt x="235" y="104"/>
                  <a:pt x="302" y="97"/>
                  <a:pt x="368" y="84"/>
                </a:cubicBezTo>
                <a:cubicBezTo>
                  <a:pt x="412" y="75"/>
                  <a:pt x="455" y="60"/>
                  <a:pt x="500" y="52"/>
                </a:cubicBezTo>
                <a:cubicBezTo>
                  <a:pt x="553" y="42"/>
                  <a:pt x="608" y="37"/>
                  <a:pt x="660" y="24"/>
                </a:cubicBezTo>
                <a:cubicBezTo>
                  <a:pt x="680" y="19"/>
                  <a:pt x="700" y="13"/>
                  <a:pt x="720" y="8"/>
                </a:cubicBezTo>
                <a:cubicBezTo>
                  <a:pt x="728" y="6"/>
                  <a:pt x="744" y="0"/>
                  <a:pt x="744" y="0"/>
                </a:cubicBezTo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8480" y="38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-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981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050840" y="39625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03480" y="396252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355760" y="396252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84360" y="388620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36640" y="380988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906200" y="3733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21018600">
            <a:off x="2514240" y="5333760"/>
            <a:ext cx="1087560" cy="110808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1643400">
            <a:off x="4311720" y="5733720"/>
            <a:ext cx="1027080" cy="992160"/>
          </a:xfrm>
          <a:custGeom>
            <a:avLst/>
            <a:gdLst/>
            <a:ahLst/>
            <a:rect l="l" t="t" r="r" b="b"/>
            <a:pathLst>
              <a:path w="647" h="625">
                <a:moveTo>
                  <a:pt x="541" y="625"/>
                </a:moveTo>
                <a:cubicBezTo>
                  <a:pt x="530" y="608"/>
                  <a:pt x="518" y="591"/>
                  <a:pt x="507" y="574"/>
                </a:cubicBezTo>
                <a:cubicBezTo>
                  <a:pt x="478" y="544"/>
                  <a:pt x="400" y="405"/>
                  <a:pt x="342" y="445"/>
                </a:cubicBezTo>
                <a:cubicBezTo>
                  <a:pt x="326" y="441"/>
                  <a:pt x="305" y="447"/>
                  <a:pt x="292" y="457"/>
                </a:cubicBezTo>
                <a:cubicBezTo>
                  <a:pt x="267" y="468"/>
                  <a:pt x="250" y="477"/>
                  <a:pt x="228" y="495"/>
                </a:cubicBezTo>
                <a:cubicBezTo>
                  <a:pt x="187" y="513"/>
                  <a:pt x="150" y="549"/>
                  <a:pt x="113" y="574"/>
                </a:cubicBezTo>
                <a:cubicBezTo>
                  <a:pt x="94" y="581"/>
                  <a:pt x="74" y="578"/>
                  <a:pt x="56" y="573"/>
                </a:cubicBezTo>
                <a:cubicBezTo>
                  <a:pt x="46" y="566"/>
                  <a:pt x="38" y="563"/>
                  <a:pt x="28" y="556"/>
                </a:cubicBezTo>
                <a:cubicBezTo>
                  <a:pt x="0" y="525"/>
                  <a:pt x="4" y="523"/>
                  <a:pt x="13" y="490"/>
                </a:cubicBezTo>
                <a:cubicBezTo>
                  <a:pt x="32" y="477"/>
                  <a:pt x="29" y="469"/>
                  <a:pt x="47" y="462"/>
                </a:cubicBezTo>
                <a:cubicBezTo>
                  <a:pt x="72" y="446"/>
                  <a:pt x="77" y="452"/>
                  <a:pt x="97" y="438"/>
                </a:cubicBezTo>
                <a:cubicBezTo>
                  <a:pt x="107" y="434"/>
                  <a:pt x="157" y="439"/>
                  <a:pt x="167" y="432"/>
                </a:cubicBezTo>
                <a:cubicBezTo>
                  <a:pt x="206" y="418"/>
                  <a:pt x="249" y="382"/>
                  <a:pt x="278" y="357"/>
                </a:cubicBezTo>
                <a:cubicBezTo>
                  <a:pt x="297" y="335"/>
                  <a:pt x="303" y="329"/>
                  <a:pt x="306" y="304"/>
                </a:cubicBezTo>
                <a:cubicBezTo>
                  <a:pt x="286" y="278"/>
                  <a:pt x="270" y="255"/>
                  <a:pt x="254" y="228"/>
                </a:cubicBezTo>
                <a:cubicBezTo>
                  <a:pt x="250" y="224"/>
                  <a:pt x="184" y="177"/>
                  <a:pt x="181" y="171"/>
                </a:cubicBezTo>
                <a:cubicBezTo>
                  <a:pt x="179" y="168"/>
                  <a:pt x="142" y="140"/>
                  <a:pt x="139" y="137"/>
                </a:cubicBezTo>
                <a:cubicBezTo>
                  <a:pt x="131" y="125"/>
                  <a:pt x="120" y="97"/>
                  <a:pt x="124" y="84"/>
                </a:cubicBezTo>
                <a:cubicBezTo>
                  <a:pt x="124" y="65"/>
                  <a:pt x="122" y="38"/>
                  <a:pt x="137" y="24"/>
                </a:cubicBezTo>
                <a:cubicBezTo>
                  <a:pt x="140" y="2"/>
                  <a:pt x="198" y="5"/>
                  <a:pt x="215" y="0"/>
                </a:cubicBezTo>
                <a:cubicBezTo>
                  <a:pt x="229" y="3"/>
                  <a:pt x="252" y="15"/>
                  <a:pt x="266" y="12"/>
                </a:cubicBezTo>
                <a:cubicBezTo>
                  <a:pt x="277" y="18"/>
                  <a:pt x="286" y="34"/>
                  <a:pt x="299" y="39"/>
                </a:cubicBezTo>
                <a:cubicBezTo>
                  <a:pt x="321" y="53"/>
                  <a:pt x="325" y="84"/>
                  <a:pt x="333" y="109"/>
                </a:cubicBezTo>
                <a:cubicBezTo>
                  <a:pt x="352" y="136"/>
                  <a:pt x="363" y="170"/>
                  <a:pt x="358" y="203"/>
                </a:cubicBezTo>
                <a:cubicBezTo>
                  <a:pt x="365" y="213"/>
                  <a:pt x="369" y="228"/>
                  <a:pt x="370" y="241"/>
                </a:cubicBezTo>
                <a:cubicBezTo>
                  <a:pt x="376" y="250"/>
                  <a:pt x="379" y="258"/>
                  <a:pt x="384" y="267"/>
                </a:cubicBezTo>
                <a:cubicBezTo>
                  <a:pt x="405" y="285"/>
                  <a:pt x="401" y="281"/>
                  <a:pt x="424" y="278"/>
                </a:cubicBezTo>
                <a:cubicBezTo>
                  <a:pt x="464" y="234"/>
                  <a:pt x="445" y="240"/>
                  <a:pt x="470" y="208"/>
                </a:cubicBezTo>
                <a:cubicBezTo>
                  <a:pt x="495" y="186"/>
                  <a:pt x="542" y="162"/>
                  <a:pt x="562" y="163"/>
                </a:cubicBezTo>
                <a:cubicBezTo>
                  <a:pt x="578" y="158"/>
                  <a:pt x="600" y="181"/>
                  <a:pt x="616" y="186"/>
                </a:cubicBezTo>
                <a:cubicBezTo>
                  <a:pt x="641" y="203"/>
                  <a:pt x="647" y="241"/>
                  <a:pt x="626" y="274"/>
                </a:cubicBezTo>
                <a:cubicBezTo>
                  <a:pt x="586" y="310"/>
                  <a:pt x="542" y="316"/>
                  <a:pt x="496" y="344"/>
                </a:cubicBezTo>
                <a:cubicBezTo>
                  <a:pt x="459" y="389"/>
                  <a:pt x="473" y="369"/>
                  <a:pt x="487" y="412"/>
                </a:cubicBezTo>
                <a:cubicBezTo>
                  <a:pt x="501" y="429"/>
                  <a:pt x="514" y="448"/>
                  <a:pt x="525" y="468"/>
                </a:cubicBezTo>
                <a:cubicBezTo>
                  <a:pt x="548" y="498"/>
                  <a:pt x="572" y="528"/>
                  <a:pt x="599" y="555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095880" y="4952880"/>
            <a:ext cx="1087560" cy="110808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21137400">
            <a:off x="2820960" y="510516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73240" y="502920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02200" y="51055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497480" y="5486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21221400">
            <a:off x="4650120" y="540972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02400" y="548640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52680" y="5909760"/>
            <a:ext cx="577800" cy="820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151240" y="6396120"/>
            <a:ext cx="639360" cy="476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0" y="5757480"/>
            <a:ext cx="577800" cy="8204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554880" y="47242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07160" y="46483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60160" y="472428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56560" y="6028560"/>
            <a:ext cx="11628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987440" y="6411240"/>
            <a:ext cx="23544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58000" y="5715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267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483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00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0988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962520" y="3657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343400" y="36576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495680" y="35812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648320" y="35053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14300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129528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152388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1752480" y="4190760"/>
            <a:ext cx="152640" cy="152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1904760" y="4114800"/>
            <a:ext cx="152280" cy="763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 flipV="1">
            <a:off x="2057040" y="4038480"/>
            <a:ext cx="15228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2133360" y="2895480"/>
            <a:ext cx="106668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95000" y="2286000"/>
            <a:ext cx="385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66"/>
                </a:solidFill>
                <a:latin typeface="Arial"/>
              </a:rPr>
              <a:t>Водородные связи меж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66"/>
                </a:solidFill>
                <a:latin typeface="Arial"/>
              </a:rPr>
              <a:t>комплементарными нуклеотид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18" dur="1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20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22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24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26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28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34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342" dur="2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344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346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348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350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сле присоединения к мРНК двух тРНК под действием фермента происходит образование пептидной связи между аминокислотами; первая аминокислота перемещается на вторую тРНК, а освободившаяся первая тРНК уходит. После этого  рибосома передвигается по нити для того, чтобы поставить на рабочее место следующий кодон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"/>
          <p:cNvSpPr/>
          <p:nvPr/>
        </p:nvSpPr>
        <p:spPr>
          <a:xfrm>
            <a:off x="838080" y="3962520"/>
            <a:ext cx="1752840" cy="16002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0988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733920" y="3886200"/>
            <a:ext cx="1752480" cy="16002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3886200"/>
            <a:ext cx="4032360" cy="399960"/>
          </a:xfrm>
          <a:custGeom>
            <a:avLst/>
            <a:gdLst/>
            <a:ahLst/>
            <a:rect l="l" t="t" r="r" b="b"/>
            <a:pathLst>
              <a:path w="2540" h="252">
                <a:moveTo>
                  <a:pt x="0" y="252"/>
                </a:moveTo>
                <a:cubicBezTo>
                  <a:pt x="17" y="246"/>
                  <a:pt x="19" y="236"/>
                  <a:pt x="32" y="228"/>
                </a:cubicBezTo>
                <a:cubicBezTo>
                  <a:pt x="44" y="221"/>
                  <a:pt x="66" y="217"/>
                  <a:pt x="80" y="212"/>
                </a:cubicBezTo>
                <a:cubicBezTo>
                  <a:pt x="96" y="207"/>
                  <a:pt x="112" y="189"/>
                  <a:pt x="128" y="184"/>
                </a:cubicBezTo>
                <a:cubicBezTo>
                  <a:pt x="144" y="179"/>
                  <a:pt x="160" y="177"/>
                  <a:pt x="176" y="172"/>
                </a:cubicBezTo>
                <a:cubicBezTo>
                  <a:pt x="198" y="165"/>
                  <a:pt x="216" y="192"/>
                  <a:pt x="238" y="182"/>
                </a:cubicBezTo>
                <a:cubicBezTo>
                  <a:pt x="258" y="178"/>
                  <a:pt x="273" y="185"/>
                  <a:pt x="302" y="191"/>
                </a:cubicBezTo>
                <a:cubicBezTo>
                  <a:pt x="331" y="197"/>
                  <a:pt x="379" y="214"/>
                  <a:pt x="411" y="219"/>
                </a:cubicBezTo>
                <a:cubicBezTo>
                  <a:pt x="447" y="204"/>
                  <a:pt x="456" y="224"/>
                  <a:pt x="494" y="219"/>
                </a:cubicBezTo>
                <a:cubicBezTo>
                  <a:pt x="543" y="212"/>
                  <a:pt x="531" y="231"/>
                  <a:pt x="567" y="219"/>
                </a:cubicBezTo>
                <a:cubicBezTo>
                  <a:pt x="595" y="210"/>
                  <a:pt x="574" y="216"/>
                  <a:pt x="603" y="210"/>
                </a:cubicBezTo>
                <a:cubicBezTo>
                  <a:pt x="658" y="199"/>
                  <a:pt x="721" y="150"/>
                  <a:pt x="777" y="146"/>
                </a:cubicBezTo>
                <a:cubicBezTo>
                  <a:pt x="814" y="134"/>
                  <a:pt x="896" y="75"/>
                  <a:pt x="933" y="73"/>
                </a:cubicBezTo>
                <a:cubicBezTo>
                  <a:pt x="992" y="76"/>
                  <a:pt x="1021" y="44"/>
                  <a:pt x="1079" y="54"/>
                </a:cubicBezTo>
                <a:cubicBezTo>
                  <a:pt x="1116" y="69"/>
                  <a:pt x="1248" y="22"/>
                  <a:pt x="1288" y="28"/>
                </a:cubicBezTo>
                <a:cubicBezTo>
                  <a:pt x="1311" y="36"/>
                  <a:pt x="1336" y="36"/>
                  <a:pt x="1360" y="40"/>
                </a:cubicBezTo>
                <a:cubicBezTo>
                  <a:pt x="1423" y="51"/>
                  <a:pt x="1468" y="61"/>
                  <a:pt x="1536" y="64"/>
                </a:cubicBezTo>
                <a:cubicBezTo>
                  <a:pt x="1648" y="61"/>
                  <a:pt x="1672" y="64"/>
                  <a:pt x="1752" y="44"/>
                </a:cubicBezTo>
                <a:cubicBezTo>
                  <a:pt x="1824" y="47"/>
                  <a:pt x="1874" y="48"/>
                  <a:pt x="1940" y="64"/>
                </a:cubicBezTo>
                <a:cubicBezTo>
                  <a:pt x="2075" y="62"/>
                  <a:pt x="2204" y="60"/>
                  <a:pt x="2336" y="44"/>
                </a:cubicBezTo>
                <a:cubicBezTo>
                  <a:pt x="2368" y="33"/>
                  <a:pt x="2392" y="45"/>
                  <a:pt x="2427" y="36"/>
                </a:cubicBezTo>
                <a:cubicBezTo>
                  <a:pt x="2466" y="26"/>
                  <a:pt x="2499" y="0"/>
                  <a:pt x="254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0" y="3657600"/>
            <a:ext cx="1181160" cy="241200"/>
          </a:xfrm>
          <a:custGeom>
            <a:avLst/>
            <a:gdLst/>
            <a:ahLst/>
            <a:rect l="l" t="t" r="r" b="b"/>
            <a:pathLst>
              <a:path w="744" h="152">
                <a:moveTo>
                  <a:pt x="0" y="152"/>
                </a:moveTo>
                <a:cubicBezTo>
                  <a:pt x="57" y="144"/>
                  <a:pt x="110" y="119"/>
                  <a:pt x="168" y="112"/>
                </a:cubicBezTo>
                <a:cubicBezTo>
                  <a:pt x="235" y="104"/>
                  <a:pt x="302" y="97"/>
                  <a:pt x="368" y="84"/>
                </a:cubicBezTo>
                <a:cubicBezTo>
                  <a:pt x="412" y="75"/>
                  <a:pt x="455" y="60"/>
                  <a:pt x="500" y="52"/>
                </a:cubicBezTo>
                <a:cubicBezTo>
                  <a:pt x="553" y="42"/>
                  <a:pt x="608" y="37"/>
                  <a:pt x="660" y="24"/>
                </a:cubicBezTo>
                <a:cubicBezTo>
                  <a:pt x="680" y="19"/>
                  <a:pt x="700" y="13"/>
                  <a:pt x="720" y="8"/>
                </a:cubicBezTo>
                <a:cubicBezTo>
                  <a:pt x="728" y="6"/>
                  <a:pt x="744" y="0"/>
                  <a:pt x="7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8120" y="38098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И-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1430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2952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81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050840" y="39625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203480" y="396252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355760" y="396252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584360" y="388620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36640" y="380988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906200" y="3733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21018600">
            <a:off x="685800" y="4648320"/>
            <a:ext cx="1082520" cy="119052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643400">
            <a:off x="1676520" y="4419360"/>
            <a:ext cx="1027080" cy="992160"/>
          </a:xfrm>
          <a:custGeom>
            <a:avLst/>
            <a:gdLst/>
            <a:ahLst/>
            <a:rect l="l" t="t" r="r" b="b"/>
            <a:pathLst>
              <a:path w="647" h="625">
                <a:moveTo>
                  <a:pt x="541" y="625"/>
                </a:moveTo>
                <a:cubicBezTo>
                  <a:pt x="530" y="608"/>
                  <a:pt x="518" y="591"/>
                  <a:pt x="507" y="574"/>
                </a:cubicBezTo>
                <a:cubicBezTo>
                  <a:pt x="478" y="544"/>
                  <a:pt x="400" y="405"/>
                  <a:pt x="342" y="445"/>
                </a:cubicBezTo>
                <a:cubicBezTo>
                  <a:pt x="326" y="441"/>
                  <a:pt x="305" y="447"/>
                  <a:pt x="292" y="457"/>
                </a:cubicBezTo>
                <a:cubicBezTo>
                  <a:pt x="267" y="468"/>
                  <a:pt x="250" y="477"/>
                  <a:pt x="228" y="495"/>
                </a:cubicBezTo>
                <a:cubicBezTo>
                  <a:pt x="187" y="513"/>
                  <a:pt x="150" y="549"/>
                  <a:pt x="113" y="574"/>
                </a:cubicBezTo>
                <a:cubicBezTo>
                  <a:pt x="94" y="581"/>
                  <a:pt x="74" y="578"/>
                  <a:pt x="56" y="573"/>
                </a:cubicBezTo>
                <a:cubicBezTo>
                  <a:pt x="46" y="566"/>
                  <a:pt x="38" y="563"/>
                  <a:pt x="28" y="556"/>
                </a:cubicBezTo>
                <a:cubicBezTo>
                  <a:pt x="0" y="525"/>
                  <a:pt x="4" y="523"/>
                  <a:pt x="13" y="490"/>
                </a:cubicBezTo>
                <a:cubicBezTo>
                  <a:pt x="32" y="477"/>
                  <a:pt x="29" y="469"/>
                  <a:pt x="47" y="462"/>
                </a:cubicBezTo>
                <a:cubicBezTo>
                  <a:pt x="72" y="446"/>
                  <a:pt x="77" y="452"/>
                  <a:pt x="97" y="438"/>
                </a:cubicBezTo>
                <a:cubicBezTo>
                  <a:pt x="107" y="434"/>
                  <a:pt x="157" y="439"/>
                  <a:pt x="167" y="432"/>
                </a:cubicBezTo>
                <a:cubicBezTo>
                  <a:pt x="206" y="418"/>
                  <a:pt x="249" y="382"/>
                  <a:pt x="278" y="357"/>
                </a:cubicBezTo>
                <a:cubicBezTo>
                  <a:pt x="297" y="335"/>
                  <a:pt x="303" y="329"/>
                  <a:pt x="306" y="304"/>
                </a:cubicBezTo>
                <a:cubicBezTo>
                  <a:pt x="286" y="278"/>
                  <a:pt x="270" y="255"/>
                  <a:pt x="254" y="228"/>
                </a:cubicBezTo>
                <a:cubicBezTo>
                  <a:pt x="250" y="224"/>
                  <a:pt x="184" y="177"/>
                  <a:pt x="181" y="171"/>
                </a:cubicBezTo>
                <a:cubicBezTo>
                  <a:pt x="179" y="168"/>
                  <a:pt x="142" y="140"/>
                  <a:pt x="139" y="137"/>
                </a:cubicBezTo>
                <a:cubicBezTo>
                  <a:pt x="131" y="125"/>
                  <a:pt x="120" y="97"/>
                  <a:pt x="124" y="84"/>
                </a:cubicBezTo>
                <a:cubicBezTo>
                  <a:pt x="124" y="65"/>
                  <a:pt x="122" y="38"/>
                  <a:pt x="137" y="24"/>
                </a:cubicBezTo>
                <a:cubicBezTo>
                  <a:pt x="140" y="2"/>
                  <a:pt x="198" y="5"/>
                  <a:pt x="215" y="0"/>
                </a:cubicBezTo>
                <a:cubicBezTo>
                  <a:pt x="229" y="3"/>
                  <a:pt x="252" y="15"/>
                  <a:pt x="266" y="12"/>
                </a:cubicBezTo>
                <a:cubicBezTo>
                  <a:pt x="277" y="18"/>
                  <a:pt x="286" y="34"/>
                  <a:pt x="299" y="39"/>
                </a:cubicBezTo>
                <a:cubicBezTo>
                  <a:pt x="321" y="53"/>
                  <a:pt x="325" y="84"/>
                  <a:pt x="333" y="109"/>
                </a:cubicBezTo>
                <a:cubicBezTo>
                  <a:pt x="352" y="136"/>
                  <a:pt x="363" y="170"/>
                  <a:pt x="358" y="203"/>
                </a:cubicBezTo>
                <a:cubicBezTo>
                  <a:pt x="365" y="213"/>
                  <a:pt x="369" y="228"/>
                  <a:pt x="370" y="241"/>
                </a:cubicBezTo>
                <a:cubicBezTo>
                  <a:pt x="376" y="250"/>
                  <a:pt x="379" y="258"/>
                  <a:pt x="384" y="267"/>
                </a:cubicBezTo>
                <a:cubicBezTo>
                  <a:pt x="405" y="285"/>
                  <a:pt x="401" y="281"/>
                  <a:pt x="424" y="278"/>
                </a:cubicBezTo>
                <a:cubicBezTo>
                  <a:pt x="464" y="234"/>
                  <a:pt x="445" y="240"/>
                  <a:pt x="470" y="208"/>
                </a:cubicBezTo>
                <a:cubicBezTo>
                  <a:pt x="495" y="186"/>
                  <a:pt x="542" y="162"/>
                  <a:pt x="562" y="163"/>
                </a:cubicBezTo>
                <a:cubicBezTo>
                  <a:pt x="578" y="158"/>
                  <a:pt x="600" y="181"/>
                  <a:pt x="616" y="186"/>
                </a:cubicBezTo>
                <a:cubicBezTo>
                  <a:pt x="641" y="203"/>
                  <a:pt x="647" y="241"/>
                  <a:pt x="626" y="274"/>
                </a:cubicBezTo>
                <a:cubicBezTo>
                  <a:pt x="586" y="310"/>
                  <a:pt x="542" y="316"/>
                  <a:pt x="496" y="344"/>
                </a:cubicBezTo>
                <a:cubicBezTo>
                  <a:pt x="459" y="389"/>
                  <a:pt x="473" y="369"/>
                  <a:pt x="487" y="412"/>
                </a:cubicBezTo>
                <a:cubicBezTo>
                  <a:pt x="501" y="429"/>
                  <a:pt x="514" y="448"/>
                  <a:pt x="525" y="468"/>
                </a:cubicBezTo>
                <a:cubicBezTo>
                  <a:pt x="548" y="498"/>
                  <a:pt x="572" y="528"/>
                  <a:pt x="599" y="55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4952880"/>
            <a:ext cx="1087560" cy="110808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21137400">
            <a:off x="990720" y="441972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143000" y="4343400"/>
            <a:ext cx="3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71600" y="4419720"/>
            <a:ext cx="2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754280" y="4267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rot="21221400">
            <a:off x="1906920" y="411444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135160" y="411480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84360" y="5167440"/>
            <a:ext cx="639360" cy="476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0" y="5757480"/>
            <a:ext cx="577800" cy="820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54880" y="47242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707160" y="46483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60160" y="472428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418040" y="5409720"/>
            <a:ext cx="149760" cy="19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320920" y="5115600"/>
            <a:ext cx="235080" cy="20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0" y="5715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267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5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6483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800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80988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62520" y="3657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11480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343400" y="36576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495680" y="35812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648320" y="35053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14300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29528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52388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 flipV="1">
            <a:off x="1752480" y="4190760"/>
            <a:ext cx="152640" cy="152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1904760" y="4114800"/>
            <a:ext cx="152280" cy="763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2057040" y="4038480"/>
            <a:ext cx="15228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828800" y="5638680"/>
            <a:ext cx="1066680" cy="6098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" y="627696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Пептидна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5300280"/>
            <a:ext cx="604800" cy="8204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971800" y="5562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-0.03885 C 0.08785 -0.01966 0.13403 -0.000229999999999999 0.15278 0.00763 E">
                                      <p:cBhvr>
                                        <p:cTn id="371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ое последовательное считывание рибосомой заключенного в и-РНК «текста» продолжается до тех пор, пока процесс не доходит до одного из стоп-кодонов (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терминальных кодонов)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Такими триплетами являются триплеты УАА, УАГ,УГ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дна молекула мРНК может заключать в себе инструкции для синтеза нескольких полипептидных нитей. Кроме того, большинство молекул                  и-РНК транслируется в белок много раз, так как к одной молекуле и-РНК  прикрепляется обычно много рибосо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28954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90720" y="3200400"/>
            <a:ext cx="457200" cy="38088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286000" y="2819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3124080"/>
            <a:ext cx="457200" cy="38124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657600" y="3048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257800" y="3352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81480" y="3657600"/>
            <a:ext cx="533520" cy="45720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3048120"/>
            <a:ext cx="304560" cy="30456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629400" y="33526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68160" y="3110040"/>
            <a:ext cx="6850080" cy="583920"/>
          </a:xfrm>
          <a:custGeom>
            <a:avLst/>
            <a:gdLst/>
            <a:ahLst/>
            <a:rect l="l" t="t" r="r" b="b"/>
            <a:pathLst>
              <a:path w="4315" h="368">
                <a:moveTo>
                  <a:pt x="0" y="107"/>
                </a:moveTo>
                <a:cubicBezTo>
                  <a:pt x="39" y="94"/>
                  <a:pt x="69" y="75"/>
                  <a:pt x="109" y="62"/>
                </a:cubicBezTo>
                <a:cubicBezTo>
                  <a:pt x="118" y="59"/>
                  <a:pt x="128" y="55"/>
                  <a:pt x="137" y="52"/>
                </a:cubicBezTo>
                <a:cubicBezTo>
                  <a:pt x="146" y="49"/>
                  <a:pt x="164" y="43"/>
                  <a:pt x="164" y="43"/>
                </a:cubicBezTo>
                <a:cubicBezTo>
                  <a:pt x="321" y="50"/>
                  <a:pt x="476" y="67"/>
                  <a:pt x="630" y="98"/>
                </a:cubicBezTo>
                <a:cubicBezTo>
                  <a:pt x="764" y="104"/>
                  <a:pt x="723" y="97"/>
                  <a:pt x="785" y="93"/>
                </a:cubicBezTo>
                <a:cubicBezTo>
                  <a:pt x="842" y="86"/>
                  <a:pt x="927" y="64"/>
                  <a:pt x="971" y="54"/>
                </a:cubicBezTo>
                <a:cubicBezTo>
                  <a:pt x="983" y="52"/>
                  <a:pt x="1029" y="42"/>
                  <a:pt x="1051" y="34"/>
                </a:cubicBezTo>
                <a:cubicBezTo>
                  <a:pt x="1073" y="26"/>
                  <a:pt x="1084" y="12"/>
                  <a:pt x="1106" y="7"/>
                </a:cubicBezTo>
                <a:cubicBezTo>
                  <a:pt x="1125" y="2"/>
                  <a:pt x="1166" y="9"/>
                  <a:pt x="1184" y="3"/>
                </a:cubicBezTo>
                <a:cubicBezTo>
                  <a:pt x="1193" y="0"/>
                  <a:pt x="1235" y="12"/>
                  <a:pt x="1235" y="12"/>
                </a:cubicBezTo>
                <a:cubicBezTo>
                  <a:pt x="1330" y="24"/>
                  <a:pt x="1255" y="17"/>
                  <a:pt x="1334" y="43"/>
                </a:cubicBezTo>
                <a:cubicBezTo>
                  <a:pt x="1343" y="46"/>
                  <a:pt x="1362" y="52"/>
                  <a:pt x="1362" y="52"/>
                </a:cubicBezTo>
                <a:cubicBezTo>
                  <a:pt x="1405" y="98"/>
                  <a:pt x="1495" y="105"/>
                  <a:pt x="1554" y="116"/>
                </a:cubicBezTo>
                <a:cubicBezTo>
                  <a:pt x="1599" y="125"/>
                  <a:pt x="1647" y="131"/>
                  <a:pt x="1691" y="144"/>
                </a:cubicBezTo>
                <a:cubicBezTo>
                  <a:pt x="1719" y="152"/>
                  <a:pt x="1745" y="167"/>
                  <a:pt x="1773" y="171"/>
                </a:cubicBezTo>
                <a:cubicBezTo>
                  <a:pt x="1868" y="184"/>
                  <a:pt x="1825" y="159"/>
                  <a:pt x="1938" y="171"/>
                </a:cubicBezTo>
                <a:cubicBezTo>
                  <a:pt x="2113" y="160"/>
                  <a:pt x="2088" y="174"/>
                  <a:pt x="2267" y="190"/>
                </a:cubicBezTo>
                <a:cubicBezTo>
                  <a:pt x="2337" y="196"/>
                  <a:pt x="2404" y="239"/>
                  <a:pt x="2468" y="263"/>
                </a:cubicBezTo>
                <a:cubicBezTo>
                  <a:pt x="2517" y="282"/>
                  <a:pt x="2573" y="290"/>
                  <a:pt x="2624" y="299"/>
                </a:cubicBezTo>
                <a:cubicBezTo>
                  <a:pt x="2672" y="308"/>
                  <a:pt x="2715" y="321"/>
                  <a:pt x="2761" y="336"/>
                </a:cubicBezTo>
                <a:cubicBezTo>
                  <a:pt x="2810" y="352"/>
                  <a:pt x="2864" y="342"/>
                  <a:pt x="2916" y="345"/>
                </a:cubicBezTo>
                <a:cubicBezTo>
                  <a:pt x="3032" y="368"/>
                  <a:pt x="3148" y="349"/>
                  <a:pt x="3264" y="336"/>
                </a:cubicBezTo>
                <a:cubicBezTo>
                  <a:pt x="3394" y="321"/>
                  <a:pt x="3523" y="294"/>
                  <a:pt x="3648" y="254"/>
                </a:cubicBezTo>
                <a:cubicBezTo>
                  <a:pt x="3691" y="224"/>
                  <a:pt x="3664" y="239"/>
                  <a:pt x="3730" y="217"/>
                </a:cubicBezTo>
                <a:cubicBezTo>
                  <a:pt x="3739" y="214"/>
                  <a:pt x="3748" y="211"/>
                  <a:pt x="3757" y="208"/>
                </a:cubicBezTo>
                <a:cubicBezTo>
                  <a:pt x="3766" y="205"/>
                  <a:pt x="3785" y="199"/>
                  <a:pt x="3785" y="199"/>
                </a:cubicBezTo>
                <a:cubicBezTo>
                  <a:pt x="3821" y="161"/>
                  <a:pt x="3882" y="165"/>
                  <a:pt x="3931" y="153"/>
                </a:cubicBezTo>
                <a:cubicBezTo>
                  <a:pt x="4004" y="135"/>
                  <a:pt x="4077" y="123"/>
                  <a:pt x="4150" y="107"/>
                </a:cubicBezTo>
                <a:cubicBezTo>
                  <a:pt x="4203" y="95"/>
                  <a:pt x="4260" y="80"/>
                  <a:pt x="4315" y="8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13320" y="24987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-РНК на рибосом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85680" y="3208320"/>
            <a:ext cx="614520" cy="2351160"/>
          </a:xfrm>
          <a:custGeom>
            <a:avLst/>
            <a:gdLst/>
            <a:ahLst/>
            <a:rect l="l" t="t" r="r" b="b"/>
            <a:pathLst>
              <a:path w="387" h="1481">
                <a:moveTo>
                  <a:pt x="147" y="0"/>
                </a:moveTo>
                <a:cubicBezTo>
                  <a:pt x="209" y="93"/>
                  <a:pt x="179" y="196"/>
                  <a:pt x="83" y="228"/>
                </a:cubicBezTo>
                <a:cubicBezTo>
                  <a:pt x="68" y="225"/>
                  <a:pt x="47" y="231"/>
                  <a:pt x="37" y="219"/>
                </a:cubicBezTo>
                <a:cubicBezTo>
                  <a:pt x="10" y="185"/>
                  <a:pt x="64" y="176"/>
                  <a:pt x="74" y="173"/>
                </a:cubicBezTo>
                <a:cubicBezTo>
                  <a:pt x="116" y="184"/>
                  <a:pt x="132" y="192"/>
                  <a:pt x="156" y="228"/>
                </a:cubicBezTo>
                <a:cubicBezTo>
                  <a:pt x="168" y="265"/>
                  <a:pt x="181" y="301"/>
                  <a:pt x="193" y="338"/>
                </a:cubicBezTo>
                <a:cubicBezTo>
                  <a:pt x="187" y="414"/>
                  <a:pt x="195" y="503"/>
                  <a:pt x="110" y="530"/>
                </a:cubicBezTo>
                <a:cubicBezTo>
                  <a:pt x="75" y="554"/>
                  <a:pt x="38" y="560"/>
                  <a:pt x="19" y="603"/>
                </a:cubicBezTo>
                <a:cubicBezTo>
                  <a:pt x="11" y="621"/>
                  <a:pt x="1" y="658"/>
                  <a:pt x="1" y="658"/>
                </a:cubicBezTo>
                <a:cubicBezTo>
                  <a:pt x="4" y="691"/>
                  <a:pt x="0" y="778"/>
                  <a:pt x="46" y="804"/>
                </a:cubicBezTo>
                <a:cubicBezTo>
                  <a:pt x="71" y="818"/>
                  <a:pt x="101" y="815"/>
                  <a:pt x="129" y="822"/>
                </a:cubicBezTo>
                <a:cubicBezTo>
                  <a:pt x="165" y="860"/>
                  <a:pt x="261" y="882"/>
                  <a:pt x="312" y="896"/>
                </a:cubicBezTo>
                <a:cubicBezTo>
                  <a:pt x="344" y="917"/>
                  <a:pt x="363" y="918"/>
                  <a:pt x="385" y="950"/>
                </a:cubicBezTo>
                <a:cubicBezTo>
                  <a:pt x="382" y="990"/>
                  <a:pt x="387" y="1031"/>
                  <a:pt x="376" y="1069"/>
                </a:cubicBezTo>
                <a:cubicBezTo>
                  <a:pt x="373" y="1078"/>
                  <a:pt x="356" y="1073"/>
                  <a:pt x="348" y="1078"/>
                </a:cubicBezTo>
                <a:cubicBezTo>
                  <a:pt x="341" y="1083"/>
                  <a:pt x="337" y="1092"/>
                  <a:pt x="330" y="1097"/>
                </a:cubicBezTo>
                <a:cubicBezTo>
                  <a:pt x="312" y="1110"/>
                  <a:pt x="293" y="1121"/>
                  <a:pt x="275" y="1133"/>
                </a:cubicBezTo>
                <a:cubicBezTo>
                  <a:pt x="244" y="1153"/>
                  <a:pt x="271" y="1151"/>
                  <a:pt x="238" y="1170"/>
                </a:cubicBezTo>
                <a:cubicBezTo>
                  <a:pt x="228" y="1176"/>
                  <a:pt x="182" y="1186"/>
                  <a:pt x="174" y="1188"/>
                </a:cubicBezTo>
                <a:cubicBezTo>
                  <a:pt x="148" y="1215"/>
                  <a:pt x="132" y="1234"/>
                  <a:pt x="120" y="1270"/>
                </a:cubicBezTo>
                <a:cubicBezTo>
                  <a:pt x="123" y="1325"/>
                  <a:pt x="138" y="1416"/>
                  <a:pt x="138" y="148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0" y="3124080"/>
            <a:ext cx="700200" cy="2597400"/>
          </a:xfrm>
          <a:custGeom>
            <a:avLst/>
            <a:gdLst/>
            <a:ahLst/>
            <a:rect l="l" t="t" r="r" b="b"/>
            <a:pathLst>
              <a:path w="441" h="1636">
                <a:moveTo>
                  <a:pt x="93" y="0"/>
                </a:moveTo>
                <a:cubicBezTo>
                  <a:pt x="64" y="44"/>
                  <a:pt x="62" y="37"/>
                  <a:pt x="47" y="91"/>
                </a:cubicBezTo>
                <a:cubicBezTo>
                  <a:pt x="42" y="110"/>
                  <a:pt x="29" y="146"/>
                  <a:pt x="29" y="146"/>
                </a:cubicBezTo>
                <a:cubicBezTo>
                  <a:pt x="18" y="215"/>
                  <a:pt x="0" y="304"/>
                  <a:pt x="38" y="366"/>
                </a:cubicBezTo>
                <a:cubicBezTo>
                  <a:pt x="52" y="388"/>
                  <a:pt x="77" y="409"/>
                  <a:pt x="93" y="430"/>
                </a:cubicBezTo>
                <a:cubicBezTo>
                  <a:pt x="117" y="460"/>
                  <a:pt x="129" y="472"/>
                  <a:pt x="166" y="484"/>
                </a:cubicBezTo>
                <a:cubicBezTo>
                  <a:pt x="202" y="520"/>
                  <a:pt x="215" y="571"/>
                  <a:pt x="249" y="603"/>
                </a:cubicBezTo>
                <a:cubicBezTo>
                  <a:pt x="262" y="643"/>
                  <a:pt x="290" y="673"/>
                  <a:pt x="303" y="713"/>
                </a:cubicBezTo>
                <a:cubicBezTo>
                  <a:pt x="300" y="750"/>
                  <a:pt x="307" y="789"/>
                  <a:pt x="294" y="823"/>
                </a:cubicBezTo>
                <a:cubicBezTo>
                  <a:pt x="276" y="868"/>
                  <a:pt x="201" y="907"/>
                  <a:pt x="166" y="942"/>
                </a:cubicBezTo>
                <a:cubicBezTo>
                  <a:pt x="143" y="1012"/>
                  <a:pt x="177" y="927"/>
                  <a:pt x="130" y="987"/>
                </a:cubicBezTo>
                <a:cubicBezTo>
                  <a:pt x="124" y="995"/>
                  <a:pt x="125" y="1006"/>
                  <a:pt x="121" y="1015"/>
                </a:cubicBezTo>
                <a:cubicBezTo>
                  <a:pt x="116" y="1025"/>
                  <a:pt x="108" y="1033"/>
                  <a:pt x="102" y="1042"/>
                </a:cubicBezTo>
                <a:cubicBezTo>
                  <a:pt x="105" y="1103"/>
                  <a:pt x="103" y="1164"/>
                  <a:pt x="111" y="1225"/>
                </a:cubicBezTo>
                <a:cubicBezTo>
                  <a:pt x="114" y="1251"/>
                  <a:pt x="178" y="1284"/>
                  <a:pt x="185" y="1289"/>
                </a:cubicBezTo>
                <a:cubicBezTo>
                  <a:pt x="201" y="1300"/>
                  <a:pt x="212" y="1318"/>
                  <a:pt x="230" y="1326"/>
                </a:cubicBezTo>
                <a:cubicBezTo>
                  <a:pt x="253" y="1336"/>
                  <a:pt x="279" y="1336"/>
                  <a:pt x="303" y="1344"/>
                </a:cubicBezTo>
                <a:cubicBezTo>
                  <a:pt x="408" y="1335"/>
                  <a:pt x="412" y="1358"/>
                  <a:pt x="441" y="1280"/>
                </a:cubicBezTo>
                <a:cubicBezTo>
                  <a:pt x="438" y="1246"/>
                  <a:pt x="441" y="1211"/>
                  <a:pt x="431" y="1179"/>
                </a:cubicBezTo>
                <a:cubicBezTo>
                  <a:pt x="426" y="1164"/>
                  <a:pt x="388" y="1157"/>
                  <a:pt x="377" y="1152"/>
                </a:cubicBezTo>
                <a:cubicBezTo>
                  <a:pt x="348" y="1138"/>
                  <a:pt x="325" y="1125"/>
                  <a:pt x="294" y="1115"/>
                </a:cubicBezTo>
                <a:cubicBezTo>
                  <a:pt x="197" y="1127"/>
                  <a:pt x="239" y="1120"/>
                  <a:pt x="175" y="1161"/>
                </a:cubicBezTo>
                <a:cubicBezTo>
                  <a:pt x="169" y="1170"/>
                  <a:pt x="161" y="1178"/>
                  <a:pt x="157" y="1188"/>
                </a:cubicBezTo>
                <a:cubicBezTo>
                  <a:pt x="149" y="1206"/>
                  <a:pt x="139" y="1243"/>
                  <a:pt x="139" y="1243"/>
                </a:cubicBezTo>
                <a:cubicBezTo>
                  <a:pt x="117" y="1396"/>
                  <a:pt x="139" y="1215"/>
                  <a:pt x="139" y="1508"/>
                </a:cubicBezTo>
                <a:cubicBezTo>
                  <a:pt x="139" y="1545"/>
                  <a:pt x="145" y="1585"/>
                  <a:pt x="130" y="1618"/>
                </a:cubicBezTo>
                <a:cubicBezTo>
                  <a:pt x="123" y="1632"/>
                  <a:pt x="99" y="1623"/>
                  <a:pt x="84" y="1627"/>
                </a:cubicBezTo>
                <a:cubicBezTo>
                  <a:pt x="75" y="1629"/>
                  <a:pt x="57" y="1636"/>
                  <a:pt x="57" y="163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801960" y="3379680"/>
            <a:ext cx="378000" cy="1938600"/>
          </a:xfrm>
          <a:custGeom>
            <a:avLst/>
            <a:gdLst/>
            <a:ahLst/>
            <a:rect l="l" t="t" r="r" b="b"/>
            <a:pathLst>
              <a:path w="238" h="1221">
                <a:moveTo>
                  <a:pt x="0" y="1"/>
                </a:moveTo>
                <a:cubicBezTo>
                  <a:pt x="12" y="4"/>
                  <a:pt x="29" y="0"/>
                  <a:pt x="37" y="10"/>
                </a:cubicBezTo>
                <a:cubicBezTo>
                  <a:pt x="50" y="25"/>
                  <a:pt x="55" y="65"/>
                  <a:pt x="55" y="65"/>
                </a:cubicBezTo>
                <a:cubicBezTo>
                  <a:pt x="64" y="138"/>
                  <a:pt x="67" y="236"/>
                  <a:pt x="101" y="303"/>
                </a:cubicBezTo>
                <a:cubicBezTo>
                  <a:pt x="117" y="334"/>
                  <a:pt x="173" y="395"/>
                  <a:pt x="202" y="422"/>
                </a:cubicBezTo>
                <a:cubicBezTo>
                  <a:pt x="223" y="487"/>
                  <a:pt x="209" y="461"/>
                  <a:pt x="238" y="504"/>
                </a:cubicBezTo>
                <a:cubicBezTo>
                  <a:pt x="235" y="541"/>
                  <a:pt x="236" y="578"/>
                  <a:pt x="229" y="614"/>
                </a:cubicBezTo>
                <a:cubicBezTo>
                  <a:pt x="222" y="650"/>
                  <a:pt x="121" y="720"/>
                  <a:pt x="83" y="733"/>
                </a:cubicBezTo>
                <a:cubicBezTo>
                  <a:pt x="57" y="758"/>
                  <a:pt x="40" y="798"/>
                  <a:pt x="28" y="833"/>
                </a:cubicBezTo>
                <a:cubicBezTo>
                  <a:pt x="35" y="892"/>
                  <a:pt x="40" y="941"/>
                  <a:pt x="101" y="961"/>
                </a:cubicBezTo>
                <a:cubicBezTo>
                  <a:pt x="134" y="1063"/>
                  <a:pt x="137" y="984"/>
                  <a:pt x="119" y="1172"/>
                </a:cubicBezTo>
                <a:cubicBezTo>
                  <a:pt x="117" y="1192"/>
                  <a:pt x="106" y="1213"/>
                  <a:pt x="83" y="1217"/>
                </a:cubicBezTo>
                <a:cubicBezTo>
                  <a:pt x="56" y="1221"/>
                  <a:pt x="28" y="1217"/>
                  <a:pt x="0" y="1217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914400" y="5545080"/>
            <a:ext cx="304920" cy="782640"/>
          </a:xfrm>
          <a:custGeom>
            <a:avLst/>
            <a:gdLst/>
            <a:ahLst/>
            <a:rect l="l" t="t" r="r" b="b"/>
            <a:pathLst>
              <a:path w="192" h="493">
                <a:moveTo>
                  <a:pt x="183" y="0"/>
                </a:moveTo>
                <a:cubicBezTo>
                  <a:pt x="186" y="39"/>
                  <a:pt x="192" y="79"/>
                  <a:pt x="192" y="118"/>
                </a:cubicBezTo>
                <a:cubicBezTo>
                  <a:pt x="192" y="217"/>
                  <a:pt x="170" y="400"/>
                  <a:pt x="55" y="438"/>
                </a:cubicBezTo>
                <a:cubicBezTo>
                  <a:pt x="37" y="457"/>
                  <a:pt x="18" y="475"/>
                  <a:pt x="0" y="493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24320" y="3672000"/>
            <a:ext cx="755640" cy="1060200"/>
          </a:xfrm>
          <a:custGeom>
            <a:avLst/>
            <a:gdLst/>
            <a:ahLst/>
            <a:rect l="l" t="t" r="r" b="b"/>
            <a:pathLst>
              <a:path w="476" h="668">
                <a:moveTo>
                  <a:pt x="147" y="0"/>
                </a:moveTo>
                <a:cubicBezTo>
                  <a:pt x="163" y="48"/>
                  <a:pt x="167" y="66"/>
                  <a:pt x="202" y="101"/>
                </a:cubicBezTo>
                <a:cubicBezTo>
                  <a:pt x="222" y="183"/>
                  <a:pt x="212" y="150"/>
                  <a:pt x="229" y="201"/>
                </a:cubicBezTo>
                <a:cubicBezTo>
                  <a:pt x="226" y="256"/>
                  <a:pt x="227" y="311"/>
                  <a:pt x="220" y="366"/>
                </a:cubicBezTo>
                <a:cubicBezTo>
                  <a:pt x="211" y="443"/>
                  <a:pt x="155" y="458"/>
                  <a:pt x="101" y="494"/>
                </a:cubicBezTo>
                <a:cubicBezTo>
                  <a:pt x="77" y="491"/>
                  <a:pt x="48" y="499"/>
                  <a:pt x="28" y="485"/>
                </a:cubicBezTo>
                <a:cubicBezTo>
                  <a:pt x="12" y="474"/>
                  <a:pt x="10" y="430"/>
                  <a:pt x="10" y="430"/>
                </a:cubicBezTo>
                <a:cubicBezTo>
                  <a:pt x="13" y="409"/>
                  <a:pt x="0" y="376"/>
                  <a:pt x="19" y="366"/>
                </a:cubicBezTo>
                <a:cubicBezTo>
                  <a:pt x="45" y="352"/>
                  <a:pt x="105" y="373"/>
                  <a:pt x="138" y="384"/>
                </a:cubicBezTo>
                <a:cubicBezTo>
                  <a:pt x="144" y="393"/>
                  <a:pt x="148" y="404"/>
                  <a:pt x="156" y="412"/>
                </a:cubicBezTo>
                <a:cubicBezTo>
                  <a:pt x="164" y="420"/>
                  <a:pt x="176" y="422"/>
                  <a:pt x="183" y="430"/>
                </a:cubicBezTo>
                <a:cubicBezTo>
                  <a:pt x="189" y="437"/>
                  <a:pt x="187" y="449"/>
                  <a:pt x="192" y="457"/>
                </a:cubicBezTo>
                <a:cubicBezTo>
                  <a:pt x="203" y="476"/>
                  <a:pt x="229" y="512"/>
                  <a:pt x="229" y="512"/>
                </a:cubicBezTo>
                <a:cubicBezTo>
                  <a:pt x="239" y="542"/>
                  <a:pt x="256" y="564"/>
                  <a:pt x="266" y="594"/>
                </a:cubicBezTo>
                <a:cubicBezTo>
                  <a:pt x="269" y="603"/>
                  <a:pt x="268" y="615"/>
                  <a:pt x="275" y="622"/>
                </a:cubicBezTo>
                <a:cubicBezTo>
                  <a:pt x="282" y="629"/>
                  <a:pt x="293" y="627"/>
                  <a:pt x="302" y="631"/>
                </a:cubicBezTo>
                <a:cubicBezTo>
                  <a:pt x="330" y="645"/>
                  <a:pt x="354" y="657"/>
                  <a:pt x="384" y="668"/>
                </a:cubicBezTo>
                <a:cubicBezTo>
                  <a:pt x="415" y="665"/>
                  <a:pt x="476" y="658"/>
                  <a:pt x="476" y="65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50080" y="3381480"/>
            <a:ext cx="201600" cy="831600"/>
          </a:xfrm>
          <a:custGeom>
            <a:avLst/>
            <a:gdLst/>
            <a:ahLst/>
            <a:rect l="l" t="t" r="r" b="b"/>
            <a:pathLst>
              <a:path w="127" h="524">
                <a:moveTo>
                  <a:pt x="0" y="0"/>
                </a:moveTo>
                <a:cubicBezTo>
                  <a:pt x="6" y="6"/>
                  <a:pt x="14" y="11"/>
                  <a:pt x="19" y="19"/>
                </a:cubicBezTo>
                <a:cubicBezTo>
                  <a:pt x="24" y="27"/>
                  <a:pt x="22" y="38"/>
                  <a:pt x="28" y="46"/>
                </a:cubicBezTo>
                <a:cubicBezTo>
                  <a:pt x="55" y="82"/>
                  <a:pt x="69" y="89"/>
                  <a:pt x="101" y="110"/>
                </a:cubicBezTo>
                <a:cubicBezTo>
                  <a:pt x="127" y="190"/>
                  <a:pt x="119" y="258"/>
                  <a:pt x="92" y="339"/>
                </a:cubicBezTo>
                <a:cubicBezTo>
                  <a:pt x="86" y="357"/>
                  <a:pt x="80" y="375"/>
                  <a:pt x="74" y="393"/>
                </a:cubicBezTo>
                <a:cubicBezTo>
                  <a:pt x="71" y="402"/>
                  <a:pt x="64" y="421"/>
                  <a:pt x="64" y="421"/>
                </a:cubicBezTo>
                <a:cubicBezTo>
                  <a:pt x="67" y="445"/>
                  <a:pt x="69" y="470"/>
                  <a:pt x="74" y="494"/>
                </a:cubicBezTo>
                <a:cubicBezTo>
                  <a:pt x="80" y="524"/>
                  <a:pt x="75" y="521"/>
                  <a:pt x="92" y="52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066680" y="617220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бел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50480" y="5562720"/>
            <a:ext cx="39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конец, ферменты разрушают э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лекулу и-РНК, расщепляя ее 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дельных нуклеот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>
            <a:hlinkClick r:id="rId1" action="ppaction://hlinksldjump"/>
          </p:cNvPr>
          <p:cNvSpPr/>
          <p:nvPr/>
        </p:nvSpPr>
        <p:spPr>
          <a:xfrm>
            <a:off x="83059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0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2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8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0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6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2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5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8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3. Контрольный тес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. Матрицей для синтеза молекулы м-РНК при транскрипции служи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) вся молекула ДН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) полностью одна из цепей молекулы ДН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) участок одной из цепей ДН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) в одних случаях одна из цепей молекулы ДНК, в других– вся   молекула ДН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. Транскрипция происходи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) в ядр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) на рибосома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) в цитоплазм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) на каналах гладкой ЭП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3. Последовательность нуклеотидов в антикодоне т-РНК строго   комплементарна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) триплету, кодирующему бело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) аминокислоте, с которой связана данная  т-РН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) последовательности нуклеотидов ге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) кодону м-РНК, осуществляющему трансляцию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6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6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6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6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6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6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6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6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6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4. Трансляция в клетке осуществляется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) в ядр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) на рибосома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) в цитоплазм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) на каналах гладкой ЭП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5. При трансляции матрицей для сборки полипептидной цепи белка  служа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) обе цепочки ДН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) одна из цепей молекулы ДН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) молекула м-РН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) в одних случаях одна из цепей ДНК, в других– молекула м-РН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6. При  биосинтезе белка в клетке энергия АТФ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) расходуетс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) запасаетс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) не расходуется и не выделяетс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) на одних этапах синтеза расходуется, на других– выделяетс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Исключите лишнее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рибосомы, т-РНК, м-РНК, аминокислоты, ДН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8. Участок молекулы т-РНК из трех нуклеотидов, комплементарн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вязывающийся с определенным участком м-РНК по принципу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мплементарности называется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6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6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6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6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6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6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6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6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6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6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6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6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63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63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9.  Последовательность азотистых оснований в молекуле ДНК следующая: АТТААЦГЦТАТ. Какова будет последовательность  азотистых оснований в м-РНК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) ТААТТГЦГА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) ГЦЦГТТАТЦГ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) УААУЦЦГУТУ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) УААУУГЦГАУ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6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Понимание механизма синтеза белка—результат длительной и сложнейшей работы многих ученых. Это блестящее  достижение сейчас является одним из основных положений биологической науки. Но все же еще многое  из этого процесса осталось за гранью нашего знания. </a:t>
            </a:r>
            <a:r>
              <a:rPr b="0" i="1" lang="en-US" sz="1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А нажав на слово «достижение», вы сможете проверить правильность ответов на тестовые зад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609480" y="114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352680" y="5638680"/>
            <a:ext cx="175284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сти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48440" y="5322240"/>
            <a:ext cx="2995560" cy="916920"/>
          </a:xfrm>
          <a:prstGeom prst="rect">
            <a:avLst/>
          </a:prstGeom>
          <a:solidFill>
            <a:srgbClr val="5f23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В; 2-А; 3-Г; 4-Б; 5-В; 6-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-ДНК; 8-АНТИКОДО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-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rId1" action="ppaction://hlinksldjump"/>
          </p:cNvPr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6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447560" y="456840"/>
            <a:ext cx="7010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иоз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кт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ероксида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емоглоб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амма-глобул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ипопротеин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6200" y="30481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2971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1295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ер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5029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2743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и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14479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рм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29400" y="4952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867280" y="1828800"/>
            <a:ext cx="83844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38680" y="3809880"/>
            <a:ext cx="106704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867280" y="3429000"/>
            <a:ext cx="60984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3124080" y="1904760"/>
            <a:ext cx="91440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2742840" y="3200040"/>
            <a:ext cx="11430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047760" y="3657600"/>
            <a:ext cx="106668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Bookman Old Style"/>
              </a:rPr>
              <a:t>БИОСИНТЕЗ</a:t>
            </a:r>
            <a:br>
              <a:rPr sz="7200"/>
            </a:br>
            <a:r>
              <a:rPr b="1" i="1" lang="en-US" sz="7200" spc="-1" strike="noStrike">
                <a:solidFill>
                  <a:srgbClr val="ffff00"/>
                </a:solidFill>
                <a:latin typeface="Bookman Old Style"/>
              </a:rPr>
              <a:t>БЕЛКА</a:t>
            </a:r>
            <a:br>
              <a:rPr sz="7200"/>
            </a:br>
            <a:endParaRPr b="0" lang="en-US" sz="7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342900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6840" y="3429000"/>
            <a:ext cx="3352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Франсуа Жакоб (р.1920) – французский микробиол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2743200" cy="28018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276280" cy="26510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410080" y="3657600"/>
            <a:ext cx="3353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Жак Люсьен Моно (1910-1976) – французский биохимик  и микроби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3352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НК матриц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и РНК матриц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бе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71800" y="36576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36576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37339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Транскрипция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-7238880" y="16765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914400"/>
            <a:ext cx="86868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вый этап биосинтеза белка—транскрипци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Транскрипция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—это переписывание информации с последовательности нуклеотидов ДНК в последовательность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нуклеотидов РН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2209680"/>
            <a:ext cx="1008000" cy="4648320"/>
          </a:xfrm>
          <a:custGeom>
            <a:avLst/>
            <a:gdLst/>
            <a:ahLst/>
            <a:rect l="l" t="t" r="r" b="b"/>
            <a:pathLst>
              <a:path w="635" h="2928">
                <a:moveTo>
                  <a:pt x="251" y="0"/>
                </a:moveTo>
                <a:cubicBezTo>
                  <a:pt x="135" y="84"/>
                  <a:pt x="19" y="168"/>
                  <a:pt x="59" y="240"/>
                </a:cubicBezTo>
                <a:cubicBezTo>
                  <a:pt x="99" y="312"/>
                  <a:pt x="483" y="352"/>
                  <a:pt x="491" y="432"/>
                </a:cubicBezTo>
                <a:cubicBezTo>
                  <a:pt x="499" y="512"/>
                  <a:pt x="91" y="616"/>
                  <a:pt x="107" y="720"/>
                </a:cubicBezTo>
                <a:cubicBezTo>
                  <a:pt x="123" y="824"/>
                  <a:pt x="603" y="863"/>
                  <a:pt x="587" y="1056"/>
                </a:cubicBezTo>
                <a:cubicBezTo>
                  <a:pt x="571" y="1249"/>
                  <a:pt x="0" y="1567"/>
                  <a:pt x="8" y="1879"/>
                </a:cubicBezTo>
                <a:cubicBezTo>
                  <a:pt x="16" y="2191"/>
                  <a:pt x="505" y="2710"/>
                  <a:pt x="635" y="292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0" y="2286000"/>
            <a:ext cx="1587600" cy="4572000"/>
          </a:xfrm>
          <a:custGeom>
            <a:avLst/>
            <a:gdLst/>
            <a:ahLst/>
            <a:rect l="l" t="t" r="r" b="b"/>
            <a:pathLst>
              <a:path w="1000" h="2880">
                <a:moveTo>
                  <a:pt x="64" y="0"/>
                </a:moveTo>
                <a:cubicBezTo>
                  <a:pt x="236" y="12"/>
                  <a:pt x="408" y="24"/>
                  <a:pt x="400" y="96"/>
                </a:cubicBezTo>
                <a:cubicBezTo>
                  <a:pt x="392" y="168"/>
                  <a:pt x="0" y="336"/>
                  <a:pt x="16" y="432"/>
                </a:cubicBezTo>
                <a:cubicBezTo>
                  <a:pt x="32" y="528"/>
                  <a:pt x="480" y="568"/>
                  <a:pt x="496" y="672"/>
                </a:cubicBezTo>
                <a:cubicBezTo>
                  <a:pt x="512" y="776"/>
                  <a:pt x="32" y="896"/>
                  <a:pt x="112" y="1056"/>
                </a:cubicBezTo>
                <a:cubicBezTo>
                  <a:pt x="192" y="1216"/>
                  <a:pt x="952" y="1328"/>
                  <a:pt x="976" y="1632"/>
                </a:cubicBezTo>
                <a:cubicBezTo>
                  <a:pt x="1000" y="1936"/>
                  <a:pt x="628" y="2408"/>
                  <a:pt x="256" y="2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78760" y="4484520"/>
            <a:ext cx="1522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26120" y="4637160"/>
            <a:ext cx="152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4789440"/>
            <a:ext cx="1522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97520" y="4941720"/>
            <a:ext cx="152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21560" y="50943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21560" y="5246640"/>
            <a:ext cx="1522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97520" y="5398920"/>
            <a:ext cx="152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73840" y="55515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50160" y="5703840"/>
            <a:ext cx="1522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026120" y="5932440"/>
            <a:ext cx="152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78760" y="6084720"/>
            <a:ext cx="1522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54720" y="6237360"/>
            <a:ext cx="152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07360" y="6389640"/>
            <a:ext cx="759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1520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1700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164360" y="44956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12440" y="464832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36120" y="480060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83480" y="4952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5105520"/>
            <a:ext cx="3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34320" y="52578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60160" y="525780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36120" y="5410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86600" y="5562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10280" y="5551560"/>
            <a:ext cx="3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88040" y="57913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28880" y="2286000"/>
            <a:ext cx="965160" cy="4572000"/>
          </a:xfrm>
          <a:custGeom>
            <a:avLst/>
            <a:gdLst/>
            <a:ahLst/>
            <a:rect l="l" t="t" r="r" b="b"/>
            <a:pathLst>
              <a:path w="608" h="2880">
                <a:moveTo>
                  <a:pt x="264" y="0"/>
                </a:moveTo>
                <a:cubicBezTo>
                  <a:pt x="132" y="80"/>
                  <a:pt x="0" y="160"/>
                  <a:pt x="24" y="240"/>
                </a:cubicBezTo>
                <a:cubicBezTo>
                  <a:pt x="48" y="320"/>
                  <a:pt x="408" y="400"/>
                  <a:pt x="408" y="480"/>
                </a:cubicBezTo>
                <a:cubicBezTo>
                  <a:pt x="408" y="560"/>
                  <a:pt x="24" y="624"/>
                  <a:pt x="24" y="720"/>
                </a:cubicBezTo>
                <a:cubicBezTo>
                  <a:pt x="24" y="816"/>
                  <a:pt x="400" y="960"/>
                  <a:pt x="408" y="1056"/>
                </a:cubicBezTo>
                <a:cubicBezTo>
                  <a:pt x="416" y="1152"/>
                  <a:pt x="56" y="1200"/>
                  <a:pt x="72" y="1296"/>
                </a:cubicBezTo>
                <a:cubicBezTo>
                  <a:pt x="88" y="1392"/>
                  <a:pt x="504" y="1528"/>
                  <a:pt x="504" y="1632"/>
                </a:cubicBezTo>
                <a:cubicBezTo>
                  <a:pt x="504" y="1736"/>
                  <a:pt x="72" y="1816"/>
                  <a:pt x="72" y="1920"/>
                </a:cubicBezTo>
                <a:cubicBezTo>
                  <a:pt x="72" y="2024"/>
                  <a:pt x="504" y="2160"/>
                  <a:pt x="504" y="2256"/>
                </a:cubicBezTo>
                <a:cubicBezTo>
                  <a:pt x="504" y="2352"/>
                  <a:pt x="64" y="2416"/>
                  <a:pt x="72" y="2496"/>
                </a:cubicBezTo>
                <a:cubicBezTo>
                  <a:pt x="80" y="2576"/>
                  <a:pt x="496" y="2672"/>
                  <a:pt x="552" y="2736"/>
                </a:cubicBezTo>
                <a:cubicBezTo>
                  <a:pt x="608" y="2800"/>
                  <a:pt x="432" y="2856"/>
                  <a:pt x="408" y="2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2362320"/>
            <a:ext cx="876240" cy="4495680"/>
          </a:xfrm>
          <a:custGeom>
            <a:avLst/>
            <a:gdLst/>
            <a:ahLst/>
            <a:rect l="l" t="t" r="r" b="b"/>
            <a:pathLst>
              <a:path w="552" h="2832">
                <a:moveTo>
                  <a:pt x="104" y="0"/>
                </a:moveTo>
                <a:cubicBezTo>
                  <a:pt x="280" y="40"/>
                  <a:pt x="456" y="80"/>
                  <a:pt x="440" y="144"/>
                </a:cubicBezTo>
                <a:cubicBezTo>
                  <a:pt x="424" y="208"/>
                  <a:pt x="0" y="296"/>
                  <a:pt x="8" y="384"/>
                </a:cubicBezTo>
                <a:cubicBezTo>
                  <a:pt x="16" y="472"/>
                  <a:pt x="480" y="576"/>
                  <a:pt x="488" y="672"/>
                </a:cubicBezTo>
                <a:cubicBezTo>
                  <a:pt x="496" y="768"/>
                  <a:pt x="48" y="856"/>
                  <a:pt x="56" y="960"/>
                </a:cubicBezTo>
                <a:cubicBezTo>
                  <a:pt x="64" y="1064"/>
                  <a:pt x="520" y="1192"/>
                  <a:pt x="536" y="1296"/>
                </a:cubicBezTo>
                <a:cubicBezTo>
                  <a:pt x="552" y="1400"/>
                  <a:pt x="152" y="1480"/>
                  <a:pt x="152" y="1584"/>
                </a:cubicBezTo>
                <a:cubicBezTo>
                  <a:pt x="152" y="1688"/>
                  <a:pt x="552" y="1816"/>
                  <a:pt x="536" y="1920"/>
                </a:cubicBezTo>
                <a:cubicBezTo>
                  <a:pt x="520" y="2024"/>
                  <a:pt x="56" y="2112"/>
                  <a:pt x="56" y="2208"/>
                </a:cubicBezTo>
                <a:cubicBezTo>
                  <a:pt x="56" y="2304"/>
                  <a:pt x="528" y="2424"/>
                  <a:pt x="536" y="2496"/>
                </a:cubicBezTo>
                <a:cubicBezTo>
                  <a:pt x="544" y="2568"/>
                  <a:pt x="152" y="2584"/>
                  <a:pt x="104" y="2640"/>
                </a:cubicBezTo>
                <a:cubicBezTo>
                  <a:pt x="56" y="2696"/>
                  <a:pt x="224" y="2800"/>
                  <a:pt x="248" y="283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57400" y="57150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2362320"/>
            <a:ext cx="4648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пределенном участке ДНК под действием ферментов белки-гистоны отделяются, водородные связи рвутся, и двойная спираль ДНК раскручивается. Одна из цепочек становится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матрицей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построения и-РНК. Участок ДНК в определенном месте начинает раскручиваться под действием фер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480" y="6335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162560" y="4191120"/>
            <a:ext cx="990360" cy="99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848360" y="38862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матр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6324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Д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атем на основе матрицы под действием фермента РНК-полимеразы из свободных нуклеотидов по принципу комплементарности начинается сборка мРНК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371600"/>
            <a:ext cx="1333440" cy="5486400"/>
          </a:xfrm>
          <a:custGeom>
            <a:avLst/>
            <a:gdLst/>
            <a:ahLst/>
            <a:rect l="l" t="t" r="r" b="b"/>
            <a:pathLst>
              <a:path w="840" h="3456">
                <a:moveTo>
                  <a:pt x="640" y="0"/>
                </a:moveTo>
                <a:cubicBezTo>
                  <a:pt x="528" y="48"/>
                  <a:pt x="416" y="96"/>
                  <a:pt x="448" y="192"/>
                </a:cubicBezTo>
                <a:cubicBezTo>
                  <a:pt x="480" y="288"/>
                  <a:pt x="840" y="440"/>
                  <a:pt x="832" y="576"/>
                </a:cubicBezTo>
                <a:cubicBezTo>
                  <a:pt x="824" y="712"/>
                  <a:pt x="528" y="832"/>
                  <a:pt x="400" y="1008"/>
                </a:cubicBezTo>
                <a:cubicBezTo>
                  <a:pt x="272" y="1184"/>
                  <a:pt x="128" y="1440"/>
                  <a:pt x="64" y="1632"/>
                </a:cubicBezTo>
                <a:cubicBezTo>
                  <a:pt x="0" y="1824"/>
                  <a:pt x="7" y="1980"/>
                  <a:pt x="16" y="2160"/>
                </a:cubicBezTo>
                <a:cubicBezTo>
                  <a:pt x="25" y="2340"/>
                  <a:pt x="73" y="2555"/>
                  <a:pt x="121" y="2711"/>
                </a:cubicBezTo>
                <a:cubicBezTo>
                  <a:pt x="169" y="2867"/>
                  <a:pt x="234" y="2971"/>
                  <a:pt x="304" y="3095"/>
                </a:cubicBezTo>
                <a:cubicBezTo>
                  <a:pt x="374" y="3219"/>
                  <a:pt x="494" y="3381"/>
                  <a:pt x="544" y="3456"/>
                </a:cubicBez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1335240"/>
            <a:ext cx="1422360" cy="5522760"/>
          </a:xfrm>
          <a:custGeom>
            <a:avLst/>
            <a:gdLst/>
            <a:ahLst/>
            <a:rect l="l" t="t" r="r" b="b"/>
            <a:pathLst>
              <a:path w="896" h="3479">
                <a:moveTo>
                  <a:pt x="89" y="0"/>
                </a:moveTo>
                <a:cubicBezTo>
                  <a:pt x="145" y="37"/>
                  <a:pt x="431" y="115"/>
                  <a:pt x="432" y="215"/>
                </a:cubicBezTo>
                <a:cubicBezTo>
                  <a:pt x="433" y="315"/>
                  <a:pt x="80" y="423"/>
                  <a:pt x="96" y="599"/>
                </a:cubicBezTo>
                <a:cubicBezTo>
                  <a:pt x="112" y="775"/>
                  <a:pt x="416" y="1063"/>
                  <a:pt x="528" y="1271"/>
                </a:cubicBezTo>
                <a:cubicBezTo>
                  <a:pt x="640" y="1479"/>
                  <a:pt x="728" y="1631"/>
                  <a:pt x="768" y="1847"/>
                </a:cubicBezTo>
                <a:cubicBezTo>
                  <a:pt x="808" y="2063"/>
                  <a:pt x="896" y="2295"/>
                  <a:pt x="768" y="2567"/>
                </a:cubicBezTo>
                <a:cubicBezTo>
                  <a:pt x="640" y="2839"/>
                  <a:pt x="136" y="3327"/>
                  <a:pt x="0" y="3479"/>
                </a:cubicBez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30481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3352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3657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962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5105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54864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867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43000" y="6248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6553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95280" y="30481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33880" y="29066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03480" y="32115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27880" y="3211560"/>
            <a:ext cx="33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68840" y="350532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76680" y="382104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00360" y="4202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99640" y="458316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00360" y="496404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76680" y="5345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51560" y="572616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80880" y="61070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76520" y="3048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830600" y="28954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33526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25680" y="3200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36576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73040" y="35053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56840" y="382104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97080" y="41911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43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81600" y="458316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43000" y="5105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80880" y="496404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19320" y="548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80520" y="534528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371600" y="5867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10200" y="572616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23880" y="6248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78320" y="6095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752480" y="3124080"/>
            <a:ext cx="152640" cy="152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600200" y="342900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523880" y="373392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47560" y="411480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479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525780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523880" y="56386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76520" y="594360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057400" y="27428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828800" y="63244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209320" y="2514600"/>
            <a:ext cx="11430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506040" y="220968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-Р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0" y="259092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Между азотистыми основаниями ДНК и  РНК возникают водородные связи, а  между нуклеотидами самой матричной  РНК образуются сложно-эфирные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600200" y="5715000"/>
            <a:ext cx="129528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600200" y="5715000"/>
            <a:ext cx="129528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00200" y="5791320"/>
            <a:ext cx="14479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676520" y="5410080"/>
            <a:ext cx="182880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599840" y="5562720"/>
            <a:ext cx="152388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1599840" y="5334120"/>
            <a:ext cx="15238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78160" y="5181480"/>
            <a:ext cx="174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одо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447560" y="4800600"/>
            <a:ext cx="15238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124800" y="4495680"/>
            <a:ext cx="23828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ложно-эфи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связ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7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5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669760" y="380988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м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39800" y="3813120"/>
            <a:ext cx="3324240" cy="1047960"/>
          </a:xfrm>
          <a:custGeom>
            <a:avLst/>
            <a:gdLst/>
            <a:ahLst/>
            <a:rect l="l" t="t" r="r" b="b"/>
            <a:pathLst>
              <a:path w="2094" h="660">
                <a:moveTo>
                  <a:pt x="0" y="182"/>
                </a:moveTo>
                <a:cubicBezTo>
                  <a:pt x="72" y="153"/>
                  <a:pt x="276" y="24"/>
                  <a:pt x="430" y="12"/>
                </a:cubicBezTo>
                <a:cubicBezTo>
                  <a:pt x="584" y="0"/>
                  <a:pt x="796" y="100"/>
                  <a:pt x="927" y="108"/>
                </a:cubicBezTo>
                <a:cubicBezTo>
                  <a:pt x="1058" y="116"/>
                  <a:pt x="1079" y="53"/>
                  <a:pt x="1215" y="61"/>
                </a:cubicBezTo>
                <a:cubicBezTo>
                  <a:pt x="1351" y="69"/>
                  <a:pt x="1631" y="69"/>
                  <a:pt x="1743" y="155"/>
                </a:cubicBezTo>
                <a:cubicBezTo>
                  <a:pt x="1856" y="242"/>
                  <a:pt x="1845" y="500"/>
                  <a:pt x="1888" y="580"/>
                </a:cubicBezTo>
                <a:cubicBezTo>
                  <a:pt x="1931" y="660"/>
                  <a:pt x="1969" y="621"/>
                  <a:pt x="2003" y="633"/>
                </a:cubicBezTo>
                <a:cubicBezTo>
                  <a:pt x="2037" y="645"/>
                  <a:pt x="2075" y="648"/>
                  <a:pt x="2094" y="652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124080"/>
            <a:ext cx="3200400" cy="3276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ле  сборки мРНК водородные связи между азотистыми основаниями ДНК и мРНК рвутся, и новообразованная мРНК через поры в ядре уходит в цитоплазму, где прикрепляется к рибосомам. А две цепочки ДНК вновь соединяются, восстанавливая двойную спираль, и опять связываются с белками-гистона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РНК присоединяется к  поверхности малой субъединицы в присутствии ионов магния. Причем два ее триплета нуклеотидов оказываются обращенными к большой субъединице рибосом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"/>
          <p:cNvSpPr/>
          <p:nvPr/>
        </p:nvSpPr>
        <p:spPr>
          <a:xfrm>
            <a:off x="684360" y="4489560"/>
            <a:ext cx="3201840" cy="392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41760" y="3960720"/>
            <a:ext cx="759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50292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48006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57150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48120" y="57150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828800" y="37339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14400" y="39625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54864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48769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3352680"/>
            <a:ext cx="7632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61722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828800" y="4495680"/>
            <a:ext cx="7632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29000" y="41911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6172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ЯД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324480" y="32767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248520" y="358128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772400" y="32767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772400" y="35812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686800" y="3733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839080" y="3352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733920" y="48006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072560" y="42274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ибос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34280" y="58276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цитопла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320320" y="2743200"/>
            <a:ext cx="60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i="1" lang="en-US" sz="1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2" action="ppaction://hlinksldjump"/>
          </p:cNvPr>
          <p:cNvSpPr/>
          <p:nvPr/>
        </p:nvSpPr>
        <p:spPr>
          <a:xfrm>
            <a:off x="80773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900"/>
                            </p:stCondLst>
                            <p:childTnLst>
                              <p:par>
                                <p:cTn id="2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78035E-007 C 0.2533 -0.02312 0.50677 -0.04624 0.60834 -0.05549 E">
                                      <p:cBhvr>
                                        <p:cTn id="280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900"/>
                            </p:stCondLst>
                            <p:childTnLst>
                              <p:par>
                                <p:cTn id="2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0439 C 0.18264 -0.06451 0.31806 -0.12462 0.37222 -0.14867 E">
                                      <p:cBhvr>
                                        <p:cTn id="283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8-01-16T11:40:38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