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EB4-AF2D-47DA-AE5C-393CB36E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A3E-06D4-407E-AB33-0E5E3FEF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125-5CBC-4F86-8AE4-C31950AF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4D0-915C-4B49-94D9-32D993C3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9F97-923C-432C-8438-25F5AAC4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5406-6C71-4EA2-900B-3EA15428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E76C-A552-4CFF-9DA0-0DE195B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7295-118C-472D-BE17-08C73332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74D4-02FD-46F0-99E0-35284E99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1F0B-668C-439A-B5CF-BA90FF8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35B8-945F-4587-8573-2C64E79C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CB2-8640-4B97-816E-80657F1F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3147-AD1F-4542-A3AC-B2F886C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F9BF-7068-4277-82C1-547B0EC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2E27-5708-4BC1-BA81-B9F98D59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128E-DA1F-4965-9BE6-D4BAE6E8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A110-FF24-4054-A006-BE4A31CE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AA8F-B666-41E3-BD10-46497619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BFCF-AB02-44DB-9BE3-CD4AFEB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55C6-C3FD-4414-91DB-259F9BEB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4031-98D4-40CC-A662-59DE7CF7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68C03-7846-42C6-8475-37CDD1FD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AE4-3573-4270-8216-FEB4EA3F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BAE1-2785-48D5-AAA2-65FB6971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6639E-DE5D-4D4D-9B2D-B042AC3F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6D28-90D1-4241-897F-2FDB8830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461C4-14A9-44FB-9BFC-E4A94394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E83B-3D50-4126-A779-808AFBF5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B453-202C-4BED-A938-4BA0B730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2FAE2-F8CD-4BEA-A14A-D4847CC7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804A7-EE5A-4CA0-B33D-2F9174A9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6F539-919A-4C3A-807C-6A19A70B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7B8F3-4D4C-4E92-9D36-D54FA8D5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130-B7EE-48DC-AFF1-FB9B3D35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ED0B6-5B0D-4B11-A90A-841E40A1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E38A9-BAB4-40F8-80C4-EF95AD8B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8D6BD-A0F3-45C7-A82F-2460BA2D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22017-F3DF-4B4D-924A-07B7957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3D03C-9339-43F3-98F4-35066F7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E1460-3BC1-48A1-9DC8-0CD2584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C6826-93E1-49BB-999D-D1B17C4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6489B-2406-4FB5-BBD5-5506A539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99F70-B31B-41F8-A88E-A19E9CA2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725B2-10C5-4167-8256-2A2F4588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385-264A-43DF-B1DB-37A503FB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A3970-0457-4169-8894-EC74C145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DABB9-6BB9-4477-89B1-E9C303C1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B8F05-FD08-46D7-A14F-243328CB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064F-5FDB-480E-8BF6-B2FE2D88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F50F7-39B9-4695-B322-3FA76243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B1C30-D583-4954-B83F-E6D77F4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1285B-E9D3-45AD-A7E9-107EAA3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71840-6378-4064-BC57-8A2093A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C65A-8991-44EC-A82D-0B67E783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8D02-5084-4B12-B3CB-39DB8394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080-6571-4FAB-ACE7-3B7A5D43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6C23-5468-40C3-87B9-0A33DCCE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F499-E187-4E12-9B80-08AD3419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A3AE8-7EE3-4B7C-B207-C26D61FD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63FAE-0346-4FE3-BFA5-E699E840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3C165-8571-4348-B44E-0F198381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CECAC-7C87-421B-96C5-8B12DFF1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D2C9-3107-42DA-9D2C-0BC1EF74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57CE4-702A-440C-AB61-CC208DD8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2E020-9B4C-4DEA-8AB8-869B13FC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30C87-72A1-4400-9020-5FDE9EF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811-E6F6-4150-B827-6A9F0C0D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61658-3AF5-4A77-BC4A-1E4ED18A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26FD4-874C-4371-B34C-A613E18B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CF08A-B634-4B31-9E4A-72A83930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6C66-5E76-4777-9CAC-0ECD0044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559D-61D6-4BC1-8F2F-F0CE2254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3313-3958-4082-A946-74722E66B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48F6-D13B-44E0-9AE8-B531E8744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2194-81B7-47E5-A9D5-0640EF06B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9741-9915-4DDC-946D-C34F95BCC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5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38BD-A744-4AC2-BF70-1339E463BF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2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F71D-EB0A-4C8C-A4E5-6E7B2ED039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Материал по курсу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«БИОЛОГИЯ»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 класс,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ема: «БИОСИНТЕЗ БЕЛКА»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Белых Надежда 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учитель би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Красногвардейской специальной (коррекционной) общеобразовательной школы-интерната №25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VI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Трансляция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торой этап биосинтеза– трансляц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Трансляция– перевод последовательности нуклеотидов в последовательность аминокислот белк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цитоплазме  аминокислоты под строгим контролем ферментов аминоацил-тРНК-синтетаз соединяются с тРНК, образуя аминоацил-тРНК. Это очень видоспецифичные реакции: определенный фермент способен узнавать и связывать с соответствующей тРНК только свою аминокислоту.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3886200"/>
            <a:ext cx="4032360" cy="399960"/>
          </a:xfrm>
          <a:custGeom>
            <a:avLst/>
            <a:gdLst/>
            <a:ahLst/>
            <a:rect l="l" t="t" r="r" b="b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/>
            <a:ahLst/>
            <a:rect l="l" t="t" r="r" b="b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480" y="38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8457200">
            <a:off x="2515320" y="533304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11720" y="5734080"/>
            <a:ext cx="1027080" cy="992160"/>
          </a:xfrm>
          <a:custGeom>
            <a:avLst/>
            <a:gdLst/>
            <a:ahLst/>
            <a:rect l="l" t="t" r="r" b="b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40080" y="53341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16040" y="51055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45000" y="5105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68880" y="57150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5560" y="55627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81640" y="549756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41960" y="4100760"/>
            <a:ext cx="63936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589880" y="4024440"/>
            <a:ext cx="639360" cy="476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24680" y="5604840"/>
            <a:ext cx="577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52680" y="5867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29200" y="63244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58 0.09849 -0.23142 0.19722 -0.27778 0.23676 E">
                                      <p:cBhvr>
                                        <p:cTn id="297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0452 0.12717 -0.20886 0.25457 -0.24931 0.30451 E">
                                      <p:cBhvr>
                                        <p:cTn id="300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5348 0.01271 -0.10678 0.02543 -0.12865 0.02959 E">
                                      <p:cBhvr>
                                        <p:cTn id="303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алее тРНК движется к и-РНК и связывается комплементарно своим антикодоном с кодоном и-РНК. Затем второй кодон соединяется с  комплексом второй аминоацил-тРНК, содержащей свой  специфический антикодон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b9efee"/>
                </a:solidFill>
                <a:latin typeface="Garamond"/>
              </a:rPr>
              <a:t>Антикодон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– триплет нуклеотидов на верхушке тРН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1800" spc="-1" strike="noStrike">
                <a:solidFill>
                  <a:srgbClr val="b9efee"/>
                </a:solidFill>
                <a:latin typeface="Garamond"/>
              </a:rPr>
              <a:t>Кодон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– триплет нуклеотидов на и-РНК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09480" y="3886200"/>
            <a:ext cx="4032360" cy="399960"/>
          </a:xfrm>
          <a:custGeom>
            <a:avLst/>
            <a:gdLst/>
            <a:ahLst/>
            <a:rect l="l" t="t" r="r" b="b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/>
            <a:ahLst/>
            <a:rect l="l" t="t" r="r" b="b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8480" y="38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21018600">
            <a:off x="2514240" y="533376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643400">
            <a:off x="4311720" y="5733720"/>
            <a:ext cx="1027080" cy="992160"/>
          </a:xfrm>
          <a:custGeom>
            <a:avLst/>
            <a:gdLst/>
            <a:ahLst/>
            <a:rect l="l" t="t" r="r" b="b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21137400">
            <a:off x="2820960" y="510516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3240" y="502920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02200" y="51055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97480" y="5486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21221400">
            <a:off x="4650120" y="54097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02400" y="54864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5909760"/>
            <a:ext cx="577800" cy="820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151240" y="6396120"/>
            <a:ext cx="639360" cy="476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0" y="5757480"/>
            <a:ext cx="577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56560" y="6028560"/>
            <a:ext cx="11628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987440" y="6411240"/>
            <a:ext cx="235440" cy="2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14300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2952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5238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1752480" y="4190760"/>
            <a:ext cx="15264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04760" y="4114800"/>
            <a:ext cx="15228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2057040" y="4038480"/>
            <a:ext cx="1522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133360" y="2895480"/>
            <a:ext cx="1066680" cy="11430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95000" y="2286000"/>
            <a:ext cx="385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Водородные связи меж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комплементарными нуклеоти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18" dur="1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0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2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4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6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41 -0.00115 -0.07865 -0.000229999999999999 -0.11736 -0.01063 C -0.129 -0.02057 -0.11354 -0.00855 -0.13177 -0.01687 C -0.13351 -0.0178 -0.13473 -0.02011 -0.13646 -0.02127 C -0.1415 -0.02427 -0.14844 -0.02728 -0.154 -0.02959 C -0.15556 -0.03098 -0.15695 -0.03306 -0.15868 -0.03398 C -0.16285 -0.03606 -0.17136 -0.03815 -0.17136 -0.03815 C -0.17396 -0.04161 -0.17674 -0.04531 -0.17934 -0.04878 C -0.1816 -0.05179 -0.18143 -0.0571 -0.18247 -0.06127 C -0.18299 -0.06312 -0.18473 -0.06427 -0.18577 -0.06566 C -0.19132 -0.08809 -0.18247 -0.0541 -0.19045 -0.07838 C -0.19757 -0.09988 -0.18976 -0.08323 -0.19688 -0.09734 C -0.19861 -0.10427 -0.19844 -0.1015 -0.19844 -0.10566 E">
                                      <p:cBhvr>
                                        <p:cTn id="328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2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4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6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48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2 -0.00602 -0.01146 -0.01388 -0.0191 -0.01896 C -0.02656 -0.02914 -0.03716 -0.03677 -0.04757 -0.04023 C -0.05313 -0.0474 -0.05608 -0.0481 -0.06354 -0.05087 C -0.06927 -0.05596 -0.07622 -0.06497 -0.08264 -0.06775 C -0.0882 -0.07885 -0.08247 -0.07052 -0.09202 -0.07607 C -0.09931 -0.08023 -0.10486 -0.08625 -0.11268 -0.08879 C -0.12101 -0.09434 -0.12639 -0.10104 -0.1349 -0.10567 C -0.13959 -0.11191 -0.14132 -0.11769 -0.14757 -0.12047 C -0.1533 -0.1281 -0.15903 -0.13272 -0.16667 -0.13526 C -0.17049 -0.13873 -0.17361 -0.14359 -0.17778 -0.1459 C -0.18177 -0.14821 -0.19045 -0.15006 -0.19045 -0.15006 C -0.1974 -0.157 -0.20295 -0.15954 -0.21111 -0.16278 C -0.21424 -0.16393 -0.22066 -0.16694 -0.22066 -0.16694 C -0.2375 -0.18266 -0.26736 -0.18821 -0.28733 -0.18821 E">
                                      <p:cBhvr>
                                        <p:cTn id="350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сле присоединения к мРНК двух тРНК под действием фермента происходит образование пептидной связи между аминокислотами; первая аминокислота перемещается на вторую тРНК, а освободившаяся первая тРНК уходит. После этого  рибосома передвигается по нити для того, чтобы поставить на рабочее место следующий кодон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3962520"/>
            <a:ext cx="175284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809880" y="320040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33920" y="3886200"/>
            <a:ext cx="1752480" cy="1600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3886200"/>
            <a:ext cx="4032360" cy="399960"/>
          </a:xfrm>
          <a:custGeom>
            <a:avLst/>
            <a:gdLst/>
            <a:ahLst/>
            <a:rect l="l" t="t" r="r" b="b"/>
            <a:pathLst>
              <a:path w="2540" h="252">
                <a:moveTo>
                  <a:pt x="0" y="252"/>
                </a:moveTo>
                <a:cubicBezTo>
                  <a:pt x="17" y="246"/>
                  <a:pt x="19" y="236"/>
                  <a:pt x="32" y="228"/>
                </a:cubicBezTo>
                <a:cubicBezTo>
                  <a:pt x="44" y="221"/>
                  <a:pt x="66" y="217"/>
                  <a:pt x="80" y="212"/>
                </a:cubicBezTo>
                <a:cubicBezTo>
                  <a:pt x="96" y="207"/>
                  <a:pt x="112" y="189"/>
                  <a:pt x="128" y="184"/>
                </a:cubicBezTo>
                <a:cubicBezTo>
                  <a:pt x="144" y="179"/>
                  <a:pt x="160" y="177"/>
                  <a:pt x="176" y="172"/>
                </a:cubicBezTo>
                <a:cubicBezTo>
                  <a:pt x="198" y="165"/>
                  <a:pt x="216" y="192"/>
                  <a:pt x="238" y="182"/>
                </a:cubicBezTo>
                <a:cubicBezTo>
                  <a:pt x="258" y="178"/>
                  <a:pt x="273" y="185"/>
                  <a:pt x="302" y="191"/>
                </a:cubicBezTo>
                <a:cubicBezTo>
                  <a:pt x="331" y="197"/>
                  <a:pt x="379" y="214"/>
                  <a:pt x="411" y="219"/>
                </a:cubicBezTo>
                <a:cubicBezTo>
                  <a:pt x="447" y="204"/>
                  <a:pt x="456" y="224"/>
                  <a:pt x="494" y="219"/>
                </a:cubicBezTo>
                <a:cubicBezTo>
                  <a:pt x="543" y="212"/>
                  <a:pt x="531" y="231"/>
                  <a:pt x="567" y="219"/>
                </a:cubicBezTo>
                <a:cubicBezTo>
                  <a:pt x="595" y="210"/>
                  <a:pt x="574" y="216"/>
                  <a:pt x="603" y="210"/>
                </a:cubicBezTo>
                <a:cubicBezTo>
                  <a:pt x="658" y="199"/>
                  <a:pt x="721" y="150"/>
                  <a:pt x="777" y="146"/>
                </a:cubicBezTo>
                <a:cubicBezTo>
                  <a:pt x="814" y="134"/>
                  <a:pt x="896" y="75"/>
                  <a:pt x="933" y="73"/>
                </a:cubicBezTo>
                <a:cubicBezTo>
                  <a:pt x="992" y="76"/>
                  <a:pt x="1021" y="44"/>
                  <a:pt x="1079" y="54"/>
                </a:cubicBezTo>
                <a:cubicBezTo>
                  <a:pt x="1116" y="69"/>
                  <a:pt x="1248" y="22"/>
                  <a:pt x="1288" y="28"/>
                </a:cubicBezTo>
                <a:cubicBezTo>
                  <a:pt x="1311" y="36"/>
                  <a:pt x="1336" y="36"/>
                  <a:pt x="1360" y="40"/>
                </a:cubicBezTo>
                <a:cubicBezTo>
                  <a:pt x="1423" y="51"/>
                  <a:pt x="1468" y="61"/>
                  <a:pt x="1536" y="64"/>
                </a:cubicBezTo>
                <a:cubicBezTo>
                  <a:pt x="1648" y="61"/>
                  <a:pt x="1672" y="64"/>
                  <a:pt x="1752" y="44"/>
                </a:cubicBezTo>
                <a:cubicBezTo>
                  <a:pt x="1824" y="47"/>
                  <a:pt x="1874" y="48"/>
                  <a:pt x="1940" y="64"/>
                </a:cubicBezTo>
                <a:cubicBezTo>
                  <a:pt x="2075" y="62"/>
                  <a:pt x="2204" y="60"/>
                  <a:pt x="2336" y="44"/>
                </a:cubicBezTo>
                <a:cubicBezTo>
                  <a:pt x="2368" y="33"/>
                  <a:pt x="2392" y="45"/>
                  <a:pt x="2427" y="36"/>
                </a:cubicBezTo>
                <a:cubicBezTo>
                  <a:pt x="2466" y="26"/>
                  <a:pt x="2499" y="0"/>
                  <a:pt x="254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3657600"/>
            <a:ext cx="1181160" cy="241200"/>
          </a:xfrm>
          <a:custGeom>
            <a:avLst/>
            <a:gdLst/>
            <a:ahLst/>
            <a:rect l="l" t="t" r="r" b="b"/>
            <a:pathLst>
              <a:path w="744" h="152">
                <a:moveTo>
                  <a:pt x="0" y="152"/>
                </a:moveTo>
                <a:cubicBezTo>
                  <a:pt x="57" y="144"/>
                  <a:pt x="110" y="119"/>
                  <a:pt x="168" y="112"/>
                </a:cubicBezTo>
                <a:cubicBezTo>
                  <a:pt x="235" y="104"/>
                  <a:pt x="302" y="97"/>
                  <a:pt x="368" y="84"/>
                </a:cubicBezTo>
                <a:cubicBezTo>
                  <a:pt x="412" y="75"/>
                  <a:pt x="455" y="60"/>
                  <a:pt x="500" y="52"/>
                </a:cubicBezTo>
                <a:cubicBezTo>
                  <a:pt x="553" y="42"/>
                  <a:pt x="608" y="37"/>
                  <a:pt x="660" y="24"/>
                </a:cubicBezTo>
                <a:cubicBezTo>
                  <a:pt x="680" y="19"/>
                  <a:pt x="700" y="13"/>
                  <a:pt x="720" y="8"/>
                </a:cubicBezTo>
                <a:cubicBezTo>
                  <a:pt x="728" y="6"/>
                  <a:pt x="744" y="0"/>
                  <a:pt x="7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8120" y="38098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И-Р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1430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95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2880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81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50840" y="39625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203480" y="3962520"/>
            <a:ext cx="26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355760" y="396252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584360" y="3886200"/>
            <a:ext cx="28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36640" y="3809880"/>
            <a:ext cx="2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906200" y="3733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21018600">
            <a:off x="685800" y="4648320"/>
            <a:ext cx="1082520" cy="119052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643400">
            <a:off x="1676520" y="4419360"/>
            <a:ext cx="1027080" cy="992160"/>
          </a:xfrm>
          <a:custGeom>
            <a:avLst/>
            <a:gdLst/>
            <a:ahLst/>
            <a:rect l="l" t="t" r="r" b="b"/>
            <a:pathLst>
              <a:path w="647" h="625">
                <a:moveTo>
                  <a:pt x="541" y="625"/>
                </a:moveTo>
                <a:cubicBezTo>
                  <a:pt x="530" y="608"/>
                  <a:pt x="518" y="591"/>
                  <a:pt x="507" y="574"/>
                </a:cubicBezTo>
                <a:cubicBezTo>
                  <a:pt x="478" y="544"/>
                  <a:pt x="400" y="405"/>
                  <a:pt x="342" y="445"/>
                </a:cubicBezTo>
                <a:cubicBezTo>
                  <a:pt x="326" y="441"/>
                  <a:pt x="305" y="447"/>
                  <a:pt x="292" y="457"/>
                </a:cubicBezTo>
                <a:cubicBezTo>
                  <a:pt x="267" y="468"/>
                  <a:pt x="250" y="477"/>
                  <a:pt x="228" y="495"/>
                </a:cubicBezTo>
                <a:cubicBezTo>
                  <a:pt x="187" y="513"/>
                  <a:pt x="150" y="549"/>
                  <a:pt x="113" y="574"/>
                </a:cubicBezTo>
                <a:cubicBezTo>
                  <a:pt x="94" y="581"/>
                  <a:pt x="74" y="578"/>
                  <a:pt x="56" y="573"/>
                </a:cubicBezTo>
                <a:cubicBezTo>
                  <a:pt x="46" y="566"/>
                  <a:pt x="38" y="563"/>
                  <a:pt x="28" y="556"/>
                </a:cubicBezTo>
                <a:cubicBezTo>
                  <a:pt x="0" y="525"/>
                  <a:pt x="4" y="523"/>
                  <a:pt x="13" y="490"/>
                </a:cubicBezTo>
                <a:cubicBezTo>
                  <a:pt x="32" y="477"/>
                  <a:pt x="29" y="469"/>
                  <a:pt x="47" y="462"/>
                </a:cubicBezTo>
                <a:cubicBezTo>
                  <a:pt x="72" y="446"/>
                  <a:pt x="77" y="452"/>
                  <a:pt x="97" y="438"/>
                </a:cubicBezTo>
                <a:cubicBezTo>
                  <a:pt x="107" y="434"/>
                  <a:pt x="157" y="439"/>
                  <a:pt x="167" y="432"/>
                </a:cubicBezTo>
                <a:cubicBezTo>
                  <a:pt x="206" y="418"/>
                  <a:pt x="249" y="382"/>
                  <a:pt x="278" y="357"/>
                </a:cubicBezTo>
                <a:cubicBezTo>
                  <a:pt x="297" y="335"/>
                  <a:pt x="303" y="329"/>
                  <a:pt x="306" y="304"/>
                </a:cubicBezTo>
                <a:cubicBezTo>
                  <a:pt x="286" y="278"/>
                  <a:pt x="270" y="255"/>
                  <a:pt x="254" y="228"/>
                </a:cubicBezTo>
                <a:cubicBezTo>
                  <a:pt x="250" y="224"/>
                  <a:pt x="184" y="177"/>
                  <a:pt x="181" y="171"/>
                </a:cubicBezTo>
                <a:cubicBezTo>
                  <a:pt x="179" y="168"/>
                  <a:pt x="142" y="140"/>
                  <a:pt x="139" y="137"/>
                </a:cubicBezTo>
                <a:cubicBezTo>
                  <a:pt x="131" y="125"/>
                  <a:pt x="120" y="97"/>
                  <a:pt x="124" y="84"/>
                </a:cubicBezTo>
                <a:cubicBezTo>
                  <a:pt x="124" y="65"/>
                  <a:pt x="122" y="38"/>
                  <a:pt x="137" y="24"/>
                </a:cubicBezTo>
                <a:cubicBezTo>
                  <a:pt x="140" y="2"/>
                  <a:pt x="198" y="5"/>
                  <a:pt x="215" y="0"/>
                </a:cubicBezTo>
                <a:cubicBezTo>
                  <a:pt x="229" y="3"/>
                  <a:pt x="252" y="15"/>
                  <a:pt x="266" y="12"/>
                </a:cubicBezTo>
                <a:cubicBezTo>
                  <a:pt x="277" y="18"/>
                  <a:pt x="286" y="34"/>
                  <a:pt x="299" y="39"/>
                </a:cubicBezTo>
                <a:cubicBezTo>
                  <a:pt x="321" y="53"/>
                  <a:pt x="325" y="84"/>
                  <a:pt x="333" y="109"/>
                </a:cubicBezTo>
                <a:cubicBezTo>
                  <a:pt x="352" y="136"/>
                  <a:pt x="363" y="170"/>
                  <a:pt x="358" y="203"/>
                </a:cubicBezTo>
                <a:cubicBezTo>
                  <a:pt x="365" y="213"/>
                  <a:pt x="369" y="228"/>
                  <a:pt x="370" y="241"/>
                </a:cubicBezTo>
                <a:cubicBezTo>
                  <a:pt x="376" y="250"/>
                  <a:pt x="379" y="258"/>
                  <a:pt x="384" y="267"/>
                </a:cubicBezTo>
                <a:cubicBezTo>
                  <a:pt x="405" y="285"/>
                  <a:pt x="401" y="281"/>
                  <a:pt x="424" y="278"/>
                </a:cubicBezTo>
                <a:cubicBezTo>
                  <a:pt x="464" y="234"/>
                  <a:pt x="445" y="240"/>
                  <a:pt x="470" y="208"/>
                </a:cubicBezTo>
                <a:cubicBezTo>
                  <a:pt x="495" y="186"/>
                  <a:pt x="542" y="162"/>
                  <a:pt x="562" y="163"/>
                </a:cubicBezTo>
                <a:cubicBezTo>
                  <a:pt x="578" y="158"/>
                  <a:pt x="600" y="181"/>
                  <a:pt x="616" y="186"/>
                </a:cubicBezTo>
                <a:cubicBezTo>
                  <a:pt x="641" y="203"/>
                  <a:pt x="647" y="241"/>
                  <a:pt x="626" y="274"/>
                </a:cubicBezTo>
                <a:cubicBezTo>
                  <a:pt x="586" y="310"/>
                  <a:pt x="542" y="316"/>
                  <a:pt x="496" y="344"/>
                </a:cubicBezTo>
                <a:cubicBezTo>
                  <a:pt x="459" y="389"/>
                  <a:pt x="473" y="369"/>
                  <a:pt x="487" y="412"/>
                </a:cubicBezTo>
                <a:cubicBezTo>
                  <a:pt x="501" y="429"/>
                  <a:pt x="514" y="448"/>
                  <a:pt x="525" y="468"/>
                </a:cubicBezTo>
                <a:cubicBezTo>
                  <a:pt x="548" y="498"/>
                  <a:pt x="572" y="528"/>
                  <a:pt x="599" y="55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4952880"/>
            <a:ext cx="1087560" cy="1108080"/>
          </a:xfrm>
          <a:custGeom>
            <a:avLst/>
            <a:gdLst/>
            <a:ahLst/>
            <a:rect l="l" t="t" r="r" b="b"/>
            <a:pathLst>
              <a:path w="342" h="349">
                <a:moveTo>
                  <a:pt x="159" y="349"/>
                </a:moveTo>
                <a:cubicBezTo>
                  <a:pt x="161" y="339"/>
                  <a:pt x="163" y="329"/>
                  <a:pt x="165" y="319"/>
                </a:cubicBezTo>
                <a:cubicBezTo>
                  <a:pt x="165" y="298"/>
                  <a:pt x="185" y="221"/>
                  <a:pt x="151" y="215"/>
                </a:cubicBezTo>
                <a:cubicBezTo>
                  <a:pt x="147" y="208"/>
                  <a:pt x="137" y="203"/>
                  <a:pt x="129" y="202"/>
                </a:cubicBezTo>
                <a:cubicBezTo>
                  <a:pt x="116" y="197"/>
                  <a:pt x="107" y="194"/>
                  <a:pt x="93" y="193"/>
                </a:cubicBezTo>
                <a:cubicBezTo>
                  <a:pt x="72" y="185"/>
                  <a:pt x="46" y="185"/>
                  <a:pt x="24" y="181"/>
                </a:cubicBezTo>
                <a:cubicBezTo>
                  <a:pt x="15" y="177"/>
                  <a:pt x="9" y="169"/>
                  <a:pt x="4" y="161"/>
                </a:cubicBezTo>
                <a:cubicBezTo>
                  <a:pt x="3" y="155"/>
                  <a:pt x="1" y="151"/>
                  <a:pt x="0" y="145"/>
                </a:cubicBezTo>
                <a:cubicBezTo>
                  <a:pt x="1" y="124"/>
                  <a:pt x="3" y="125"/>
                  <a:pt x="18" y="116"/>
                </a:cubicBezTo>
                <a:cubicBezTo>
                  <a:pt x="29" y="118"/>
                  <a:pt x="31" y="114"/>
                  <a:pt x="40" y="118"/>
                </a:cubicBezTo>
                <a:cubicBezTo>
                  <a:pt x="54" y="121"/>
                  <a:pt x="54" y="125"/>
                  <a:pt x="66" y="127"/>
                </a:cubicBezTo>
                <a:cubicBezTo>
                  <a:pt x="71" y="129"/>
                  <a:pt x="87" y="148"/>
                  <a:pt x="93" y="149"/>
                </a:cubicBezTo>
                <a:cubicBezTo>
                  <a:pt x="112" y="158"/>
                  <a:pt x="140" y="160"/>
                  <a:pt x="159" y="161"/>
                </a:cubicBezTo>
                <a:cubicBezTo>
                  <a:pt x="173" y="160"/>
                  <a:pt x="177" y="160"/>
                  <a:pt x="187" y="152"/>
                </a:cubicBezTo>
                <a:cubicBezTo>
                  <a:pt x="189" y="136"/>
                  <a:pt x="191" y="122"/>
                  <a:pt x="195" y="107"/>
                </a:cubicBezTo>
                <a:cubicBezTo>
                  <a:pt x="195" y="104"/>
                  <a:pt x="188" y="64"/>
                  <a:pt x="189" y="61"/>
                </a:cubicBezTo>
                <a:cubicBezTo>
                  <a:pt x="189" y="59"/>
                  <a:pt x="186" y="36"/>
                  <a:pt x="186" y="34"/>
                </a:cubicBezTo>
                <a:cubicBezTo>
                  <a:pt x="187" y="27"/>
                  <a:pt x="193" y="13"/>
                  <a:pt x="199" y="10"/>
                </a:cubicBezTo>
                <a:cubicBezTo>
                  <a:pt x="206" y="6"/>
                  <a:pt x="220" y="6"/>
                  <a:pt x="228" y="7"/>
                </a:cubicBezTo>
                <a:cubicBezTo>
                  <a:pt x="237" y="0"/>
                  <a:pt x="239" y="15"/>
                  <a:pt x="247" y="19"/>
                </a:cubicBezTo>
                <a:cubicBezTo>
                  <a:pt x="251" y="25"/>
                  <a:pt x="253" y="31"/>
                  <a:pt x="259" y="35"/>
                </a:cubicBezTo>
                <a:cubicBezTo>
                  <a:pt x="261" y="41"/>
                  <a:pt x="264" y="47"/>
                  <a:pt x="267" y="53"/>
                </a:cubicBezTo>
                <a:cubicBezTo>
                  <a:pt x="270" y="66"/>
                  <a:pt x="271" y="80"/>
                  <a:pt x="265" y="92"/>
                </a:cubicBezTo>
                <a:cubicBezTo>
                  <a:pt x="262" y="108"/>
                  <a:pt x="254" y="124"/>
                  <a:pt x="241" y="134"/>
                </a:cubicBezTo>
                <a:cubicBezTo>
                  <a:pt x="240" y="140"/>
                  <a:pt x="236" y="147"/>
                  <a:pt x="232" y="152"/>
                </a:cubicBezTo>
                <a:cubicBezTo>
                  <a:pt x="231" y="157"/>
                  <a:pt x="229" y="161"/>
                  <a:pt x="228" y="166"/>
                </a:cubicBezTo>
                <a:cubicBezTo>
                  <a:pt x="229" y="180"/>
                  <a:pt x="229" y="177"/>
                  <a:pt x="238" y="184"/>
                </a:cubicBezTo>
                <a:cubicBezTo>
                  <a:pt x="268" y="182"/>
                  <a:pt x="259" y="178"/>
                  <a:pt x="279" y="175"/>
                </a:cubicBezTo>
                <a:cubicBezTo>
                  <a:pt x="296" y="176"/>
                  <a:pt x="321" y="184"/>
                  <a:pt x="328" y="191"/>
                </a:cubicBezTo>
                <a:cubicBezTo>
                  <a:pt x="335" y="195"/>
                  <a:pt x="335" y="211"/>
                  <a:pt x="339" y="218"/>
                </a:cubicBezTo>
                <a:cubicBezTo>
                  <a:pt x="342" y="233"/>
                  <a:pt x="331" y="249"/>
                  <a:pt x="312" y="253"/>
                </a:cubicBezTo>
                <a:cubicBezTo>
                  <a:pt x="285" y="252"/>
                  <a:pt x="267" y="239"/>
                  <a:pt x="241" y="233"/>
                </a:cubicBezTo>
                <a:cubicBezTo>
                  <a:pt x="212" y="236"/>
                  <a:pt x="224" y="234"/>
                  <a:pt x="214" y="254"/>
                </a:cubicBezTo>
                <a:cubicBezTo>
                  <a:pt x="213" y="265"/>
                  <a:pt x="211" y="276"/>
                  <a:pt x="208" y="287"/>
                </a:cubicBezTo>
                <a:cubicBezTo>
                  <a:pt x="206" y="306"/>
                  <a:pt x="204" y="325"/>
                  <a:pt x="204" y="3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21137400">
            <a:off x="990720" y="441972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143000" y="4343400"/>
            <a:ext cx="31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71600" y="4419720"/>
            <a:ext cx="29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754280" y="4267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rot="21221400">
            <a:off x="1906920" y="41144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135160" y="411480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84360" y="5167440"/>
            <a:ext cx="639360" cy="476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0" y="5757480"/>
            <a:ext cx="577800" cy="8204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54880" y="47242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707160" y="46483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60160" y="472428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418040" y="5409720"/>
            <a:ext cx="149760" cy="19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320920" y="5115600"/>
            <a:ext cx="235080" cy="20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0" y="57150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3962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5680" y="3886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483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006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62520" y="3657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366876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343400" y="3657600"/>
            <a:ext cx="29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95680" y="35812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35053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14300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2952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523880" y="4267080"/>
            <a:ext cx="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1752480" y="4190760"/>
            <a:ext cx="152640" cy="15228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904760" y="4114800"/>
            <a:ext cx="152280" cy="7632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2057040" y="4038480"/>
            <a:ext cx="152280" cy="152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5638680"/>
            <a:ext cx="1066680" cy="6098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627696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Пептидна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ffff66"/>
                </a:solidFill>
                <a:latin typeface="Arial"/>
              </a:rPr>
              <a:t>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5300280"/>
            <a:ext cx="604800" cy="820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/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71800" y="5562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-0.03885 C 0.08785 -0.01966 0.13403 -0.000229999999999999 0.15278 0.00763 E">
                                      <p:cBhvr>
                                        <p:cTn id="371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кое последовательное считывание рибосомой заключенного в и-РНК «текста» продолжается до тех пор, пока процесс не доходит до одного из стоп-кодонов (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терминальных кодонов)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Такими триплетами являются триплеты УАА, УАГ,У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дна молекула мРНК может заключать в себе инструкции для синтеза нескольких полипептидных нитей. Кроме того, большинство молекул                  и-РНК транслируется в белок много раз, так как к одной молекуле и-РНК  прикрепляется обычно много рибос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28954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907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28195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124080"/>
            <a:ext cx="457200" cy="38124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657600" y="3048120"/>
            <a:ext cx="30492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25780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81480" y="3657600"/>
            <a:ext cx="53352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3048120"/>
            <a:ext cx="304560" cy="30456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6294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4dc9a"/>
              </a:gs>
              <a:gs pos="100000">
                <a:srgbClr val="706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68160" y="3110040"/>
            <a:ext cx="6850080" cy="583920"/>
          </a:xfrm>
          <a:custGeom>
            <a:avLst/>
            <a:gdLst/>
            <a:ahLst/>
            <a:rect l="l" t="t" r="r" b="b"/>
            <a:pathLst>
              <a:path w="4315" h="368">
                <a:moveTo>
                  <a:pt x="0" y="107"/>
                </a:moveTo>
                <a:cubicBezTo>
                  <a:pt x="39" y="94"/>
                  <a:pt x="69" y="75"/>
                  <a:pt x="109" y="62"/>
                </a:cubicBezTo>
                <a:cubicBezTo>
                  <a:pt x="118" y="59"/>
                  <a:pt x="128" y="55"/>
                  <a:pt x="137" y="52"/>
                </a:cubicBezTo>
                <a:cubicBezTo>
                  <a:pt x="146" y="49"/>
                  <a:pt x="164" y="43"/>
                  <a:pt x="164" y="43"/>
                </a:cubicBezTo>
                <a:cubicBezTo>
                  <a:pt x="321" y="50"/>
                  <a:pt x="476" y="67"/>
                  <a:pt x="630" y="98"/>
                </a:cubicBezTo>
                <a:cubicBezTo>
                  <a:pt x="764" y="104"/>
                  <a:pt x="723" y="97"/>
                  <a:pt x="785" y="93"/>
                </a:cubicBezTo>
                <a:cubicBezTo>
                  <a:pt x="842" y="86"/>
                  <a:pt x="927" y="64"/>
                  <a:pt x="971" y="54"/>
                </a:cubicBezTo>
                <a:cubicBezTo>
                  <a:pt x="983" y="52"/>
                  <a:pt x="1029" y="42"/>
                  <a:pt x="1051" y="34"/>
                </a:cubicBezTo>
                <a:cubicBezTo>
                  <a:pt x="1073" y="26"/>
                  <a:pt x="1084" y="12"/>
                  <a:pt x="1106" y="7"/>
                </a:cubicBezTo>
                <a:cubicBezTo>
                  <a:pt x="1125" y="2"/>
                  <a:pt x="1166" y="9"/>
                  <a:pt x="1184" y="3"/>
                </a:cubicBezTo>
                <a:cubicBezTo>
                  <a:pt x="1193" y="0"/>
                  <a:pt x="1235" y="12"/>
                  <a:pt x="1235" y="12"/>
                </a:cubicBezTo>
                <a:cubicBezTo>
                  <a:pt x="1330" y="24"/>
                  <a:pt x="1255" y="17"/>
                  <a:pt x="1334" y="43"/>
                </a:cubicBezTo>
                <a:cubicBezTo>
                  <a:pt x="1343" y="46"/>
                  <a:pt x="1362" y="52"/>
                  <a:pt x="1362" y="52"/>
                </a:cubicBezTo>
                <a:cubicBezTo>
                  <a:pt x="1405" y="98"/>
                  <a:pt x="1495" y="105"/>
                  <a:pt x="1554" y="116"/>
                </a:cubicBezTo>
                <a:cubicBezTo>
                  <a:pt x="1599" y="125"/>
                  <a:pt x="1647" y="131"/>
                  <a:pt x="1691" y="144"/>
                </a:cubicBezTo>
                <a:cubicBezTo>
                  <a:pt x="1719" y="152"/>
                  <a:pt x="1745" y="167"/>
                  <a:pt x="1773" y="171"/>
                </a:cubicBezTo>
                <a:cubicBezTo>
                  <a:pt x="1868" y="184"/>
                  <a:pt x="1825" y="159"/>
                  <a:pt x="1938" y="171"/>
                </a:cubicBezTo>
                <a:cubicBezTo>
                  <a:pt x="2113" y="160"/>
                  <a:pt x="2088" y="174"/>
                  <a:pt x="2267" y="190"/>
                </a:cubicBezTo>
                <a:cubicBezTo>
                  <a:pt x="2337" y="196"/>
                  <a:pt x="2404" y="239"/>
                  <a:pt x="2468" y="263"/>
                </a:cubicBezTo>
                <a:cubicBezTo>
                  <a:pt x="2517" y="282"/>
                  <a:pt x="2573" y="290"/>
                  <a:pt x="2624" y="299"/>
                </a:cubicBezTo>
                <a:cubicBezTo>
                  <a:pt x="2672" y="308"/>
                  <a:pt x="2715" y="321"/>
                  <a:pt x="2761" y="336"/>
                </a:cubicBezTo>
                <a:cubicBezTo>
                  <a:pt x="2810" y="352"/>
                  <a:pt x="2864" y="342"/>
                  <a:pt x="2916" y="345"/>
                </a:cubicBezTo>
                <a:cubicBezTo>
                  <a:pt x="3032" y="368"/>
                  <a:pt x="3148" y="349"/>
                  <a:pt x="3264" y="336"/>
                </a:cubicBezTo>
                <a:cubicBezTo>
                  <a:pt x="3394" y="321"/>
                  <a:pt x="3523" y="294"/>
                  <a:pt x="3648" y="254"/>
                </a:cubicBezTo>
                <a:cubicBezTo>
                  <a:pt x="3691" y="224"/>
                  <a:pt x="3664" y="239"/>
                  <a:pt x="3730" y="217"/>
                </a:cubicBezTo>
                <a:cubicBezTo>
                  <a:pt x="3739" y="214"/>
                  <a:pt x="3748" y="211"/>
                  <a:pt x="3757" y="208"/>
                </a:cubicBezTo>
                <a:cubicBezTo>
                  <a:pt x="3766" y="205"/>
                  <a:pt x="3785" y="199"/>
                  <a:pt x="3785" y="199"/>
                </a:cubicBezTo>
                <a:cubicBezTo>
                  <a:pt x="3821" y="161"/>
                  <a:pt x="3882" y="165"/>
                  <a:pt x="3931" y="153"/>
                </a:cubicBezTo>
                <a:cubicBezTo>
                  <a:pt x="4004" y="135"/>
                  <a:pt x="4077" y="123"/>
                  <a:pt x="4150" y="107"/>
                </a:cubicBezTo>
                <a:cubicBezTo>
                  <a:pt x="4203" y="95"/>
                  <a:pt x="4260" y="80"/>
                  <a:pt x="4315" y="8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13320" y="24987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-РНК на рибосо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85680" y="3208320"/>
            <a:ext cx="614520" cy="2351160"/>
          </a:xfrm>
          <a:custGeom>
            <a:avLst/>
            <a:gdLst/>
            <a:ahLst/>
            <a:rect l="l" t="t" r="r" b="b"/>
            <a:pathLst>
              <a:path w="387" h="1481">
                <a:moveTo>
                  <a:pt x="147" y="0"/>
                </a:moveTo>
                <a:cubicBezTo>
                  <a:pt x="209" y="93"/>
                  <a:pt x="179" y="196"/>
                  <a:pt x="83" y="228"/>
                </a:cubicBezTo>
                <a:cubicBezTo>
                  <a:pt x="68" y="225"/>
                  <a:pt x="47" y="231"/>
                  <a:pt x="37" y="219"/>
                </a:cubicBezTo>
                <a:cubicBezTo>
                  <a:pt x="10" y="185"/>
                  <a:pt x="64" y="176"/>
                  <a:pt x="74" y="173"/>
                </a:cubicBezTo>
                <a:cubicBezTo>
                  <a:pt x="116" y="184"/>
                  <a:pt x="132" y="192"/>
                  <a:pt x="156" y="228"/>
                </a:cubicBezTo>
                <a:cubicBezTo>
                  <a:pt x="168" y="265"/>
                  <a:pt x="181" y="301"/>
                  <a:pt x="193" y="338"/>
                </a:cubicBezTo>
                <a:cubicBezTo>
                  <a:pt x="187" y="414"/>
                  <a:pt x="195" y="503"/>
                  <a:pt x="110" y="530"/>
                </a:cubicBezTo>
                <a:cubicBezTo>
                  <a:pt x="75" y="554"/>
                  <a:pt x="38" y="560"/>
                  <a:pt x="19" y="603"/>
                </a:cubicBezTo>
                <a:cubicBezTo>
                  <a:pt x="11" y="621"/>
                  <a:pt x="1" y="658"/>
                  <a:pt x="1" y="658"/>
                </a:cubicBezTo>
                <a:cubicBezTo>
                  <a:pt x="4" y="691"/>
                  <a:pt x="0" y="778"/>
                  <a:pt x="46" y="804"/>
                </a:cubicBezTo>
                <a:cubicBezTo>
                  <a:pt x="71" y="818"/>
                  <a:pt x="101" y="815"/>
                  <a:pt x="129" y="822"/>
                </a:cubicBezTo>
                <a:cubicBezTo>
                  <a:pt x="165" y="860"/>
                  <a:pt x="261" y="882"/>
                  <a:pt x="312" y="896"/>
                </a:cubicBezTo>
                <a:cubicBezTo>
                  <a:pt x="344" y="917"/>
                  <a:pt x="363" y="918"/>
                  <a:pt x="385" y="950"/>
                </a:cubicBezTo>
                <a:cubicBezTo>
                  <a:pt x="382" y="990"/>
                  <a:pt x="387" y="1031"/>
                  <a:pt x="376" y="1069"/>
                </a:cubicBezTo>
                <a:cubicBezTo>
                  <a:pt x="373" y="1078"/>
                  <a:pt x="356" y="1073"/>
                  <a:pt x="348" y="1078"/>
                </a:cubicBezTo>
                <a:cubicBezTo>
                  <a:pt x="341" y="1083"/>
                  <a:pt x="337" y="1092"/>
                  <a:pt x="330" y="1097"/>
                </a:cubicBezTo>
                <a:cubicBezTo>
                  <a:pt x="312" y="1110"/>
                  <a:pt x="293" y="1121"/>
                  <a:pt x="275" y="1133"/>
                </a:cubicBezTo>
                <a:cubicBezTo>
                  <a:pt x="244" y="1153"/>
                  <a:pt x="271" y="1151"/>
                  <a:pt x="238" y="1170"/>
                </a:cubicBezTo>
                <a:cubicBezTo>
                  <a:pt x="228" y="1176"/>
                  <a:pt x="182" y="1186"/>
                  <a:pt x="174" y="1188"/>
                </a:cubicBezTo>
                <a:cubicBezTo>
                  <a:pt x="148" y="1215"/>
                  <a:pt x="132" y="1234"/>
                  <a:pt x="120" y="1270"/>
                </a:cubicBezTo>
                <a:cubicBezTo>
                  <a:pt x="123" y="1325"/>
                  <a:pt x="138" y="1416"/>
                  <a:pt x="138" y="148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3124080"/>
            <a:ext cx="700200" cy="2597400"/>
          </a:xfrm>
          <a:custGeom>
            <a:avLst/>
            <a:gdLst/>
            <a:ahLst/>
            <a:rect l="l" t="t" r="r" b="b"/>
            <a:pathLst>
              <a:path w="441" h="1636">
                <a:moveTo>
                  <a:pt x="93" y="0"/>
                </a:moveTo>
                <a:cubicBezTo>
                  <a:pt x="64" y="44"/>
                  <a:pt x="62" y="37"/>
                  <a:pt x="47" y="91"/>
                </a:cubicBezTo>
                <a:cubicBezTo>
                  <a:pt x="42" y="110"/>
                  <a:pt x="29" y="146"/>
                  <a:pt x="29" y="146"/>
                </a:cubicBezTo>
                <a:cubicBezTo>
                  <a:pt x="18" y="215"/>
                  <a:pt x="0" y="304"/>
                  <a:pt x="38" y="366"/>
                </a:cubicBezTo>
                <a:cubicBezTo>
                  <a:pt x="52" y="388"/>
                  <a:pt x="77" y="409"/>
                  <a:pt x="93" y="430"/>
                </a:cubicBezTo>
                <a:cubicBezTo>
                  <a:pt x="117" y="460"/>
                  <a:pt x="129" y="472"/>
                  <a:pt x="166" y="484"/>
                </a:cubicBezTo>
                <a:cubicBezTo>
                  <a:pt x="202" y="520"/>
                  <a:pt x="215" y="571"/>
                  <a:pt x="249" y="603"/>
                </a:cubicBezTo>
                <a:cubicBezTo>
                  <a:pt x="262" y="643"/>
                  <a:pt x="290" y="673"/>
                  <a:pt x="303" y="713"/>
                </a:cubicBezTo>
                <a:cubicBezTo>
                  <a:pt x="300" y="750"/>
                  <a:pt x="307" y="789"/>
                  <a:pt x="294" y="823"/>
                </a:cubicBezTo>
                <a:cubicBezTo>
                  <a:pt x="276" y="868"/>
                  <a:pt x="201" y="907"/>
                  <a:pt x="166" y="942"/>
                </a:cubicBezTo>
                <a:cubicBezTo>
                  <a:pt x="143" y="1012"/>
                  <a:pt x="177" y="927"/>
                  <a:pt x="130" y="987"/>
                </a:cubicBezTo>
                <a:cubicBezTo>
                  <a:pt x="124" y="995"/>
                  <a:pt x="125" y="1006"/>
                  <a:pt x="121" y="1015"/>
                </a:cubicBezTo>
                <a:cubicBezTo>
                  <a:pt x="116" y="1025"/>
                  <a:pt x="108" y="1033"/>
                  <a:pt x="102" y="1042"/>
                </a:cubicBezTo>
                <a:cubicBezTo>
                  <a:pt x="105" y="1103"/>
                  <a:pt x="103" y="1164"/>
                  <a:pt x="111" y="1225"/>
                </a:cubicBezTo>
                <a:cubicBezTo>
                  <a:pt x="114" y="1251"/>
                  <a:pt x="178" y="1284"/>
                  <a:pt x="185" y="1289"/>
                </a:cubicBezTo>
                <a:cubicBezTo>
                  <a:pt x="201" y="1300"/>
                  <a:pt x="212" y="1318"/>
                  <a:pt x="230" y="1326"/>
                </a:cubicBezTo>
                <a:cubicBezTo>
                  <a:pt x="253" y="1336"/>
                  <a:pt x="279" y="1336"/>
                  <a:pt x="303" y="1344"/>
                </a:cubicBezTo>
                <a:cubicBezTo>
                  <a:pt x="408" y="1335"/>
                  <a:pt x="412" y="1358"/>
                  <a:pt x="441" y="1280"/>
                </a:cubicBezTo>
                <a:cubicBezTo>
                  <a:pt x="438" y="1246"/>
                  <a:pt x="441" y="1211"/>
                  <a:pt x="431" y="1179"/>
                </a:cubicBezTo>
                <a:cubicBezTo>
                  <a:pt x="426" y="1164"/>
                  <a:pt x="388" y="1157"/>
                  <a:pt x="377" y="1152"/>
                </a:cubicBezTo>
                <a:cubicBezTo>
                  <a:pt x="348" y="1138"/>
                  <a:pt x="325" y="1125"/>
                  <a:pt x="294" y="1115"/>
                </a:cubicBezTo>
                <a:cubicBezTo>
                  <a:pt x="197" y="1127"/>
                  <a:pt x="239" y="1120"/>
                  <a:pt x="175" y="1161"/>
                </a:cubicBezTo>
                <a:cubicBezTo>
                  <a:pt x="169" y="1170"/>
                  <a:pt x="161" y="1178"/>
                  <a:pt x="157" y="1188"/>
                </a:cubicBezTo>
                <a:cubicBezTo>
                  <a:pt x="149" y="1206"/>
                  <a:pt x="139" y="1243"/>
                  <a:pt x="139" y="1243"/>
                </a:cubicBezTo>
                <a:cubicBezTo>
                  <a:pt x="117" y="1396"/>
                  <a:pt x="139" y="1215"/>
                  <a:pt x="139" y="1508"/>
                </a:cubicBezTo>
                <a:cubicBezTo>
                  <a:pt x="139" y="1545"/>
                  <a:pt x="145" y="1585"/>
                  <a:pt x="130" y="1618"/>
                </a:cubicBezTo>
                <a:cubicBezTo>
                  <a:pt x="123" y="1632"/>
                  <a:pt x="99" y="1623"/>
                  <a:pt x="84" y="1627"/>
                </a:cubicBezTo>
                <a:cubicBezTo>
                  <a:pt x="75" y="1629"/>
                  <a:pt x="57" y="1636"/>
                  <a:pt x="57" y="163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01960" y="3379680"/>
            <a:ext cx="378000" cy="1938600"/>
          </a:xfrm>
          <a:custGeom>
            <a:avLst/>
            <a:gdLst/>
            <a:ahLst/>
            <a:rect l="l" t="t" r="r" b="b"/>
            <a:pathLst>
              <a:path w="238" h="1221">
                <a:moveTo>
                  <a:pt x="0" y="1"/>
                </a:moveTo>
                <a:cubicBezTo>
                  <a:pt x="12" y="4"/>
                  <a:pt x="29" y="0"/>
                  <a:pt x="37" y="10"/>
                </a:cubicBezTo>
                <a:cubicBezTo>
                  <a:pt x="50" y="25"/>
                  <a:pt x="55" y="65"/>
                  <a:pt x="55" y="65"/>
                </a:cubicBezTo>
                <a:cubicBezTo>
                  <a:pt x="64" y="138"/>
                  <a:pt x="67" y="236"/>
                  <a:pt x="101" y="303"/>
                </a:cubicBezTo>
                <a:cubicBezTo>
                  <a:pt x="117" y="334"/>
                  <a:pt x="173" y="395"/>
                  <a:pt x="202" y="422"/>
                </a:cubicBezTo>
                <a:cubicBezTo>
                  <a:pt x="223" y="487"/>
                  <a:pt x="209" y="461"/>
                  <a:pt x="238" y="504"/>
                </a:cubicBezTo>
                <a:cubicBezTo>
                  <a:pt x="235" y="541"/>
                  <a:pt x="236" y="578"/>
                  <a:pt x="229" y="614"/>
                </a:cubicBezTo>
                <a:cubicBezTo>
                  <a:pt x="222" y="650"/>
                  <a:pt x="121" y="720"/>
                  <a:pt x="83" y="733"/>
                </a:cubicBezTo>
                <a:cubicBezTo>
                  <a:pt x="57" y="758"/>
                  <a:pt x="40" y="798"/>
                  <a:pt x="28" y="833"/>
                </a:cubicBezTo>
                <a:cubicBezTo>
                  <a:pt x="35" y="892"/>
                  <a:pt x="40" y="941"/>
                  <a:pt x="101" y="961"/>
                </a:cubicBezTo>
                <a:cubicBezTo>
                  <a:pt x="134" y="1063"/>
                  <a:pt x="137" y="984"/>
                  <a:pt x="119" y="1172"/>
                </a:cubicBezTo>
                <a:cubicBezTo>
                  <a:pt x="117" y="1192"/>
                  <a:pt x="106" y="1213"/>
                  <a:pt x="83" y="1217"/>
                </a:cubicBezTo>
                <a:cubicBezTo>
                  <a:pt x="56" y="1221"/>
                  <a:pt x="28" y="1217"/>
                  <a:pt x="0" y="1217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14400" y="5545080"/>
            <a:ext cx="304920" cy="782640"/>
          </a:xfrm>
          <a:custGeom>
            <a:avLst/>
            <a:gdLst/>
            <a:ahLst/>
            <a:rect l="l" t="t" r="r" b="b"/>
            <a:pathLst>
              <a:path w="192" h="493">
                <a:moveTo>
                  <a:pt x="183" y="0"/>
                </a:moveTo>
                <a:cubicBezTo>
                  <a:pt x="186" y="39"/>
                  <a:pt x="192" y="79"/>
                  <a:pt x="192" y="118"/>
                </a:cubicBezTo>
                <a:cubicBezTo>
                  <a:pt x="192" y="217"/>
                  <a:pt x="170" y="400"/>
                  <a:pt x="55" y="438"/>
                </a:cubicBezTo>
                <a:cubicBezTo>
                  <a:pt x="37" y="457"/>
                  <a:pt x="18" y="475"/>
                  <a:pt x="0" y="493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24320" y="3672000"/>
            <a:ext cx="755640" cy="1060200"/>
          </a:xfrm>
          <a:custGeom>
            <a:avLst/>
            <a:gdLst/>
            <a:ahLst/>
            <a:rect l="l" t="t" r="r" b="b"/>
            <a:pathLst>
              <a:path w="476" h="668">
                <a:moveTo>
                  <a:pt x="147" y="0"/>
                </a:moveTo>
                <a:cubicBezTo>
                  <a:pt x="163" y="48"/>
                  <a:pt x="167" y="66"/>
                  <a:pt x="202" y="101"/>
                </a:cubicBezTo>
                <a:cubicBezTo>
                  <a:pt x="222" y="183"/>
                  <a:pt x="212" y="150"/>
                  <a:pt x="229" y="201"/>
                </a:cubicBezTo>
                <a:cubicBezTo>
                  <a:pt x="226" y="256"/>
                  <a:pt x="227" y="311"/>
                  <a:pt x="220" y="366"/>
                </a:cubicBezTo>
                <a:cubicBezTo>
                  <a:pt x="211" y="443"/>
                  <a:pt x="155" y="458"/>
                  <a:pt x="101" y="494"/>
                </a:cubicBezTo>
                <a:cubicBezTo>
                  <a:pt x="77" y="491"/>
                  <a:pt x="48" y="499"/>
                  <a:pt x="28" y="485"/>
                </a:cubicBezTo>
                <a:cubicBezTo>
                  <a:pt x="12" y="474"/>
                  <a:pt x="10" y="430"/>
                  <a:pt x="10" y="430"/>
                </a:cubicBezTo>
                <a:cubicBezTo>
                  <a:pt x="13" y="409"/>
                  <a:pt x="0" y="376"/>
                  <a:pt x="19" y="366"/>
                </a:cubicBezTo>
                <a:cubicBezTo>
                  <a:pt x="45" y="352"/>
                  <a:pt x="105" y="373"/>
                  <a:pt x="138" y="384"/>
                </a:cubicBezTo>
                <a:cubicBezTo>
                  <a:pt x="144" y="393"/>
                  <a:pt x="148" y="404"/>
                  <a:pt x="156" y="412"/>
                </a:cubicBezTo>
                <a:cubicBezTo>
                  <a:pt x="164" y="420"/>
                  <a:pt x="176" y="422"/>
                  <a:pt x="183" y="430"/>
                </a:cubicBezTo>
                <a:cubicBezTo>
                  <a:pt x="189" y="437"/>
                  <a:pt x="187" y="449"/>
                  <a:pt x="192" y="457"/>
                </a:cubicBezTo>
                <a:cubicBezTo>
                  <a:pt x="203" y="476"/>
                  <a:pt x="229" y="512"/>
                  <a:pt x="229" y="512"/>
                </a:cubicBezTo>
                <a:cubicBezTo>
                  <a:pt x="239" y="542"/>
                  <a:pt x="256" y="564"/>
                  <a:pt x="266" y="594"/>
                </a:cubicBezTo>
                <a:cubicBezTo>
                  <a:pt x="269" y="603"/>
                  <a:pt x="268" y="615"/>
                  <a:pt x="275" y="622"/>
                </a:cubicBezTo>
                <a:cubicBezTo>
                  <a:pt x="282" y="629"/>
                  <a:pt x="293" y="627"/>
                  <a:pt x="302" y="631"/>
                </a:cubicBezTo>
                <a:cubicBezTo>
                  <a:pt x="330" y="645"/>
                  <a:pt x="354" y="657"/>
                  <a:pt x="384" y="668"/>
                </a:cubicBezTo>
                <a:cubicBezTo>
                  <a:pt x="415" y="665"/>
                  <a:pt x="476" y="658"/>
                  <a:pt x="476" y="65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50080" y="3381480"/>
            <a:ext cx="201600" cy="831600"/>
          </a:xfrm>
          <a:custGeom>
            <a:avLst/>
            <a:gdLst/>
            <a:ahLst/>
            <a:rect l="l" t="t" r="r" b="b"/>
            <a:pathLst>
              <a:path w="127" h="524">
                <a:moveTo>
                  <a:pt x="0" y="0"/>
                </a:moveTo>
                <a:cubicBezTo>
                  <a:pt x="6" y="6"/>
                  <a:pt x="14" y="11"/>
                  <a:pt x="19" y="19"/>
                </a:cubicBezTo>
                <a:cubicBezTo>
                  <a:pt x="24" y="27"/>
                  <a:pt x="22" y="38"/>
                  <a:pt x="28" y="46"/>
                </a:cubicBezTo>
                <a:cubicBezTo>
                  <a:pt x="55" y="82"/>
                  <a:pt x="69" y="89"/>
                  <a:pt x="101" y="110"/>
                </a:cubicBezTo>
                <a:cubicBezTo>
                  <a:pt x="127" y="190"/>
                  <a:pt x="119" y="258"/>
                  <a:pt x="92" y="339"/>
                </a:cubicBezTo>
                <a:cubicBezTo>
                  <a:pt x="86" y="357"/>
                  <a:pt x="80" y="375"/>
                  <a:pt x="74" y="393"/>
                </a:cubicBezTo>
                <a:cubicBezTo>
                  <a:pt x="71" y="402"/>
                  <a:pt x="64" y="421"/>
                  <a:pt x="64" y="421"/>
                </a:cubicBezTo>
                <a:cubicBezTo>
                  <a:pt x="67" y="445"/>
                  <a:pt x="69" y="470"/>
                  <a:pt x="74" y="494"/>
                </a:cubicBezTo>
                <a:cubicBezTo>
                  <a:pt x="80" y="524"/>
                  <a:pt x="75" y="521"/>
                  <a:pt x="92" y="521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66680" y="617220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бе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50480" y="5562720"/>
            <a:ext cx="39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онец, ферменты разрушают э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екулу и-РНК, расщепляя ее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дельных нуклеот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1" action="ppaction://hlinksldjump"/>
          </p:cNvPr>
          <p:cNvSpPr/>
          <p:nvPr/>
        </p:nvSpPr>
        <p:spPr>
          <a:xfrm>
            <a:off x="83059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3. Контрольный тес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. Матрицей для синтеза молекулы м-РНК при транскрипции служи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вся молекула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полностью одна из цепей молекулы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участок одной из цепей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в одних случаях одна из цепей молекулы ДНК, в других– вся   молекула ДН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. Транскрипция происходи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в ядр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на рибосома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в цитоплазм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на каналах гладкой ЭП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. Последовательность нуклеотидов в антикодоне т-РНК строго   комплементарна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триплету, кодирующему бело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аминокислоте, с которой связана данная  т-Р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последовательности нуклеотидов ген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кодону м-РНК, осуществляющему трансляцию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6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6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6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1000"/>
                                        <p:tgtEl>
                                          <p:spTgt spid="6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6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6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6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6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6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63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6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. Трансляция в клетке осуществляется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в ядр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на рибосома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в цитоплазм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на каналах гладкой ЭПС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5. При трансляции матрицей для сборки полипептидной цепи белка  служа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обе цепочки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одна из цепей молекулы Д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молекула м-Р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в одних случаях одна из цепей ДНК, в других– молекула м-РН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6. При  биосинтезе белка в клетке энергия АТФ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а) расходуетс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) запасаетс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) не расходуется и не выделяетс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) на одних этапах синтеза расходуется, на других– выделяетс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Исключите лишнее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рибосомы, т-РНК, м-РНК, аминокислоты, ДН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. Участок молекулы т-РНК из трех нуклеотидов, комплементарн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вязывающийся с определенным участком м-РНК по принцип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плементарности называется…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6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6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6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6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6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6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6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6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6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6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6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6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63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6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63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63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9.  Последовательность азотистых оснований в молекуле ДНК следующая: АТТААЦГЦТАТ. Какова будет последовательность  азотистых оснований в м-РНК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) ТААТТГЦГА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) ГЦЦГТТАТЦГ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) УААУЦЦГУТУ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) УААУУГЦГАУ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1000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6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6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6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Понимание механизма синтеза белка—результат длительной и сложнейшей работы многих ученых. Это блестящее  достижение сейчас является одним из основных положений биологической науки. Но все же еще многое  из этого процесса осталось за гранью нашего знания. </a:t>
            </a:r>
            <a:r>
              <a:rPr b="0" i="1" lang="en-US" sz="1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А нажав на слово «достижение», вы сможете проверить правильность ответов на тестовые зад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609480" y="114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5638680"/>
            <a:ext cx="175284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ости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48440" y="5322240"/>
            <a:ext cx="2995560" cy="916920"/>
          </a:xfrm>
          <a:prstGeom prst="rect">
            <a:avLst/>
          </a:prstGeom>
          <a:solidFill>
            <a:srgbClr val="5f23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В; 2-А; 3-Г; 4-Б; 5-В; 6-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-ДНК; 8-АНТИКОДО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-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1" action="ppaction://hlinksldjump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6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447560" y="456840"/>
            <a:ext cx="701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иоз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кт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ероксид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емоглоб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амма-глобул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ипопротеин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30481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971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1295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ер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50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2743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и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14479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29400" y="4952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и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867280" y="1828800"/>
            <a:ext cx="8384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3809880"/>
            <a:ext cx="106704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867280" y="3429000"/>
            <a:ext cx="60984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3124080" y="190476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742840" y="3200040"/>
            <a:ext cx="11430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047760" y="3657600"/>
            <a:ext cx="106668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21932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00"/>
                </a:solidFill>
                <a:latin typeface="Bookman Old Style"/>
              </a:rPr>
              <a:t>БИОСИНТЕЗ</a:t>
            </a:r>
            <a:br>
              <a:rPr sz="7200"/>
            </a:br>
            <a:r>
              <a:rPr b="1" i="1" lang="en-US" sz="7200" spc="-1" strike="noStrike">
                <a:solidFill>
                  <a:srgbClr val="ffff00"/>
                </a:solidFill>
                <a:latin typeface="Bookman Old Style"/>
              </a:rPr>
              <a:t>БЕЛКА</a:t>
            </a:r>
            <a:br>
              <a:rPr sz="7200"/>
            </a:br>
            <a:endParaRPr b="0" lang="en-US" sz="7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34290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3352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Франсуа Жакоб (р.1920) – французский микробиол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2743200" cy="2801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276280" cy="2651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410080" y="3657600"/>
            <a:ext cx="3353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Жак Люсьен Моно (1910-1976) – французский биохимик  и микроби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335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НК матриц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и РНК матриц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бе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1800" y="3657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36576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373392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Транскрипция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7238880" y="16765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914400"/>
            <a:ext cx="86868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ервый этап биосинтеза белка—транскрипц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Транскрипция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—это переписывание информации с последовательности нуклеотидов ДНК в последовательность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нуклеотидов Р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2209680"/>
            <a:ext cx="1008000" cy="4648320"/>
          </a:xfrm>
          <a:custGeom>
            <a:avLst/>
            <a:gdLst/>
            <a:ahLst/>
            <a:rect l="l" t="t" r="r" b="b"/>
            <a:pathLst>
              <a:path w="635" h="2928">
                <a:moveTo>
                  <a:pt x="251" y="0"/>
                </a:moveTo>
                <a:cubicBezTo>
                  <a:pt x="135" y="84"/>
                  <a:pt x="19" y="168"/>
                  <a:pt x="59" y="240"/>
                </a:cubicBezTo>
                <a:cubicBezTo>
                  <a:pt x="99" y="312"/>
                  <a:pt x="483" y="352"/>
                  <a:pt x="491" y="432"/>
                </a:cubicBezTo>
                <a:cubicBezTo>
                  <a:pt x="499" y="512"/>
                  <a:pt x="91" y="616"/>
                  <a:pt x="107" y="720"/>
                </a:cubicBezTo>
                <a:cubicBezTo>
                  <a:pt x="123" y="824"/>
                  <a:pt x="603" y="863"/>
                  <a:pt x="587" y="1056"/>
                </a:cubicBezTo>
                <a:cubicBezTo>
                  <a:pt x="571" y="1249"/>
                  <a:pt x="0" y="1567"/>
                  <a:pt x="8" y="1879"/>
                </a:cubicBezTo>
                <a:cubicBezTo>
                  <a:pt x="16" y="2191"/>
                  <a:pt x="505" y="2710"/>
                  <a:pt x="635" y="292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0" y="2286000"/>
            <a:ext cx="1587600" cy="4572000"/>
          </a:xfrm>
          <a:custGeom>
            <a:avLst/>
            <a:gdLst/>
            <a:ahLst/>
            <a:rect l="l" t="t" r="r" b="b"/>
            <a:pathLst>
              <a:path w="1000" h="2880">
                <a:moveTo>
                  <a:pt x="64" y="0"/>
                </a:moveTo>
                <a:cubicBezTo>
                  <a:pt x="236" y="12"/>
                  <a:pt x="408" y="24"/>
                  <a:pt x="400" y="96"/>
                </a:cubicBezTo>
                <a:cubicBezTo>
                  <a:pt x="392" y="168"/>
                  <a:pt x="0" y="336"/>
                  <a:pt x="16" y="432"/>
                </a:cubicBezTo>
                <a:cubicBezTo>
                  <a:pt x="32" y="528"/>
                  <a:pt x="480" y="568"/>
                  <a:pt x="496" y="672"/>
                </a:cubicBezTo>
                <a:cubicBezTo>
                  <a:pt x="512" y="776"/>
                  <a:pt x="32" y="896"/>
                  <a:pt x="112" y="1056"/>
                </a:cubicBezTo>
                <a:cubicBezTo>
                  <a:pt x="192" y="1216"/>
                  <a:pt x="952" y="1328"/>
                  <a:pt x="976" y="1632"/>
                </a:cubicBezTo>
                <a:cubicBezTo>
                  <a:pt x="1000" y="1936"/>
                  <a:pt x="628" y="2408"/>
                  <a:pt x="256" y="2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78760" y="4484520"/>
            <a:ext cx="1522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26120" y="463716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4789440"/>
            <a:ext cx="152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97520" y="4941720"/>
            <a:ext cx="152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21560" y="50943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21560" y="5246640"/>
            <a:ext cx="152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97520" y="5398920"/>
            <a:ext cx="152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73840" y="55515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50160" y="5703840"/>
            <a:ext cx="152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26120" y="5932440"/>
            <a:ext cx="15264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78760" y="6084720"/>
            <a:ext cx="152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54720" y="6237360"/>
            <a:ext cx="15264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07360" y="6389640"/>
            <a:ext cx="759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15200" y="429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17000" y="4343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4495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12440" y="46483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6120" y="480060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83480" y="4952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510552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34320" y="52578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60160" y="525780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36120" y="5410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55627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10280" y="5551560"/>
            <a:ext cx="3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88040" y="57913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28880" y="2286000"/>
            <a:ext cx="965160" cy="4572000"/>
          </a:xfrm>
          <a:custGeom>
            <a:avLst/>
            <a:gdLst/>
            <a:ahLst/>
            <a:rect l="l" t="t" r="r" b="b"/>
            <a:pathLst>
              <a:path w="608" h="2880">
                <a:moveTo>
                  <a:pt x="264" y="0"/>
                </a:moveTo>
                <a:cubicBezTo>
                  <a:pt x="132" y="80"/>
                  <a:pt x="0" y="160"/>
                  <a:pt x="24" y="240"/>
                </a:cubicBezTo>
                <a:cubicBezTo>
                  <a:pt x="48" y="320"/>
                  <a:pt x="408" y="400"/>
                  <a:pt x="408" y="480"/>
                </a:cubicBezTo>
                <a:cubicBezTo>
                  <a:pt x="408" y="560"/>
                  <a:pt x="24" y="624"/>
                  <a:pt x="24" y="720"/>
                </a:cubicBezTo>
                <a:cubicBezTo>
                  <a:pt x="24" y="816"/>
                  <a:pt x="400" y="960"/>
                  <a:pt x="408" y="1056"/>
                </a:cubicBezTo>
                <a:cubicBezTo>
                  <a:pt x="416" y="1152"/>
                  <a:pt x="56" y="1200"/>
                  <a:pt x="72" y="1296"/>
                </a:cubicBezTo>
                <a:cubicBezTo>
                  <a:pt x="88" y="1392"/>
                  <a:pt x="504" y="1528"/>
                  <a:pt x="504" y="1632"/>
                </a:cubicBezTo>
                <a:cubicBezTo>
                  <a:pt x="504" y="1736"/>
                  <a:pt x="72" y="1816"/>
                  <a:pt x="72" y="1920"/>
                </a:cubicBezTo>
                <a:cubicBezTo>
                  <a:pt x="72" y="2024"/>
                  <a:pt x="504" y="2160"/>
                  <a:pt x="504" y="2256"/>
                </a:cubicBezTo>
                <a:cubicBezTo>
                  <a:pt x="504" y="2352"/>
                  <a:pt x="64" y="2416"/>
                  <a:pt x="72" y="2496"/>
                </a:cubicBezTo>
                <a:cubicBezTo>
                  <a:pt x="80" y="2576"/>
                  <a:pt x="496" y="2672"/>
                  <a:pt x="552" y="2736"/>
                </a:cubicBezTo>
                <a:cubicBezTo>
                  <a:pt x="608" y="2800"/>
                  <a:pt x="432" y="2856"/>
                  <a:pt x="408" y="288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2362320"/>
            <a:ext cx="876240" cy="4495680"/>
          </a:xfrm>
          <a:custGeom>
            <a:avLst/>
            <a:gdLst/>
            <a:ahLst/>
            <a:rect l="l" t="t" r="r" b="b"/>
            <a:pathLst>
              <a:path w="552" h="2832">
                <a:moveTo>
                  <a:pt x="104" y="0"/>
                </a:moveTo>
                <a:cubicBezTo>
                  <a:pt x="280" y="40"/>
                  <a:pt x="456" y="80"/>
                  <a:pt x="440" y="144"/>
                </a:cubicBezTo>
                <a:cubicBezTo>
                  <a:pt x="424" y="208"/>
                  <a:pt x="0" y="296"/>
                  <a:pt x="8" y="384"/>
                </a:cubicBezTo>
                <a:cubicBezTo>
                  <a:pt x="16" y="472"/>
                  <a:pt x="480" y="576"/>
                  <a:pt x="488" y="672"/>
                </a:cubicBezTo>
                <a:cubicBezTo>
                  <a:pt x="496" y="768"/>
                  <a:pt x="48" y="856"/>
                  <a:pt x="56" y="960"/>
                </a:cubicBezTo>
                <a:cubicBezTo>
                  <a:pt x="64" y="1064"/>
                  <a:pt x="520" y="1192"/>
                  <a:pt x="536" y="1296"/>
                </a:cubicBezTo>
                <a:cubicBezTo>
                  <a:pt x="552" y="1400"/>
                  <a:pt x="152" y="1480"/>
                  <a:pt x="152" y="1584"/>
                </a:cubicBezTo>
                <a:cubicBezTo>
                  <a:pt x="152" y="1688"/>
                  <a:pt x="552" y="1816"/>
                  <a:pt x="536" y="1920"/>
                </a:cubicBezTo>
                <a:cubicBezTo>
                  <a:pt x="520" y="2024"/>
                  <a:pt x="56" y="2112"/>
                  <a:pt x="56" y="2208"/>
                </a:cubicBezTo>
                <a:cubicBezTo>
                  <a:pt x="56" y="2304"/>
                  <a:pt x="528" y="2424"/>
                  <a:pt x="536" y="2496"/>
                </a:cubicBezTo>
                <a:cubicBezTo>
                  <a:pt x="544" y="2568"/>
                  <a:pt x="152" y="2584"/>
                  <a:pt x="104" y="2640"/>
                </a:cubicBezTo>
                <a:cubicBezTo>
                  <a:pt x="56" y="2696"/>
                  <a:pt x="224" y="2800"/>
                  <a:pt x="248" y="283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7400" y="57150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2362320"/>
            <a:ext cx="4648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пределенном участке ДНК под действием ферментов белки-гистоны отделяются, водородные связи рвутся, и двойная спираль ДНК раскручивается. Одна из цепочек становится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атрицей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построения и-РНК. Участок ДНК в определенном месте начинает раскручиваться под действием фер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80" y="6335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162560" y="4191120"/>
            <a:ext cx="990360" cy="99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848360" y="38862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матр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6324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ДН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тем на основе матрицы под действием фермента РНК-полимеразы из свободных нуклеотидов по принципу комплементарности начинается сборка мРНК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371600"/>
            <a:ext cx="1333440" cy="5486400"/>
          </a:xfrm>
          <a:custGeom>
            <a:avLst/>
            <a:gdLst/>
            <a:ahLst/>
            <a:rect l="l" t="t" r="r" b="b"/>
            <a:pathLst>
              <a:path w="840" h="3456">
                <a:moveTo>
                  <a:pt x="640" y="0"/>
                </a:moveTo>
                <a:cubicBezTo>
                  <a:pt x="528" y="48"/>
                  <a:pt x="416" y="96"/>
                  <a:pt x="448" y="192"/>
                </a:cubicBezTo>
                <a:cubicBezTo>
                  <a:pt x="480" y="288"/>
                  <a:pt x="840" y="440"/>
                  <a:pt x="832" y="576"/>
                </a:cubicBezTo>
                <a:cubicBezTo>
                  <a:pt x="824" y="712"/>
                  <a:pt x="528" y="832"/>
                  <a:pt x="400" y="1008"/>
                </a:cubicBezTo>
                <a:cubicBezTo>
                  <a:pt x="272" y="1184"/>
                  <a:pt x="128" y="1440"/>
                  <a:pt x="64" y="1632"/>
                </a:cubicBezTo>
                <a:cubicBezTo>
                  <a:pt x="0" y="1824"/>
                  <a:pt x="7" y="1980"/>
                  <a:pt x="16" y="2160"/>
                </a:cubicBezTo>
                <a:cubicBezTo>
                  <a:pt x="25" y="2340"/>
                  <a:pt x="73" y="2555"/>
                  <a:pt x="121" y="2711"/>
                </a:cubicBezTo>
                <a:cubicBezTo>
                  <a:pt x="169" y="2867"/>
                  <a:pt x="234" y="2971"/>
                  <a:pt x="304" y="3095"/>
                </a:cubicBezTo>
                <a:cubicBezTo>
                  <a:pt x="374" y="3219"/>
                  <a:pt x="494" y="3381"/>
                  <a:pt x="544" y="3456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1335240"/>
            <a:ext cx="1422360" cy="5522760"/>
          </a:xfrm>
          <a:custGeom>
            <a:avLst/>
            <a:gdLst/>
            <a:ahLst/>
            <a:rect l="l" t="t" r="r" b="b"/>
            <a:pathLst>
              <a:path w="896" h="3479">
                <a:moveTo>
                  <a:pt x="89" y="0"/>
                </a:moveTo>
                <a:cubicBezTo>
                  <a:pt x="145" y="37"/>
                  <a:pt x="431" y="115"/>
                  <a:pt x="432" y="215"/>
                </a:cubicBezTo>
                <a:cubicBezTo>
                  <a:pt x="433" y="315"/>
                  <a:pt x="80" y="423"/>
                  <a:pt x="96" y="599"/>
                </a:cubicBezTo>
                <a:cubicBezTo>
                  <a:pt x="112" y="775"/>
                  <a:pt x="416" y="1063"/>
                  <a:pt x="528" y="1271"/>
                </a:cubicBezTo>
                <a:cubicBezTo>
                  <a:pt x="640" y="1479"/>
                  <a:pt x="728" y="1631"/>
                  <a:pt x="768" y="1847"/>
                </a:cubicBezTo>
                <a:cubicBezTo>
                  <a:pt x="808" y="2063"/>
                  <a:pt x="896" y="2295"/>
                  <a:pt x="768" y="2567"/>
                </a:cubicBezTo>
                <a:cubicBezTo>
                  <a:pt x="640" y="2839"/>
                  <a:pt x="136" y="3327"/>
                  <a:pt x="0" y="3479"/>
                </a:cubicBezTo>
              </a:path>
            </a:pathLst>
          </a:custGeom>
          <a:noFill/>
          <a:ln w="41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3048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3352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657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5105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54864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867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62485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6553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95280" y="3048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33880" y="29066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03480" y="3211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27880" y="3211560"/>
            <a:ext cx="3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68840" y="350532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76680" y="38210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360" y="4202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99640" y="458316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900360" y="496404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76680" y="5345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51560" y="5726160"/>
            <a:ext cx="3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80880" y="6107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3048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30600" y="289548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7160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5680" y="3200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6576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3040" y="35053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1932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56840" y="38210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97080" y="4191120"/>
            <a:ext cx="29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43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81600" y="4583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5105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80880" y="496404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548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80520" y="5345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371600" y="5867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10200" y="5726160"/>
            <a:ext cx="27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523880" y="6248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78320" y="6095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99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752480" y="3124080"/>
            <a:ext cx="152640" cy="152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600200" y="342900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523880" y="373392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47560" y="41148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4876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52578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56386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76520" y="59436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28800" y="63244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209320" y="25146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06040" y="22096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-Р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259092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Между азотистыми основаниями ДНК и  РНК возникают водородные связи, а  между нуклеотидами самой матричной  РНК образуются сложно-эфирные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600200" y="5715000"/>
            <a:ext cx="12952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600200" y="5715000"/>
            <a:ext cx="129528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00200" y="579132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676520" y="5410080"/>
            <a:ext cx="182880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599840" y="5562720"/>
            <a:ext cx="152388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599840" y="5334120"/>
            <a:ext cx="15238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78160" y="5181480"/>
            <a:ext cx="174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одород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447560" y="4800600"/>
            <a:ext cx="15238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124800" y="4495680"/>
            <a:ext cx="2382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ложно-эфи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вяз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5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3a441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669760" y="38098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м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39800" y="3813120"/>
            <a:ext cx="3324240" cy="1047960"/>
          </a:xfrm>
          <a:custGeom>
            <a:avLst/>
            <a:gdLst/>
            <a:ahLst/>
            <a:rect l="l" t="t" r="r" b="b"/>
            <a:pathLst>
              <a:path w="2094" h="660">
                <a:moveTo>
                  <a:pt x="0" y="182"/>
                </a:moveTo>
                <a:cubicBezTo>
                  <a:pt x="72" y="153"/>
                  <a:pt x="276" y="24"/>
                  <a:pt x="430" y="12"/>
                </a:cubicBezTo>
                <a:cubicBezTo>
                  <a:pt x="584" y="0"/>
                  <a:pt x="796" y="100"/>
                  <a:pt x="927" y="108"/>
                </a:cubicBezTo>
                <a:cubicBezTo>
                  <a:pt x="1058" y="116"/>
                  <a:pt x="1079" y="53"/>
                  <a:pt x="1215" y="61"/>
                </a:cubicBezTo>
                <a:cubicBezTo>
                  <a:pt x="1351" y="69"/>
                  <a:pt x="1631" y="69"/>
                  <a:pt x="1743" y="155"/>
                </a:cubicBezTo>
                <a:cubicBezTo>
                  <a:pt x="1856" y="242"/>
                  <a:pt x="1845" y="500"/>
                  <a:pt x="1888" y="580"/>
                </a:cubicBezTo>
                <a:cubicBezTo>
                  <a:pt x="1931" y="660"/>
                  <a:pt x="1969" y="621"/>
                  <a:pt x="2003" y="633"/>
                </a:cubicBezTo>
                <a:cubicBezTo>
                  <a:pt x="2037" y="645"/>
                  <a:pt x="2075" y="648"/>
                  <a:pt x="2094" y="652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124080"/>
            <a:ext cx="3200400" cy="327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сле  сборки мРНК водородные связи между азотистыми основаниями ДНК и мРНК рвутся, и новообразованная мРНК через поры в ядре уходит в цитоплазму, где прикрепляется к рибосомам. А две цепочки ДНК вновь соединяются, восстанавливая двойную спираль, и опять связываются с белками-гистона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РНК присоединяется к  поверхности малой субъединицы в присутствии ионов магния. Причем два ее триплета нуклеотидов оказываются обращенными к большой субъединице рибосом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"/>
          <p:cNvSpPr/>
          <p:nvPr/>
        </p:nvSpPr>
        <p:spPr>
          <a:xfrm>
            <a:off x="684360" y="4489560"/>
            <a:ext cx="3201840" cy="392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41760" y="396072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5029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4800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57150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57150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37339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39625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54864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769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33526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61722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28800" y="44956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41911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ЯД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2448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48520" y="3581280"/>
            <a:ext cx="533160" cy="53352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772400" y="32767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72400" y="3581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686800" y="3733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839080" y="3352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99"/>
              </a:gs>
              <a:gs pos="100000">
                <a:srgbClr val="00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33920" y="4800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072560" y="42274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бос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34280" y="5827680"/>
            <a:ext cx="16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цитопла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20320" y="2743200"/>
            <a:ext cx="6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1" i="1" lang="en-US" sz="16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2" action="ppaction://hlinksldjump"/>
          </p:cNvPr>
          <p:cNvSpPr/>
          <p:nvPr/>
        </p:nvSpPr>
        <p:spPr>
          <a:xfrm>
            <a:off x="80773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900"/>
                            </p:stCondLst>
                            <p:childTnLst>
                              <p:par>
                                <p:cTn id="2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C 0.2533 -0.02312 0.50677 -0.04624 0.60834 -0.05549 E">
                                      <p:cBhvr>
                                        <p:cTn id="28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900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0439 C 0.18264 -0.06451 0.31806 -0.12462 0.37222 -0.14867 E">
                                      <p:cBhvr>
                                        <p:cTn id="283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01-16T11:40:38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