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tad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744-E4F5-4D01-BFDC-2EBBA268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191-1DAB-4AAB-8C56-27FD0E9F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1A0-E721-4D85-81B2-AD3F0709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704-D9C7-400D-87B3-68AB831A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C7EC-80FD-4AD0-A570-41CCD59C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ED0A-8D62-4945-A3AE-C3A161A8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F133-9A24-4E21-A97E-981EAC73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B2AB-09CD-499C-B8D0-9B75287D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8A0D-F748-439F-829E-D1B93080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EC0C-0E50-4A48-BBE4-3F64CBDA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587F-AFFC-4E98-895B-E9F9F53F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943-B08E-4BF5-A43E-BFEAD7F1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8D55-8D05-4858-A464-81AF7C10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93B9-9F7F-414D-BA38-A31B9C4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9689-E43B-42D2-BB02-966545CC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2A82-19DB-4A79-BB5B-95783E58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927B-267F-4AFB-B0B4-1A89DD60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6A4-BAD5-4850-B17C-2462F3F5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AFD-1076-43FD-A752-4933EE3D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5CC-A595-49F0-BAF6-1D40C3CF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E64-4494-416D-A5E4-098F9855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4A5-147B-4988-BB4B-18A53D1C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4FA-E869-419B-9909-56834C43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56D-B856-4758-872E-6F4B1346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4210-D401-4FE3-AFA0-8006EA69D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01C6-A1FA-49C9-BB48-7BE138750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26920" y="1268280"/>
            <a:ext cx="7993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ccff33"/>
                </a:solidFill>
                <a:latin typeface="Impact"/>
              </a:rPr>
              <a:t>« Учимся писать суффиксы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ccff33"/>
                </a:solidFill>
                <a:latin typeface="Impact"/>
              </a:rPr>
              <a:t>– </a:t>
            </a:r>
            <a:r>
              <a:rPr b="0" i="1" lang="ru-RU" sz="8800" spc="-1" strike="noStrike">
                <a:solidFill>
                  <a:srgbClr val="ccff33"/>
                </a:solidFill>
                <a:latin typeface="Impact"/>
              </a:rPr>
              <a:t>ец, -иц »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781200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H="1">
            <a:off x="1115280" y="189000"/>
            <a:ext cx="7272360" cy="3456000"/>
          </a:xfrm>
          <a:prstGeom prst="wedgeRoundRectCallout">
            <a:avLst>
              <a:gd name="adj1" fmla="val 1013"/>
              <a:gd name="adj2" fmla="val 61939"/>
              <a:gd name="adj3" fmla="val 16667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43280" y="3157560"/>
            <a:ext cx="3751920" cy="3489120"/>
            <a:chOff x="2843280" y="3157560"/>
            <a:chExt cx="3751920" cy="3489120"/>
          </a:xfrm>
        </p:grpSpPr>
        <p:grpSp>
          <p:nvGrpSpPr>
            <p:cNvPr id="215" name=""/>
            <p:cNvGrpSpPr/>
            <p:nvPr/>
          </p:nvGrpSpPr>
          <p:grpSpPr>
            <a:xfrm>
              <a:off x="4609800" y="3478320"/>
              <a:ext cx="1985400" cy="3167280"/>
              <a:chOff x="4609800" y="3478320"/>
              <a:chExt cx="1985400" cy="3167280"/>
            </a:xfrm>
          </p:grpSpPr>
          <p:sp>
            <p:nvSpPr>
              <p:cNvPr id="216" name=""/>
              <p:cNvSpPr/>
              <p:nvPr/>
            </p:nvSpPr>
            <p:spPr>
              <a:xfrm>
                <a:off x="5344560" y="3899160"/>
                <a:ext cx="677520" cy="546120"/>
              </a:xfrm>
              <a:custGeom>
                <a:avLst/>
                <a:gdLst/>
                <a:ahLst/>
                <a:rect l="l" t="t" r="r" b="b"/>
                <a:pathLst>
                  <a:path w="854" h="688">
                    <a:moveTo>
                      <a:pt x="296" y="166"/>
                    </a:moveTo>
                    <a:lnTo>
                      <a:pt x="340" y="73"/>
                    </a:lnTo>
                    <a:lnTo>
                      <a:pt x="460" y="13"/>
                    </a:lnTo>
                    <a:lnTo>
                      <a:pt x="543" y="0"/>
                    </a:lnTo>
                    <a:lnTo>
                      <a:pt x="633" y="0"/>
                    </a:lnTo>
                    <a:lnTo>
                      <a:pt x="786" y="52"/>
                    </a:lnTo>
                    <a:lnTo>
                      <a:pt x="854" y="187"/>
                    </a:lnTo>
                    <a:lnTo>
                      <a:pt x="821" y="366"/>
                    </a:lnTo>
                    <a:lnTo>
                      <a:pt x="713" y="521"/>
                    </a:lnTo>
                    <a:lnTo>
                      <a:pt x="601" y="628"/>
                    </a:lnTo>
                    <a:lnTo>
                      <a:pt x="481" y="674"/>
                    </a:lnTo>
                    <a:lnTo>
                      <a:pt x="390" y="688"/>
                    </a:lnTo>
                    <a:lnTo>
                      <a:pt x="296" y="661"/>
                    </a:lnTo>
                    <a:lnTo>
                      <a:pt x="222" y="588"/>
                    </a:lnTo>
                    <a:lnTo>
                      <a:pt x="187" y="496"/>
                    </a:lnTo>
                    <a:lnTo>
                      <a:pt x="193" y="397"/>
                    </a:lnTo>
                    <a:lnTo>
                      <a:pt x="228" y="278"/>
                    </a:lnTo>
                    <a:lnTo>
                      <a:pt x="243" y="256"/>
                    </a:lnTo>
                    <a:lnTo>
                      <a:pt x="23" y="128"/>
                    </a:lnTo>
                    <a:lnTo>
                      <a:pt x="0" y="98"/>
                    </a:lnTo>
                    <a:lnTo>
                      <a:pt x="0" y="59"/>
                    </a:lnTo>
                    <a:lnTo>
                      <a:pt x="52" y="38"/>
                    </a:lnTo>
                    <a:lnTo>
                      <a:pt x="296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89160" y="4626000"/>
                <a:ext cx="806040" cy="1044720"/>
              </a:xfrm>
              <a:custGeom>
                <a:avLst/>
                <a:gdLst/>
                <a:ahLst/>
                <a:rect l="l" t="t" r="r" b="b"/>
                <a:pathLst>
                  <a:path w="1016" h="1317">
                    <a:moveTo>
                      <a:pt x="124" y="22"/>
                    </a:moveTo>
                    <a:lnTo>
                      <a:pt x="359" y="77"/>
                    </a:lnTo>
                    <a:lnTo>
                      <a:pt x="612" y="214"/>
                    </a:lnTo>
                    <a:lnTo>
                      <a:pt x="759" y="333"/>
                    </a:lnTo>
                    <a:lnTo>
                      <a:pt x="910" y="475"/>
                    </a:lnTo>
                    <a:lnTo>
                      <a:pt x="983" y="576"/>
                    </a:lnTo>
                    <a:lnTo>
                      <a:pt x="1016" y="713"/>
                    </a:lnTo>
                    <a:lnTo>
                      <a:pt x="995" y="770"/>
                    </a:lnTo>
                    <a:lnTo>
                      <a:pt x="916" y="841"/>
                    </a:lnTo>
                    <a:lnTo>
                      <a:pt x="724" y="885"/>
                    </a:lnTo>
                    <a:lnTo>
                      <a:pt x="524" y="910"/>
                    </a:lnTo>
                    <a:lnTo>
                      <a:pt x="411" y="919"/>
                    </a:lnTo>
                    <a:lnTo>
                      <a:pt x="444" y="983"/>
                    </a:lnTo>
                    <a:lnTo>
                      <a:pt x="562" y="1090"/>
                    </a:lnTo>
                    <a:lnTo>
                      <a:pt x="663" y="1154"/>
                    </a:lnTo>
                    <a:lnTo>
                      <a:pt x="775" y="1218"/>
                    </a:lnTo>
                    <a:lnTo>
                      <a:pt x="792" y="1278"/>
                    </a:lnTo>
                    <a:lnTo>
                      <a:pt x="742" y="1317"/>
                    </a:lnTo>
                    <a:lnTo>
                      <a:pt x="657" y="1291"/>
                    </a:lnTo>
                    <a:lnTo>
                      <a:pt x="477" y="1136"/>
                    </a:lnTo>
                    <a:lnTo>
                      <a:pt x="388" y="1051"/>
                    </a:lnTo>
                    <a:lnTo>
                      <a:pt x="327" y="919"/>
                    </a:lnTo>
                    <a:lnTo>
                      <a:pt x="344" y="871"/>
                    </a:lnTo>
                    <a:lnTo>
                      <a:pt x="439" y="855"/>
                    </a:lnTo>
                    <a:lnTo>
                      <a:pt x="607" y="846"/>
                    </a:lnTo>
                    <a:lnTo>
                      <a:pt x="765" y="816"/>
                    </a:lnTo>
                    <a:lnTo>
                      <a:pt x="848" y="777"/>
                    </a:lnTo>
                    <a:lnTo>
                      <a:pt x="910" y="718"/>
                    </a:lnTo>
                    <a:lnTo>
                      <a:pt x="910" y="662"/>
                    </a:lnTo>
                    <a:lnTo>
                      <a:pt x="883" y="564"/>
                    </a:lnTo>
                    <a:lnTo>
                      <a:pt x="815" y="500"/>
                    </a:lnTo>
                    <a:lnTo>
                      <a:pt x="759" y="431"/>
                    </a:lnTo>
                    <a:lnTo>
                      <a:pt x="674" y="381"/>
                    </a:lnTo>
                    <a:lnTo>
                      <a:pt x="562" y="295"/>
                    </a:lnTo>
                    <a:lnTo>
                      <a:pt x="427" y="230"/>
                    </a:lnTo>
                    <a:lnTo>
                      <a:pt x="303" y="201"/>
                    </a:lnTo>
                    <a:lnTo>
                      <a:pt x="153" y="180"/>
                    </a:lnTo>
                    <a:lnTo>
                      <a:pt x="58" y="150"/>
                    </a:lnTo>
                    <a:lnTo>
                      <a:pt x="0" y="98"/>
                    </a:lnTo>
                    <a:lnTo>
                      <a:pt x="0" y="25"/>
                    </a:lnTo>
                    <a:lnTo>
                      <a:pt x="58" y="0"/>
                    </a:lnTo>
                    <a:lnTo>
                      <a:pt x="170" y="22"/>
                    </a:lnTo>
                    <a:lnTo>
                      <a:pt x="186" y="25"/>
                    </a:lnTo>
                    <a:lnTo>
                      <a:pt x="12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09800" y="3478320"/>
                <a:ext cx="936360" cy="1185840"/>
              </a:xfrm>
              <a:custGeom>
                <a:avLst/>
                <a:gdLst/>
                <a:ahLst/>
                <a:rect l="l" t="t" r="r" b="b"/>
                <a:pathLst>
                  <a:path w="1178" h="1492">
                    <a:moveTo>
                      <a:pt x="1078" y="1283"/>
                    </a:moveTo>
                    <a:lnTo>
                      <a:pt x="1166" y="1350"/>
                    </a:lnTo>
                    <a:lnTo>
                      <a:pt x="1178" y="1416"/>
                    </a:lnTo>
                    <a:lnTo>
                      <a:pt x="1145" y="1480"/>
                    </a:lnTo>
                    <a:lnTo>
                      <a:pt x="1049" y="1492"/>
                    </a:lnTo>
                    <a:lnTo>
                      <a:pt x="925" y="1365"/>
                    </a:lnTo>
                    <a:lnTo>
                      <a:pt x="875" y="1256"/>
                    </a:lnTo>
                    <a:lnTo>
                      <a:pt x="780" y="1119"/>
                    </a:lnTo>
                    <a:lnTo>
                      <a:pt x="689" y="965"/>
                    </a:lnTo>
                    <a:lnTo>
                      <a:pt x="606" y="837"/>
                    </a:lnTo>
                    <a:lnTo>
                      <a:pt x="489" y="677"/>
                    </a:lnTo>
                    <a:lnTo>
                      <a:pt x="342" y="528"/>
                    </a:lnTo>
                    <a:lnTo>
                      <a:pt x="224" y="398"/>
                    </a:lnTo>
                    <a:lnTo>
                      <a:pt x="168" y="360"/>
                    </a:lnTo>
                    <a:lnTo>
                      <a:pt x="118" y="360"/>
                    </a:lnTo>
                    <a:lnTo>
                      <a:pt x="39" y="334"/>
                    </a:lnTo>
                    <a:lnTo>
                      <a:pt x="17" y="279"/>
                    </a:lnTo>
                    <a:lnTo>
                      <a:pt x="0" y="179"/>
                    </a:lnTo>
                    <a:lnTo>
                      <a:pt x="17" y="85"/>
                    </a:lnTo>
                    <a:lnTo>
                      <a:pt x="56" y="25"/>
                    </a:lnTo>
                    <a:lnTo>
                      <a:pt x="106" y="0"/>
                    </a:lnTo>
                    <a:lnTo>
                      <a:pt x="174" y="33"/>
                    </a:lnTo>
                    <a:lnTo>
                      <a:pt x="207" y="12"/>
                    </a:lnTo>
                    <a:lnTo>
                      <a:pt x="236" y="60"/>
                    </a:lnTo>
                    <a:lnTo>
                      <a:pt x="259" y="179"/>
                    </a:lnTo>
                    <a:lnTo>
                      <a:pt x="241" y="240"/>
                    </a:lnTo>
                    <a:lnTo>
                      <a:pt x="253" y="334"/>
                    </a:lnTo>
                    <a:lnTo>
                      <a:pt x="309" y="398"/>
                    </a:lnTo>
                    <a:lnTo>
                      <a:pt x="442" y="536"/>
                    </a:lnTo>
                    <a:lnTo>
                      <a:pt x="545" y="631"/>
                    </a:lnTo>
                    <a:lnTo>
                      <a:pt x="645" y="746"/>
                    </a:lnTo>
                    <a:lnTo>
                      <a:pt x="707" y="822"/>
                    </a:lnTo>
                    <a:lnTo>
                      <a:pt x="830" y="947"/>
                    </a:lnTo>
                    <a:lnTo>
                      <a:pt x="925" y="1094"/>
                    </a:lnTo>
                    <a:lnTo>
                      <a:pt x="1016" y="1261"/>
                    </a:lnTo>
                    <a:lnTo>
                      <a:pt x="1078" y="12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19360" y="4489560"/>
                <a:ext cx="574200" cy="1082880"/>
              </a:xfrm>
              <a:custGeom>
                <a:avLst/>
                <a:gdLst/>
                <a:ahLst/>
                <a:rect l="l" t="t" r="r" b="b"/>
                <a:pathLst>
                  <a:path w="724" h="1365">
                    <a:moveTo>
                      <a:pt x="23" y="359"/>
                    </a:moveTo>
                    <a:lnTo>
                      <a:pt x="101" y="180"/>
                    </a:lnTo>
                    <a:lnTo>
                      <a:pt x="168" y="94"/>
                    </a:lnTo>
                    <a:lnTo>
                      <a:pt x="286" y="5"/>
                    </a:lnTo>
                    <a:lnTo>
                      <a:pt x="388" y="0"/>
                    </a:lnTo>
                    <a:lnTo>
                      <a:pt x="495" y="27"/>
                    </a:lnTo>
                    <a:lnTo>
                      <a:pt x="589" y="91"/>
                    </a:lnTo>
                    <a:lnTo>
                      <a:pt x="589" y="210"/>
                    </a:lnTo>
                    <a:lnTo>
                      <a:pt x="545" y="313"/>
                    </a:lnTo>
                    <a:lnTo>
                      <a:pt x="545" y="501"/>
                    </a:lnTo>
                    <a:lnTo>
                      <a:pt x="562" y="787"/>
                    </a:lnTo>
                    <a:lnTo>
                      <a:pt x="645" y="963"/>
                    </a:lnTo>
                    <a:lnTo>
                      <a:pt x="724" y="1104"/>
                    </a:lnTo>
                    <a:lnTo>
                      <a:pt x="724" y="1212"/>
                    </a:lnTo>
                    <a:lnTo>
                      <a:pt x="639" y="1313"/>
                    </a:lnTo>
                    <a:lnTo>
                      <a:pt x="572" y="1361"/>
                    </a:lnTo>
                    <a:lnTo>
                      <a:pt x="471" y="1365"/>
                    </a:lnTo>
                    <a:lnTo>
                      <a:pt x="354" y="1365"/>
                    </a:lnTo>
                    <a:lnTo>
                      <a:pt x="224" y="1335"/>
                    </a:lnTo>
                    <a:lnTo>
                      <a:pt x="101" y="1155"/>
                    </a:lnTo>
                    <a:lnTo>
                      <a:pt x="33" y="942"/>
                    </a:lnTo>
                    <a:lnTo>
                      <a:pt x="0" y="775"/>
                    </a:lnTo>
                    <a:lnTo>
                      <a:pt x="0" y="578"/>
                    </a:lnTo>
                    <a:lnTo>
                      <a:pt x="23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36800" y="5411880"/>
                <a:ext cx="485280" cy="1135080"/>
              </a:xfrm>
              <a:custGeom>
                <a:avLst/>
                <a:gdLst/>
                <a:ahLst/>
                <a:rect l="l" t="t" r="r" b="b"/>
                <a:pathLst>
                  <a:path w="613" h="1431">
                    <a:moveTo>
                      <a:pt x="336" y="25"/>
                    </a:moveTo>
                    <a:lnTo>
                      <a:pt x="259" y="0"/>
                    </a:lnTo>
                    <a:lnTo>
                      <a:pt x="186" y="34"/>
                    </a:lnTo>
                    <a:lnTo>
                      <a:pt x="141" y="155"/>
                    </a:lnTo>
                    <a:lnTo>
                      <a:pt x="186" y="349"/>
                    </a:lnTo>
                    <a:lnTo>
                      <a:pt x="259" y="452"/>
                    </a:lnTo>
                    <a:lnTo>
                      <a:pt x="336" y="631"/>
                    </a:lnTo>
                    <a:lnTo>
                      <a:pt x="377" y="722"/>
                    </a:lnTo>
                    <a:lnTo>
                      <a:pt x="377" y="837"/>
                    </a:lnTo>
                    <a:lnTo>
                      <a:pt x="275" y="953"/>
                    </a:lnTo>
                    <a:lnTo>
                      <a:pt x="136" y="1077"/>
                    </a:lnTo>
                    <a:lnTo>
                      <a:pt x="51" y="1143"/>
                    </a:lnTo>
                    <a:lnTo>
                      <a:pt x="0" y="1194"/>
                    </a:lnTo>
                    <a:lnTo>
                      <a:pt x="0" y="1250"/>
                    </a:lnTo>
                    <a:lnTo>
                      <a:pt x="56" y="1258"/>
                    </a:lnTo>
                    <a:lnTo>
                      <a:pt x="192" y="1285"/>
                    </a:lnTo>
                    <a:lnTo>
                      <a:pt x="389" y="1362"/>
                    </a:lnTo>
                    <a:lnTo>
                      <a:pt x="445" y="1417"/>
                    </a:lnTo>
                    <a:lnTo>
                      <a:pt x="522" y="1431"/>
                    </a:lnTo>
                    <a:lnTo>
                      <a:pt x="613" y="1365"/>
                    </a:lnTo>
                    <a:lnTo>
                      <a:pt x="557" y="1337"/>
                    </a:lnTo>
                    <a:lnTo>
                      <a:pt x="342" y="1276"/>
                    </a:lnTo>
                    <a:lnTo>
                      <a:pt x="203" y="1246"/>
                    </a:lnTo>
                    <a:lnTo>
                      <a:pt x="101" y="1210"/>
                    </a:lnTo>
                    <a:lnTo>
                      <a:pt x="101" y="1198"/>
                    </a:lnTo>
                    <a:lnTo>
                      <a:pt x="118" y="1168"/>
                    </a:lnTo>
                    <a:lnTo>
                      <a:pt x="186" y="1107"/>
                    </a:lnTo>
                    <a:lnTo>
                      <a:pt x="377" y="979"/>
                    </a:lnTo>
                    <a:lnTo>
                      <a:pt x="489" y="871"/>
                    </a:lnTo>
                    <a:lnTo>
                      <a:pt x="512" y="795"/>
                    </a:lnTo>
                    <a:lnTo>
                      <a:pt x="495" y="683"/>
                    </a:lnTo>
                    <a:lnTo>
                      <a:pt x="445" y="592"/>
                    </a:lnTo>
                    <a:lnTo>
                      <a:pt x="377" y="464"/>
                    </a:lnTo>
                    <a:lnTo>
                      <a:pt x="354" y="331"/>
                    </a:lnTo>
                    <a:lnTo>
                      <a:pt x="354" y="201"/>
                    </a:lnTo>
                    <a:lnTo>
                      <a:pt x="354" y="86"/>
                    </a:lnTo>
                    <a:lnTo>
                      <a:pt x="33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39800" y="5418360"/>
                <a:ext cx="396360" cy="1227240"/>
              </a:xfrm>
              <a:custGeom>
                <a:avLst/>
                <a:gdLst/>
                <a:ahLst/>
                <a:rect l="l" t="t" r="r" b="b"/>
                <a:pathLst>
                  <a:path w="500" h="1546">
                    <a:moveTo>
                      <a:pt x="255" y="240"/>
                    </a:moveTo>
                    <a:lnTo>
                      <a:pt x="316" y="78"/>
                    </a:lnTo>
                    <a:lnTo>
                      <a:pt x="388" y="0"/>
                    </a:lnTo>
                    <a:lnTo>
                      <a:pt x="438" y="0"/>
                    </a:lnTo>
                    <a:lnTo>
                      <a:pt x="500" y="39"/>
                    </a:lnTo>
                    <a:lnTo>
                      <a:pt x="483" y="176"/>
                    </a:lnTo>
                    <a:lnTo>
                      <a:pt x="432" y="292"/>
                    </a:lnTo>
                    <a:lnTo>
                      <a:pt x="320" y="412"/>
                    </a:lnTo>
                    <a:lnTo>
                      <a:pt x="222" y="606"/>
                    </a:lnTo>
                    <a:lnTo>
                      <a:pt x="166" y="718"/>
                    </a:lnTo>
                    <a:lnTo>
                      <a:pt x="137" y="825"/>
                    </a:lnTo>
                    <a:lnTo>
                      <a:pt x="154" y="937"/>
                    </a:lnTo>
                    <a:lnTo>
                      <a:pt x="199" y="1070"/>
                    </a:lnTo>
                    <a:lnTo>
                      <a:pt x="237" y="1143"/>
                    </a:lnTo>
                    <a:lnTo>
                      <a:pt x="272" y="1246"/>
                    </a:lnTo>
                    <a:lnTo>
                      <a:pt x="266" y="1289"/>
                    </a:lnTo>
                    <a:lnTo>
                      <a:pt x="187" y="1452"/>
                    </a:lnTo>
                    <a:lnTo>
                      <a:pt x="166" y="1543"/>
                    </a:lnTo>
                    <a:lnTo>
                      <a:pt x="98" y="1546"/>
                    </a:lnTo>
                    <a:lnTo>
                      <a:pt x="15" y="1504"/>
                    </a:lnTo>
                    <a:lnTo>
                      <a:pt x="4" y="1464"/>
                    </a:lnTo>
                    <a:lnTo>
                      <a:pt x="38" y="1418"/>
                    </a:lnTo>
                    <a:lnTo>
                      <a:pt x="133" y="1328"/>
                    </a:lnTo>
                    <a:lnTo>
                      <a:pt x="187" y="1276"/>
                    </a:lnTo>
                    <a:lnTo>
                      <a:pt x="199" y="1233"/>
                    </a:lnTo>
                    <a:lnTo>
                      <a:pt x="166" y="1155"/>
                    </a:lnTo>
                    <a:lnTo>
                      <a:pt x="104" y="1058"/>
                    </a:lnTo>
                    <a:lnTo>
                      <a:pt x="48" y="940"/>
                    </a:lnTo>
                    <a:lnTo>
                      <a:pt x="15" y="858"/>
                    </a:lnTo>
                    <a:lnTo>
                      <a:pt x="0" y="761"/>
                    </a:lnTo>
                    <a:lnTo>
                      <a:pt x="48" y="658"/>
                    </a:lnTo>
                    <a:lnTo>
                      <a:pt x="121" y="516"/>
                    </a:lnTo>
                    <a:lnTo>
                      <a:pt x="222" y="357"/>
                    </a:lnTo>
                    <a:lnTo>
                      <a:pt x="255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843280" y="3157560"/>
              <a:ext cx="2171160" cy="3489120"/>
              <a:chOff x="2843280" y="3157560"/>
              <a:chExt cx="2171160" cy="3489120"/>
            </a:xfrm>
          </p:grpSpPr>
          <p:sp>
            <p:nvSpPr>
              <p:cNvPr id="223" name=""/>
              <p:cNvSpPr/>
              <p:nvPr/>
            </p:nvSpPr>
            <p:spPr>
              <a:xfrm>
                <a:off x="3889080" y="3965400"/>
                <a:ext cx="433080" cy="569880"/>
              </a:xfrm>
              <a:custGeom>
                <a:avLst/>
                <a:gdLst/>
                <a:ahLst/>
                <a:rect l="l" t="t" r="r" b="b"/>
                <a:pathLst>
                  <a:path w="547" h="718">
                    <a:moveTo>
                      <a:pt x="6" y="368"/>
                    </a:moveTo>
                    <a:lnTo>
                      <a:pt x="23" y="288"/>
                    </a:lnTo>
                    <a:lnTo>
                      <a:pt x="74" y="217"/>
                    </a:lnTo>
                    <a:lnTo>
                      <a:pt x="141" y="180"/>
                    </a:lnTo>
                    <a:lnTo>
                      <a:pt x="209" y="149"/>
                    </a:lnTo>
                    <a:lnTo>
                      <a:pt x="226" y="0"/>
                    </a:lnTo>
                    <a:lnTo>
                      <a:pt x="288" y="16"/>
                    </a:lnTo>
                    <a:lnTo>
                      <a:pt x="276" y="156"/>
                    </a:lnTo>
                    <a:lnTo>
                      <a:pt x="344" y="167"/>
                    </a:lnTo>
                    <a:lnTo>
                      <a:pt x="444" y="210"/>
                    </a:lnTo>
                    <a:lnTo>
                      <a:pt x="524" y="311"/>
                    </a:lnTo>
                    <a:lnTo>
                      <a:pt x="547" y="418"/>
                    </a:lnTo>
                    <a:lnTo>
                      <a:pt x="529" y="537"/>
                    </a:lnTo>
                    <a:lnTo>
                      <a:pt x="491" y="642"/>
                    </a:lnTo>
                    <a:lnTo>
                      <a:pt x="394" y="698"/>
                    </a:lnTo>
                    <a:lnTo>
                      <a:pt x="294" y="718"/>
                    </a:lnTo>
                    <a:lnTo>
                      <a:pt x="159" y="718"/>
                    </a:lnTo>
                    <a:lnTo>
                      <a:pt x="74" y="650"/>
                    </a:lnTo>
                    <a:lnTo>
                      <a:pt x="6" y="547"/>
                    </a:lnTo>
                    <a:lnTo>
                      <a:pt x="0" y="471"/>
                    </a:lnTo>
                    <a:lnTo>
                      <a:pt x="0" y="418"/>
                    </a:lnTo>
                    <a:lnTo>
                      <a:pt x="6" y="3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36880" y="4567320"/>
                <a:ext cx="547200" cy="1041120"/>
              </a:xfrm>
              <a:custGeom>
                <a:avLst/>
                <a:gdLst/>
                <a:ahLst/>
                <a:rect l="l" t="t" r="r" b="b"/>
                <a:pathLst>
                  <a:path w="689" h="1311">
                    <a:moveTo>
                      <a:pt x="256" y="21"/>
                    </a:moveTo>
                    <a:lnTo>
                      <a:pt x="336" y="0"/>
                    </a:lnTo>
                    <a:lnTo>
                      <a:pt x="426" y="12"/>
                    </a:lnTo>
                    <a:lnTo>
                      <a:pt x="538" y="85"/>
                    </a:lnTo>
                    <a:lnTo>
                      <a:pt x="627" y="231"/>
                    </a:lnTo>
                    <a:lnTo>
                      <a:pt x="672" y="373"/>
                    </a:lnTo>
                    <a:lnTo>
                      <a:pt x="689" y="540"/>
                    </a:lnTo>
                    <a:lnTo>
                      <a:pt x="672" y="720"/>
                    </a:lnTo>
                    <a:lnTo>
                      <a:pt x="589" y="951"/>
                    </a:lnTo>
                    <a:lnTo>
                      <a:pt x="560" y="965"/>
                    </a:lnTo>
                    <a:lnTo>
                      <a:pt x="436" y="1157"/>
                    </a:lnTo>
                    <a:lnTo>
                      <a:pt x="374" y="1269"/>
                    </a:lnTo>
                    <a:lnTo>
                      <a:pt x="274" y="1308"/>
                    </a:lnTo>
                    <a:lnTo>
                      <a:pt x="123" y="1311"/>
                    </a:lnTo>
                    <a:lnTo>
                      <a:pt x="5" y="1269"/>
                    </a:lnTo>
                    <a:lnTo>
                      <a:pt x="0" y="1183"/>
                    </a:lnTo>
                    <a:lnTo>
                      <a:pt x="50" y="1068"/>
                    </a:lnTo>
                    <a:lnTo>
                      <a:pt x="83" y="999"/>
                    </a:lnTo>
                    <a:lnTo>
                      <a:pt x="135" y="922"/>
                    </a:lnTo>
                    <a:lnTo>
                      <a:pt x="168" y="844"/>
                    </a:lnTo>
                    <a:lnTo>
                      <a:pt x="185" y="720"/>
                    </a:lnTo>
                    <a:lnTo>
                      <a:pt x="150" y="579"/>
                    </a:lnTo>
                    <a:lnTo>
                      <a:pt x="117" y="462"/>
                    </a:lnTo>
                    <a:lnTo>
                      <a:pt x="88" y="373"/>
                    </a:lnTo>
                    <a:lnTo>
                      <a:pt x="88" y="227"/>
                    </a:lnTo>
                    <a:lnTo>
                      <a:pt x="106" y="163"/>
                    </a:lnTo>
                    <a:lnTo>
                      <a:pt x="150" y="76"/>
                    </a:lnTo>
                    <a:lnTo>
                      <a:pt x="253" y="21"/>
                    </a:lnTo>
                    <a:lnTo>
                      <a:pt x="253" y="25"/>
                    </a:lnTo>
                    <a:lnTo>
                      <a:pt x="25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43280" y="3583080"/>
                <a:ext cx="1104840" cy="1245960"/>
              </a:xfrm>
              <a:custGeom>
                <a:avLst/>
                <a:gdLst/>
                <a:ahLst/>
                <a:rect l="l" t="t" r="r" b="b"/>
                <a:pathLst>
                  <a:path w="1393" h="1570">
                    <a:moveTo>
                      <a:pt x="1240" y="1328"/>
                    </a:moveTo>
                    <a:lnTo>
                      <a:pt x="1340" y="1379"/>
                    </a:lnTo>
                    <a:lnTo>
                      <a:pt x="1393" y="1445"/>
                    </a:lnTo>
                    <a:lnTo>
                      <a:pt x="1381" y="1518"/>
                    </a:lnTo>
                    <a:lnTo>
                      <a:pt x="1325" y="1570"/>
                    </a:lnTo>
                    <a:lnTo>
                      <a:pt x="1263" y="1561"/>
                    </a:lnTo>
                    <a:lnTo>
                      <a:pt x="1128" y="1470"/>
                    </a:lnTo>
                    <a:lnTo>
                      <a:pt x="919" y="1285"/>
                    </a:lnTo>
                    <a:lnTo>
                      <a:pt x="734" y="1097"/>
                    </a:lnTo>
                    <a:lnTo>
                      <a:pt x="589" y="917"/>
                    </a:lnTo>
                    <a:lnTo>
                      <a:pt x="471" y="745"/>
                    </a:lnTo>
                    <a:lnTo>
                      <a:pt x="386" y="569"/>
                    </a:lnTo>
                    <a:lnTo>
                      <a:pt x="330" y="402"/>
                    </a:lnTo>
                    <a:lnTo>
                      <a:pt x="313" y="326"/>
                    </a:lnTo>
                    <a:lnTo>
                      <a:pt x="168" y="269"/>
                    </a:lnTo>
                    <a:lnTo>
                      <a:pt x="0" y="247"/>
                    </a:lnTo>
                    <a:lnTo>
                      <a:pt x="10" y="219"/>
                    </a:lnTo>
                    <a:lnTo>
                      <a:pt x="168" y="223"/>
                    </a:lnTo>
                    <a:lnTo>
                      <a:pt x="236" y="223"/>
                    </a:lnTo>
                    <a:lnTo>
                      <a:pt x="168" y="171"/>
                    </a:lnTo>
                    <a:lnTo>
                      <a:pt x="95" y="120"/>
                    </a:lnTo>
                    <a:lnTo>
                      <a:pt x="50" y="102"/>
                    </a:lnTo>
                    <a:lnTo>
                      <a:pt x="83" y="68"/>
                    </a:lnTo>
                    <a:lnTo>
                      <a:pt x="145" y="120"/>
                    </a:lnTo>
                    <a:lnTo>
                      <a:pt x="280" y="159"/>
                    </a:lnTo>
                    <a:lnTo>
                      <a:pt x="280" y="89"/>
                    </a:lnTo>
                    <a:lnTo>
                      <a:pt x="245" y="25"/>
                    </a:lnTo>
                    <a:lnTo>
                      <a:pt x="245" y="0"/>
                    </a:lnTo>
                    <a:lnTo>
                      <a:pt x="280" y="0"/>
                    </a:lnTo>
                    <a:lnTo>
                      <a:pt x="336" y="89"/>
                    </a:lnTo>
                    <a:lnTo>
                      <a:pt x="386" y="159"/>
                    </a:lnTo>
                    <a:lnTo>
                      <a:pt x="436" y="89"/>
                    </a:lnTo>
                    <a:lnTo>
                      <a:pt x="448" y="4"/>
                    </a:lnTo>
                    <a:lnTo>
                      <a:pt x="498" y="4"/>
                    </a:lnTo>
                    <a:lnTo>
                      <a:pt x="483" y="159"/>
                    </a:lnTo>
                    <a:lnTo>
                      <a:pt x="386" y="283"/>
                    </a:lnTo>
                    <a:lnTo>
                      <a:pt x="404" y="441"/>
                    </a:lnTo>
                    <a:lnTo>
                      <a:pt x="487" y="617"/>
                    </a:lnTo>
                    <a:lnTo>
                      <a:pt x="616" y="788"/>
                    </a:lnTo>
                    <a:lnTo>
                      <a:pt x="786" y="990"/>
                    </a:lnTo>
                    <a:lnTo>
                      <a:pt x="943" y="1145"/>
                    </a:lnTo>
                    <a:lnTo>
                      <a:pt x="1122" y="1273"/>
                    </a:lnTo>
                    <a:lnTo>
                      <a:pt x="1240" y="13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98680" y="3157560"/>
                <a:ext cx="815760" cy="1611360"/>
              </a:xfrm>
              <a:custGeom>
                <a:avLst/>
                <a:gdLst/>
                <a:ahLst/>
                <a:rect l="l" t="t" r="r" b="b"/>
                <a:pathLst>
                  <a:path w="1030" h="2031">
                    <a:moveTo>
                      <a:pt x="51" y="1880"/>
                    </a:moveTo>
                    <a:lnTo>
                      <a:pt x="153" y="1759"/>
                    </a:lnTo>
                    <a:lnTo>
                      <a:pt x="315" y="1567"/>
                    </a:lnTo>
                    <a:lnTo>
                      <a:pt x="389" y="1386"/>
                    </a:lnTo>
                    <a:lnTo>
                      <a:pt x="483" y="1089"/>
                    </a:lnTo>
                    <a:lnTo>
                      <a:pt x="568" y="833"/>
                    </a:lnTo>
                    <a:lnTo>
                      <a:pt x="603" y="613"/>
                    </a:lnTo>
                    <a:lnTo>
                      <a:pt x="659" y="361"/>
                    </a:lnTo>
                    <a:lnTo>
                      <a:pt x="642" y="257"/>
                    </a:lnTo>
                    <a:lnTo>
                      <a:pt x="541" y="176"/>
                    </a:lnTo>
                    <a:lnTo>
                      <a:pt x="483" y="89"/>
                    </a:lnTo>
                    <a:lnTo>
                      <a:pt x="524" y="51"/>
                    </a:lnTo>
                    <a:lnTo>
                      <a:pt x="568" y="124"/>
                    </a:lnTo>
                    <a:lnTo>
                      <a:pt x="642" y="163"/>
                    </a:lnTo>
                    <a:lnTo>
                      <a:pt x="642" y="103"/>
                    </a:lnTo>
                    <a:lnTo>
                      <a:pt x="642" y="0"/>
                    </a:lnTo>
                    <a:lnTo>
                      <a:pt x="674" y="0"/>
                    </a:lnTo>
                    <a:lnTo>
                      <a:pt x="703" y="103"/>
                    </a:lnTo>
                    <a:lnTo>
                      <a:pt x="727" y="154"/>
                    </a:lnTo>
                    <a:lnTo>
                      <a:pt x="810" y="76"/>
                    </a:lnTo>
                    <a:lnTo>
                      <a:pt x="844" y="0"/>
                    </a:lnTo>
                    <a:lnTo>
                      <a:pt x="895" y="34"/>
                    </a:lnTo>
                    <a:lnTo>
                      <a:pt x="844" y="115"/>
                    </a:lnTo>
                    <a:lnTo>
                      <a:pt x="794" y="192"/>
                    </a:lnTo>
                    <a:lnTo>
                      <a:pt x="939" y="167"/>
                    </a:lnTo>
                    <a:lnTo>
                      <a:pt x="1012" y="128"/>
                    </a:lnTo>
                    <a:lnTo>
                      <a:pt x="1030" y="154"/>
                    </a:lnTo>
                    <a:lnTo>
                      <a:pt x="956" y="201"/>
                    </a:lnTo>
                    <a:lnTo>
                      <a:pt x="871" y="227"/>
                    </a:lnTo>
                    <a:lnTo>
                      <a:pt x="788" y="282"/>
                    </a:lnTo>
                    <a:lnTo>
                      <a:pt x="738" y="382"/>
                    </a:lnTo>
                    <a:lnTo>
                      <a:pt x="686" y="552"/>
                    </a:lnTo>
                    <a:lnTo>
                      <a:pt x="636" y="824"/>
                    </a:lnTo>
                    <a:lnTo>
                      <a:pt x="586" y="1043"/>
                    </a:lnTo>
                    <a:lnTo>
                      <a:pt x="524" y="1249"/>
                    </a:lnTo>
                    <a:lnTo>
                      <a:pt x="450" y="1477"/>
                    </a:lnTo>
                    <a:lnTo>
                      <a:pt x="365" y="1683"/>
                    </a:lnTo>
                    <a:lnTo>
                      <a:pt x="248" y="1855"/>
                    </a:lnTo>
                    <a:lnTo>
                      <a:pt x="130" y="1979"/>
                    </a:lnTo>
                    <a:lnTo>
                      <a:pt x="45" y="2031"/>
                    </a:lnTo>
                    <a:lnTo>
                      <a:pt x="12" y="2004"/>
                    </a:lnTo>
                    <a:lnTo>
                      <a:pt x="0" y="1953"/>
                    </a:lnTo>
                    <a:lnTo>
                      <a:pt x="51" y="18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28920" y="5467320"/>
                <a:ext cx="651960" cy="1179360"/>
              </a:xfrm>
              <a:custGeom>
                <a:avLst/>
                <a:gdLst/>
                <a:ahLst/>
                <a:rect l="l" t="t" r="r" b="b"/>
                <a:pathLst>
                  <a:path w="821" h="1485">
                    <a:moveTo>
                      <a:pt x="516" y="215"/>
                    </a:moveTo>
                    <a:lnTo>
                      <a:pt x="589" y="124"/>
                    </a:lnTo>
                    <a:lnTo>
                      <a:pt x="701" y="0"/>
                    </a:lnTo>
                    <a:lnTo>
                      <a:pt x="809" y="12"/>
                    </a:lnTo>
                    <a:lnTo>
                      <a:pt x="821" y="112"/>
                    </a:lnTo>
                    <a:lnTo>
                      <a:pt x="786" y="167"/>
                    </a:lnTo>
                    <a:lnTo>
                      <a:pt x="719" y="231"/>
                    </a:lnTo>
                    <a:lnTo>
                      <a:pt x="584" y="321"/>
                    </a:lnTo>
                    <a:lnTo>
                      <a:pt x="483" y="410"/>
                    </a:lnTo>
                    <a:lnTo>
                      <a:pt x="433" y="488"/>
                    </a:lnTo>
                    <a:lnTo>
                      <a:pt x="381" y="586"/>
                    </a:lnTo>
                    <a:lnTo>
                      <a:pt x="398" y="716"/>
                    </a:lnTo>
                    <a:lnTo>
                      <a:pt x="489" y="796"/>
                    </a:lnTo>
                    <a:lnTo>
                      <a:pt x="556" y="920"/>
                    </a:lnTo>
                    <a:lnTo>
                      <a:pt x="584" y="1053"/>
                    </a:lnTo>
                    <a:lnTo>
                      <a:pt x="601" y="1215"/>
                    </a:lnTo>
                    <a:lnTo>
                      <a:pt x="572" y="1370"/>
                    </a:lnTo>
                    <a:lnTo>
                      <a:pt x="489" y="1409"/>
                    </a:lnTo>
                    <a:lnTo>
                      <a:pt x="398" y="1396"/>
                    </a:lnTo>
                    <a:lnTo>
                      <a:pt x="263" y="1421"/>
                    </a:lnTo>
                    <a:lnTo>
                      <a:pt x="128" y="1485"/>
                    </a:lnTo>
                    <a:lnTo>
                      <a:pt x="62" y="1473"/>
                    </a:lnTo>
                    <a:lnTo>
                      <a:pt x="0" y="1421"/>
                    </a:lnTo>
                    <a:lnTo>
                      <a:pt x="27" y="1396"/>
                    </a:lnTo>
                    <a:lnTo>
                      <a:pt x="101" y="1375"/>
                    </a:lnTo>
                    <a:lnTo>
                      <a:pt x="269" y="1345"/>
                    </a:lnTo>
                    <a:lnTo>
                      <a:pt x="421" y="1345"/>
                    </a:lnTo>
                    <a:lnTo>
                      <a:pt x="472" y="1345"/>
                    </a:lnTo>
                    <a:lnTo>
                      <a:pt x="504" y="1306"/>
                    </a:lnTo>
                    <a:lnTo>
                      <a:pt x="522" y="1229"/>
                    </a:lnTo>
                    <a:lnTo>
                      <a:pt x="500" y="1075"/>
                    </a:lnTo>
                    <a:lnTo>
                      <a:pt x="448" y="925"/>
                    </a:lnTo>
                    <a:lnTo>
                      <a:pt x="371" y="844"/>
                    </a:lnTo>
                    <a:lnTo>
                      <a:pt x="298" y="766"/>
                    </a:lnTo>
                    <a:lnTo>
                      <a:pt x="251" y="655"/>
                    </a:lnTo>
                    <a:lnTo>
                      <a:pt x="263" y="540"/>
                    </a:lnTo>
                    <a:lnTo>
                      <a:pt x="319" y="424"/>
                    </a:lnTo>
                    <a:lnTo>
                      <a:pt x="415" y="321"/>
                    </a:lnTo>
                    <a:lnTo>
                      <a:pt x="516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60720" y="5494320"/>
                <a:ext cx="556920" cy="1150920"/>
              </a:xfrm>
              <a:custGeom>
                <a:avLst/>
                <a:gdLst/>
                <a:ahLst/>
                <a:rect l="l" t="t" r="r" b="b"/>
                <a:pathLst>
                  <a:path w="703" h="1450">
                    <a:moveTo>
                      <a:pt x="288" y="231"/>
                    </a:moveTo>
                    <a:lnTo>
                      <a:pt x="129" y="176"/>
                    </a:lnTo>
                    <a:lnTo>
                      <a:pt x="35" y="128"/>
                    </a:lnTo>
                    <a:lnTo>
                      <a:pt x="0" y="61"/>
                    </a:lnTo>
                    <a:lnTo>
                      <a:pt x="52" y="13"/>
                    </a:lnTo>
                    <a:lnTo>
                      <a:pt x="164" y="0"/>
                    </a:lnTo>
                    <a:lnTo>
                      <a:pt x="249" y="22"/>
                    </a:lnTo>
                    <a:lnTo>
                      <a:pt x="417" y="150"/>
                    </a:lnTo>
                    <a:lnTo>
                      <a:pt x="570" y="253"/>
                    </a:lnTo>
                    <a:lnTo>
                      <a:pt x="653" y="370"/>
                    </a:lnTo>
                    <a:lnTo>
                      <a:pt x="676" y="459"/>
                    </a:lnTo>
                    <a:lnTo>
                      <a:pt x="703" y="567"/>
                    </a:lnTo>
                    <a:lnTo>
                      <a:pt x="688" y="692"/>
                    </a:lnTo>
                    <a:lnTo>
                      <a:pt x="570" y="837"/>
                    </a:lnTo>
                    <a:lnTo>
                      <a:pt x="467" y="940"/>
                    </a:lnTo>
                    <a:lnTo>
                      <a:pt x="373" y="1065"/>
                    </a:lnTo>
                    <a:lnTo>
                      <a:pt x="299" y="1129"/>
                    </a:lnTo>
                    <a:lnTo>
                      <a:pt x="238" y="1193"/>
                    </a:lnTo>
                    <a:lnTo>
                      <a:pt x="238" y="1232"/>
                    </a:lnTo>
                    <a:lnTo>
                      <a:pt x="299" y="1244"/>
                    </a:lnTo>
                    <a:lnTo>
                      <a:pt x="423" y="1262"/>
                    </a:lnTo>
                    <a:lnTo>
                      <a:pt x="552" y="1301"/>
                    </a:lnTo>
                    <a:lnTo>
                      <a:pt x="659" y="1374"/>
                    </a:lnTo>
                    <a:lnTo>
                      <a:pt x="637" y="1417"/>
                    </a:lnTo>
                    <a:lnTo>
                      <a:pt x="541" y="1450"/>
                    </a:lnTo>
                    <a:lnTo>
                      <a:pt x="467" y="1417"/>
                    </a:lnTo>
                    <a:lnTo>
                      <a:pt x="388" y="1351"/>
                    </a:lnTo>
                    <a:lnTo>
                      <a:pt x="299" y="1314"/>
                    </a:lnTo>
                    <a:lnTo>
                      <a:pt x="220" y="1296"/>
                    </a:lnTo>
                    <a:lnTo>
                      <a:pt x="153" y="1287"/>
                    </a:lnTo>
                    <a:lnTo>
                      <a:pt x="97" y="1275"/>
                    </a:lnTo>
                    <a:lnTo>
                      <a:pt x="79" y="1257"/>
                    </a:lnTo>
                    <a:lnTo>
                      <a:pt x="85" y="1219"/>
                    </a:lnTo>
                    <a:lnTo>
                      <a:pt x="187" y="1141"/>
                    </a:lnTo>
                    <a:lnTo>
                      <a:pt x="355" y="1001"/>
                    </a:lnTo>
                    <a:lnTo>
                      <a:pt x="502" y="811"/>
                    </a:lnTo>
                    <a:lnTo>
                      <a:pt x="558" y="717"/>
                    </a:lnTo>
                    <a:lnTo>
                      <a:pt x="591" y="613"/>
                    </a:lnTo>
                    <a:lnTo>
                      <a:pt x="585" y="486"/>
                    </a:lnTo>
                    <a:lnTo>
                      <a:pt x="523" y="382"/>
                    </a:lnTo>
                    <a:lnTo>
                      <a:pt x="435" y="297"/>
                    </a:lnTo>
                    <a:lnTo>
                      <a:pt x="288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074920" y="4081680"/>
              <a:ext cx="1276200" cy="1520640"/>
              <a:chOff x="5074920" y="4081680"/>
              <a:chExt cx="1276200" cy="1520640"/>
            </a:xfrm>
          </p:grpSpPr>
          <p:sp>
            <p:nvSpPr>
              <p:cNvPr id="230" name=""/>
              <p:cNvSpPr/>
              <p:nvPr/>
            </p:nvSpPr>
            <p:spPr>
              <a:xfrm>
                <a:off x="5074920" y="4081680"/>
                <a:ext cx="1276200" cy="1520640"/>
              </a:xfrm>
              <a:custGeom>
                <a:avLst/>
                <a:gdLst/>
                <a:ahLst/>
                <a:rect l="l" t="t" r="r" b="b"/>
                <a:pathLst>
                  <a:path w="1609" h="1918">
                    <a:moveTo>
                      <a:pt x="235" y="0"/>
                    </a:moveTo>
                    <a:lnTo>
                      <a:pt x="139" y="146"/>
                    </a:lnTo>
                    <a:lnTo>
                      <a:pt x="83" y="271"/>
                    </a:lnTo>
                    <a:lnTo>
                      <a:pt x="33" y="404"/>
                    </a:lnTo>
                    <a:lnTo>
                      <a:pt x="0" y="507"/>
                    </a:lnTo>
                    <a:lnTo>
                      <a:pt x="38" y="656"/>
                    </a:lnTo>
                    <a:lnTo>
                      <a:pt x="156" y="747"/>
                    </a:lnTo>
                    <a:lnTo>
                      <a:pt x="253" y="836"/>
                    </a:lnTo>
                    <a:lnTo>
                      <a:pt x="218" y="1072"/>
                    </a:lnTo>
                    <a:lnTo>
                      <a:pt x="168" y="1394"/>
                    </a:lnTo>
                    <a:lnTo>
                      <a:pt x="206" y="1737"/>
                    </a:lnTo>
                    <a:lnTo>
                      <a:pt x="257" y="1891"/>
                    </a:lnTo>
                    <a:lnTo>
                      <a:pt x="477" y="1840"/>
                    </a:lnTo>
                    <a:lnTo>
                      <a:pt x="629" y="1831"/>
                    </a:lnTo>
                    <a:lnTo>
                      <a:pt x="859" y="1840"/>
                    </a:lnTo>
                    <a:lnTo>
                      <a:pt x="1062" y="1897"/>
                    </a:lnTo>
                    <a:lnTo>
                      <a:pt x="1180" y="1918"/>
                    </a:lnTo>
                    <a:lnTo>
                      <a:pt x="1180" y="1788"/>
                    </a:lnTo>
                    <a:lnTo>
                      <a:pt x="1153" y="1545"/>
                    </a:lnTo>
                    <a:lnTo>
                      <a:pt x="1101" y="1305"/>
                    </a:lnTo>
                    <a:lnTo>
                      <a:pt x="1062" y="1069"/>
                    </a:lnTo>
                    <a:lnTo>
                      <a:pt x="1045" y="981"/>
                    </a:lnTo>
                    <a:lnTo>
                      <a:pt x="1112" y="944"/>
                    </a:lnTo>
                    <a:lnTo>
                      <a:pt x="1298" y="990"/>
                    </a:lnTo>
                    <a:lnTo>
                      <a:pt x="1468" y="1033"/>
                    </a:lnTo>
                    <a:lnTo>
                      <a:pt x="1551" y="1099"/>
                    </a:lnTo>
                    <a:lnTo>
                      <a:pt x="1556" y="969"/>
                    </a:lnTo>
                    <a:lnTo>
                      <a:pt x="1609" y="811"/>
                    </a:lnTo>
                    <a:lnTo>
                      <a:pt x="1400" y="699"/>
                    </a:lnTo>
                    <a:lnTo>
                      <a:pt x="1230" y="617"/>
                    </a:lnTo>
                    <a:lnTo>
                      <a:pt x="1079" y="571"/>
                    </a:lnTo>
                    <a:lnTo>
                      <a:pt x="962" y="541"/>
                    </a:lnTo>
                    <a:lnTo>
                      <a:pt x="848" y="541"/>
                    </a:lnTo>
                    <a:lnTo>
                      <a:pt x="765" y="553"/>
                    </a:lnTo>
                    <a:lnTo>
                      <a:pt x="656" y="541"/>
                    </a:lnTo>
                    <a:lnTo>
                      <a:pt x="562" y="477"/>
                    </a:lnTo>
                    <a:lnTo>
                      <a:pt x="477" y="374"/>
                    </a:lnTo>
                    <a:lnTo>
                      <a:pt x="403" y="283"/>
                    </a:lnTo>
                    <a:lnTo>
                      <a:pt x="324" y="120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cc0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5148000" y="4171680"/>
                <a:ext cx="1136520" cy="1385280"/>
                <a:chOff x="5148000" y="4171680"/>
                <a:chExt cx="1136520" cy="13852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148000" y="4171680"/>
                  <a:ext cx="210960" cy="460080"/>
                </a:xfrm>
                <a:custGeom>
                  <a:avLst/>
                  <a:gdLst/>
                  <a:ahLst/>
                  <a:rect l="l" t="t" r="r" b="b"/>
                  <a:pathLst>
                    <a:path w="267" h="581">
                      <a:moveTo>
                        <a:pt x="0" y="516"/>
                      </a:moveTo>
                      <a:lnTo>
                        <a:pt x="18" y="388"/>
                      </a:lnTo>
                      <a:lnTo>
                        <a:pt x="78" y="249"/>
                      </a:lnTo>
                      <a:lnTo>
                        <a:pt x="128" y="134"/>
                      </a:lnTo>
                      <a:lnTo>
                        <a:pt x="167" y="43"/>
                      </a:lnTo>
                      <a:lnTo>
                        <a:pt x="217" y="0"/>
                      </a:lnTo>
                      <a:lnTo>
                        <a:pt x="267" y="25"/>
                      </a:lnTo>
                      <a:lnTo>
                        <a:pt x="196" y="158"/>
                      </a:lnTo>
                      <a:lnTo>
                        <a:pt x="112" y="336"/>
                      </a:lnTo>
                      <a:lnTo>
                        <a:pt x="62" y="494"/>
                      </a:lnTo>
                      <a:lnTo>
                        <a:pt x="62" y="581"/>
                      </a:lnTo>
                      <a:lnTo>
                        <a:pt x="0" y="581"/>
                      </a:lnTo>
                      <a:lnTo>
                        <a:pt x="0" y="478"/>
                      </a:lnTo>
                      <a:lnTo>
                        <a:pt x="0" y="5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246280" y="4333320"/>
                  <a:ext cx="196920" cy="388800"/>
                </a:xfrm>
                <a:custGeom>
                  <a:avLst/>
                  <a:gdLst/>
                  <a:ahLst/>
                  <a:rect l="l" t="t" r="r" b="b"/>
                  <a:pathLst>
                    <a:path w="247" h="490">
                      <a:moveTo>
                        <a:pt x="0" y="435"/>
                      </a:moveTo>
                      <a:lnTo>
                        <a:pt x="15" y="327"/>
                      </a:lnTo>
                      <a:lnTo>
                        <a:pt x="72" y="211"/>
                      </a:lnTo>
                      <a:lnTo>
                        <a:pt x="118" y="112"/>
                      </a:lnTo>
                      <a:lnTo>
                        <a:pt x="155" y="35"/>
                      </a:lnTo>
                      <a:lnTo>
                        <a:pt x="201" y="0"/>
                      </a:lnTo>
                      <a:lnTo>
                        <a:pt x="247" y="21"/>
                      </a:lnTo>
                      <a:lnTo>
                        <a:pt x="180" y="135"/>
                      </a:lnTo>
                      <a:lnTo>
                        <a:pt x="102" y="282"/>
                      </a:lnTo>
                      <a:lnTo>
                        <a:pt x="56" y="417"/>
                      </a:lnTo>
                      <a:lnTo>
                        <a:pt x="56" y="490"/>
                      </a:lnTo>
                      <a:lnTo>
                        <a:pt x="0" y="490"/>
                      </a:lnTo>
                      <a:lnTo>
                        <a:pt x="0" y="403"/>
                      </a:lnTo>
                      <a:lnTo>
                        <a:pt x="0" y="4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329080" y="4426920"/>
                  <a:ext cx="206280" cy="1117440"/>
                </a:xfrm>
                <a:custGeom>
                  <a:avLst/>
                  <a:gdLst/>
                  <a:ahLst/>
                  <a:rect l="l" t="t" r="r" b="b"/>
                  <a:pathLst>
                    <a:path w="259" h="1407">
                      <a:moveTo>
                        <a:pt x="51" y="1368"/>
                      </a:moveTo>
                      <a:lnTo>
                        <a:pt x="24" y="1210"/>
                      </a:lnTo>
                      <a:lnTo>
                        <a:pt x="0" y="995"/>
                      </a:lnTo>
                      <a:lnTo>
                        <a:pt x="6" y="732"/>
                      </a:lnTo>
                      <a:lnTo>
                        <a:pt x="24" y="478"/>
                      </a:lnTo>
                      <a:lnTo>
                        <a:pt x="68" y="280"/>
                      </a:lnTo>
                      <a:lnTo>
                        <a:pt x="124" y="124"/>
                      </a:lnTo>
                      <a:lnTo>
                        <a:pt x="192" y="0"/>
                      </a:lnTo>
                      <a:lnTo>
                        <a:pt x="259" y="78"/>
                      </a:lnTo>
                      <a:lnTo>
                        <a:pt x="192" y="202"/>
                      </a:lnTo>
                      <a:lnTo>
                        <a:pt x="159" y="311"/>
                      </a:lnTo>
                      <a:lnTo>
                        <a:pt x="118" y="504"/>
                      </a:lnTo>
                      <a:lnTo>
                        <a:pt x="91" y="783"/>
                      </a:lnTo>
                      <a:lnTo>
                        <a:pt x="91" y="1004"/>
                      </a:lnTo>
                      <a:lnTo>
                        <a:pt x="107" y="1174"/>
                      </a:lnTo>
                      <a:lnTo>
                        <a:pt x="136" y="1286"/>
                      </a:lnTo>
                      <a:lnTo>
                        <a:pt x="159" y="1377"/>
                      </a:lnTo>
                      <a:lnTo>
                        <a:pt x="56" y="1407"/>
                      </a:lnTo>
                      <a:lnTo>
                        <a:pt x="51" y="13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514840" y="4527000"/>
                  <a:ext cx="155520" cy="991800"/>
                </a:xfrm>
                <a:custGeom>
                  <a:avLst/>
                  <a:gdLst/>
                  <a:ahLst/>
                  <a:rect l="l" t="t" r="r" b="b"/>
                  <a:pathLst>
                    <a:path w="195" h="1251">
                      <a:moveTo>
                        <a:pt x="56" y="1239"/>
                      </a:moveTo>
                      <a:lnTo>
                        <a:pt x="15" y="1033"/>
                      </a:lnTo>
                      <a:lnTo>
                        <a:pt x="0" y="810"/>
                      </a:lnTo>
                      <a:lnTo>
                        <a:pt x="0" y="595"/>
                      </a:lnTo>
                      <a:lnTo>
                        <a:pt x="15" y="411"/>
                      </a:lnTo>
                      <a:lnTo>
                        <a:pt x="33" y="219"/>
                      </a:lnTo>
                      <a:lnTo>
                        <a:pt x="91" y="69"/>
                      </a:lnTo>
                      <a:lnTo>
                        <a:pt x="126" y="0"/>
                      </a:lnTo>
                      <a:lnTo>
                        <a:pt x="195" y="0"/>
                      </a:lnTo>
                      <a:lnTo>
                        <a:pt x="143" y="206"/>
                      </a:lnTo>
                      <a:lnTo>
                        <a:pt x="126" y="377"/>
                      </a:lnTo>
                      <a:lnTo>
                        <a:pt x="120" y="592"/>
                      </a:lnTo>
                      <a:lnTo>
                        <a:pt x="120" y="810"/>
                      </a:lnTo>
                      <a:lnTo>
                        <a:pt x="126" y="1059"/>
                      </a:lnTo>
                      <a:lnTo>
                        <a:pt x="143" y="1200"/>
                      </a:lnTo>
                      <a:lnTo>
                        <a:pt x="160" y="1251"/>
                      </a:lnTo>
                      <a:lnTo>
                        <a:pt x="56" y="12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00240" y="4511160"/>
                  <a:ext cx="154080" cy="1045800"/>
                </a:xfrm>
                <a:custGeom>
                  <a:avLst/>
                  <a:gdLst/>
                  <a:ahLst/>
                  <a:rect l="l" t="t" r="r" b="b"/>
                  <a:pathLst>
                    <a:path w="195" h="1318">
                      <a:moveTo>
                        <a:pt x="67" y="1258"/>
                      </a:moveTo>
                      <a:lnTo>
                        <a:pt x="21" y="1027"/>
                      </a:lnTo>
                      <a:lnTo>
                        <a:pt x="4" y="805"/>
                      </a:lnTo>
                      <a:lnTo>
                        <a:pt x="0" y="577"/>
                      </a:lnTo>
                      <a:lnTo>
                        <a:pt x="0" y="318"/>
                      </a:lnTo>
                      <a:lnTo>
                        <a:pt x="33" y="136"/>
                      </a:lnTo>
                      <a:lnTo>
                        <a:pt x="50" y="8"/>
                      </a:lnTo>
                      <a:lnTo>
                        <a:pt x="137" y="0"/>
                      </a:lnTo>
                      <a:lnTo>
                        <a:pt x="119" y="124"/>
                      </a:lnTo>
                      <a:lnTo>
                        <a:pt x="85" y="334"/>
                      </a:lnTo>
                      <a:lnTo>
                        <a:pt x="91" y="534"/>
                      </a:lnTo>
                      <a:lnTo>
                        <a:pt x="119" y="805"/>
                      </a:lnTo>
                      <a:lnTo>
                        <a:pt x="143" y="1036"/>
                      </a:lnTo>
                      <a:lnTo>
                        <a:pt x="172" y="1163"/>
                      </a:lnTo>
                      <a:lnTo>
                        <a:pt x="195" y="1318"/>
                      </a:lnTo>
                      <a:lnTo>
                        <a:pt x="67" y="1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856120" y="4538160"/>
                  <a:ext cx="104760" cy="331560"/>
                </a:xfrm>
                <a:custGeom>
                  <a:avLst/>
                  <a:gdLst/>
                  <a:ahLst/>
                  <a:rect l="l" t="t" r="r" b="b"/>
                  <a:pathLst>
                    <a:path w="131" h="420">
                      <a:moveTo>
                        <a:pt x="34" y="0"/>
                      </a:moveTo>
                      <a:lnTo>
                        <a:pt x="0" y="121"/>
                      </a:lnTo>
                      <a:lnTo>
                        <a:pt x="0" y="238"/>
                      </a:lnTo>
                      <a:lnTo>
                        <a:pt x="17" y="377"/>
                      </a:lnTo>
                      <a:lnTo>
                        <a:pt x="34" y="420"/>
                      </a:lnTo>
                      <a:lnTo>
                        <a:pt x="121" y="338"/>
                      </a:lnTo>
                      <a:lnTo>
                        <a:pt x="87" y="208"/>
                      </a:lnTo>
                      <a:lnTo>
                        <a:pt x="98" y="78"/>
                      </a:lnTo>
                      <a:lnTo>
                        <a:pt x="131" y="18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027480" y="4590720"/>
                  <a:ext cx="106200" cy="254880"/>
                </a:xfrm>
                <a:custGeom>
                  <a:avLst/>
                  <a:gdLst/>
                  <a:ahLst/>
                  <a:rect l="l" t="t" r="r" b="b"/>
                  <a:pathLst>
                    <a:path w="135" h="323">
                      <a:moveTo>
                        <a:pt x="35" y="0"/>
                      </a:moveTo>
                      <a:lnTo>
                        <a:pt x="0" y="108"/>
                      </a:lnTo>
                      <a:lnTo>
                        <a:pt x="0" y="220"/>
                      </a:lnTo>
                      <a:lnTo>
                        <a:pt x="35" y="302"/>
                      </a:lnTo>
                      <a:lnTo>
                        <a:pt x="135" y="323"/>
                      </a:lnTo>
                      <a:lnTo>
                        <a:pt x="97" y="247"/>
                      </a:lnTo>
                      <a:lnTo>
                        <a:pt x="102" y="130"/>
                      </a:lnTo>
                      <a:lnTo>
                        <a:pt x="135" y="4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202080" y="4674600"/>
                  <a:ext cx="82440" cy="223560"/>
                </a:xfrm>
                <a:custGeom>
                  <a:avLst/>
                  <a:gdLst/>
                  <a:ahLst/>
                  <a:rect l="l" t="t" r="r" b="b"/>
                  <a:pathLst>
                    <a:path w="105" h="282">
                      <a:moveTo>
                        <a:pt x="23" y="0"/>
                      </a:moveTo>
                      <a:lnTo>
                        <a:pt x="0" y="60"/>
                      </a:lnTo>
                      <a:lnTo>
                        <a:pt x="0" y="168"/>
                      </a:lnTo>
                      <a:lnTo>
                        <a:pt x="16" y="256"/>
                      </a:lnTo>
                      <a:lnTo>
                        <a:pt x="105" y="282"/>
                      </a:lnTo>
                      <a:lnTo>
                        <a:pt x="68" y="195"/>
                      </a:lnTo>
                      <a:lnTo>
                        <a:pt x="68" y="103"/>
                      </a:lnTo>
                      <a:lnTo>
                        <a:pt x="89" y="21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0" name=""/>
          <p:cNvSpPr/>
          <p:nvPr/>
        </p:nvSpPr>
        <p:spPr>
          <a:xfrm>
            <a:off x="1547640" y="981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УРА!  Мы сделали открытие 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3333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Мужской род – суффикс –ец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Женский род – суффикс – иц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81200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Алгоритм правописания суффиксов -ец, -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ыдели корень в сло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Если в слове после корня в безударном положении слышишь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[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  <a:ea typeface="Arial"/>
              </a:rPr>
              <a:t>иц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]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  <a:ea typeface="Arial"/>
              </a:rPr>
              <a:t>, определи род имени существительного (подставь ОН  или ОН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  <a:ea typeface="Arial"/>
              </a:rPr>
              <a:t>У существительных мужского рода пиши суффикс -ец. У существительных женского рода -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08000" y="1844640"/>
            <a:ext cx="252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квор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двор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холод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бо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расав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32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луж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лис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ур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умн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тиг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рл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льви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ословиц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9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Яйца  курицу не уч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Для матери ребёнок – до ста лет детё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 хитрецом водиться – в оба глаза гляде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745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05:47:11Z</dcterms:created>
  <dc:creator>Тарасова</dc:creator>
  <dc:description/>
  <dc:language>en-US</dc:language>
  <cp:lastModifiedBy>Тарасова</cp:lastModifiedBy>
  <dcterms:modified xsi:type="dcterms:W3CDTF">2008-01-31T05:55:47Z</dcterms:modified>
  <cp:revision>2</cp:revision>
  <dc:subject/>
  <dc:title>Слайд 1</dc:title>
</cp:coreProperties>
</file>