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8A21-9135-46B4-830E-FE0CC5BEE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C60C-E225-46FF-9DF2-427B0509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AEB9-9E88-4FBA-9746-E12825138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A1A9-4E6D-415A-9ED2-206D81638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ECAF-07ED-445B-AA68-31B74C6D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0A4B-43AD-4097-A327-D9249314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C224-ADA5-412C-90A4-47898C3A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9C2C-2115-41E4-899E-71C2E647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6A01-A486-4DAB-A192-31E87D57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4491-F78F-4CEF-BAD9-93D75DF5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B691-680C-445E-955A-3F941524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B2DE-92E4-470F-824A-0577AAA1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8E8B-308A-4B2D-A861-BCE53D282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ountian.ru/graph/1110658121_bg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ilovecz.ru/images/big/5i_4_v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8/8a/Leiner_Konstanz_Insel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czechtoday.cz/images/big/0hus_small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vali.ru/pic/pictures/97/r_p_1aff96040f9d4cf0b636a0ad881a4819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g-2007-01.photosight.ru/25/1888293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66680" y="457200"/>
            <a:ext cx="7391520" cy="14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уситское движение в Чехи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Картинка 88 из 89"/>
          <p:cNvPicPr/>
          <p:nvPr/>
        </p:nvPicPr>
        <p:blipFill>
          <a:blip r:embed="rId1"/>
          <a:stretch/>
        </p:blipFill>
        <p:spPr>
          <a:xfrm>
            <a:off x="762120" y="2438280"/>
            <a:ext cx="3178080" cy="4103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Картинка 10 из 130"/>
          <p:cNvPicPr/>
          <p:nvPr/>
        </p:nvPicPr>
        <p:blipFill>
          <a:blip r:embed="rId2"/>
          <a:stretch/>
        </p:blipFill>
        <p:spPr>
          <a:xfrm>
            <a:off x="5562720" y="2133720"/>
            <a:ext cx="3074760" cy="4000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довольство чешского обществ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62120" y="990720"/>
          <a:ext cx="7924680" cy="5824440"/>
        </p:xfrm>
        <a:graphic>
          <a:graphicData uri="http://schemas.openxmlformats.org/drawingml/2006/table">
            <a:tbl>
              <a:tblPr/>
              <a:tblGrid>
                <a:gridCol w="1828800"/>
                <a:gridCol w="6095880"/>
              </a:tblGrid>
              <a:tr h="84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и насел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чины недово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лкие и средние феода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обление земельных влад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нищание, зависимость от пан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громные денежные поборы церкв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рожане-чех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силие немцев в городском управлен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рогие церковные обря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стья-н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ие налоги и повинности в пользу государ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33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величение барщины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33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чная зависимость  от па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Картинка 5 из 13"/>
          <p:cNvPicPr/>
          <p:nvPr/>
        </p:nvPicPr>
        <p:blipFill>
          <a:blip r:embed="rId1"/>
          <a:stretch/>
        </p:blipFill>
        <p:spPr>
          <a:xfrm>
            <a:off x="2590920" y="990720"/>
            <a:ext cx="4363920" cy="5181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Картинка 12 из 2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55680" y="0"/>
            <a:ext cx="500724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Картинка 2 из 2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533520"/>
            <a:ext cx="8534520" cy="5790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Изображение:Leiner Konstanz Inse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57240" y="6480"/>
            <a:ext cx="5429520" cy="6846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58920" y="1276200"/>
            <a:ext cx="7656480" cy="4975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84360" y="33336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                  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6  июля  1415   год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200160" y="655560"/>
            <a:ext cx="8743680" cy="5546880"/>
            <a:chOff x="200160" y="655560"/>
            <a:chExt cx="8743680" cy="5546880"/>
          </a:xfrm>
        </p:grpSpPr>
        <p:sp>
          <p:nvSpPr>
            <p:cNvPr id="73" name=""/>
            <p:cNvSpPr/>
            <p:nvPr/>
          </p:nvSpPr>
          <p:spPr>
            <a:xfrm>
              <a:off x="200160" y="655560"/>
              <a:ext cx="8743680" cy="5546880"/>
            </a:xfrm>
            <a:prstGeom prst="rect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200160" y="655560"/>
              <a:ext cx="8686440" cy="5546880"/>
              <a:chOff x="200160" y="655560"/>
              <a:chExt cx="8686440" cy="5546880"/>
            </a:xfrm>
          </p:grpSpPr>
          <p:sp>
            <p:nvSpPr>
              <p:cNvPr id="75" name=""/>
              <p:cNvSpPr/>
              <p:nvPr/>
            </p:nvSpPr>
            <p:spPr>
              <a:xfrm>
                <a:off x="200160" y="655560"/>
                <a:ext cx="8686440" cy="5546880"/>
              </a:xfrm>
              <a:prstGeom prst="rect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00160" y="655560"/>
                <a:ext cx="8686440" cy="4861080"/>
              </a:xfrm>
              <a:prstGeom prst="rect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320" rIns="22320" tIns="22320" bIns="223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33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7" name="" descr="Памятник Яну Гусу"/>
          <p:cNvPicPr/>
          <p:nvPr/>
        </p:nvPicPr>
        <p:blipFill>
          <a:blip r:embed="rId1"/>
          <a:stretch/>
        </p:blipFill>
        <p:spPr>
          <a:xfrm>
            <a:off x="611280" y="692280"/>
            <a:ext cx="8001000" cy="5371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Картинка 15 из 2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66600"/>
            <a:ext cx="6705360" cy="6558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47920" y="457200"/>
            <a:ext cx="6705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260280"/>
            <a:ext cx="8153280" cy="58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419 г. – восстание в Праг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Начало  гуситских   войн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Гуситское       движ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УМЕРЕННЫЕ                       ТАБОРИ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(чашники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8820200">
            <a:off x="5639760" y="3008520"/>
            <a:ext cx="501840" cy="1485720"/>
          </a:xfrm>
          <a:prstGeom prst="downArrow">
            <a:avLst>
              <a:gd name="adj1" fmla="val 50000"/>
              <a:gd name="adj2" fmla="val 740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2809800">
            <a:off x="3181320" y="3019320"/>
            <a:ext cx="486000" cy="1447920"/>
          </a:xfrm>
          <a:prstGeom prst="downArrow">
            <a:avLst>
              <a:gd name="adj1" fmla="val 50000"/>
              <a:gd name="adj2" fmla="val 7448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1763640" y="1197000"/>
          <a:ext cx="685800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197000"/>
                    <a:ext cx="68580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1763640" y="1197000"/>
          <a:ext cx="6858000" cy="396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1197000"/>
                    <a:ext cx="68580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968640" y="2668680"/>
            <a:ext cx="343080" cy="360"/>
            <a:chOff x="3968640" y="2668680"/>
            <a:chExt cx="343080" cy="360"/>
          </a:xfrm>
        </p:grpSpPr>
        <p:sp>
          <p:nvSpPr>
            <p:cNvPr id="46" name=""/>
            <p:cNvSpPr/>
            <p:nvPr/>
          </p:nvSpPr>
          <p:spPr>
            <a:xfrm>
              <a:off x="3968640" y="2668680"/>
              <a:ext cx="343080" cy="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68640" y="2668680"/>
              <a:ext cx="343080" cy="360"/>
              <a:chOff x="3968640" y="2668680"/>
              <a:chExt cx="343080" cy="360"/>
            </a:xfrm>
          </p:grpSpPr>
          <p:sp>
            <p:nvSpPr>
              <p:cNvPr id="48" name=""/>
              <p:cNvSpPr/>
              <p:nvPr/>
            </p:nvSpPr>
            <p:spPr>
              <a:xfrm>
                <a:off x="3968640" y="2668680"/>
                <a:ext cx="343080" cy="36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968640" y="2668680"/>
                <a:ext cx="34308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0" name="" descr="Картинка 6 из 101"/>
          <p:cNvPicPr/>
          <p:nvPr/>
        </p:nvPicPr>
        <p:blipFill>
          <a:blip r:embed="rId1"/>
          <a:stretch/>
        </p:blipFill>
        <p:spPr>
          <a:xfrm>
            <a:off x="228600" y="304920"/>
            <a:ext cx="3279600" cy="4572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рл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V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-360" y="274320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57240" y="19047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Талантливый писате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Богатый коллекционе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Основатель Пражского университе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Покровитель искусст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Картинка 10 из 130"/>
          <p:cNvPicPr/>
          <p:nvPr/>
        </p:nvPicPr>
        <p:blipFill>
          <a:blip r:embed="rId1"/>
          <a:stretch/>
        </p:blipFill>
        <p:spPr>
          <a:xfrm>
            <a:off x="539640" y="549360"/>
            <a:ext cx="3297240" cy="4897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Картинка 2 из 89"/>
          <p:cNvPicPr/>
          <p:nvPr/>
        </p:nvPicPr>
        <p:blipFill>
          <a:blip r:embed="rId2"/>
          <a:stretch/>
        </p:blipFill>
        <p:spPr>
          <a:xfrm>
            <a:off x="4284720" y="260280"/>
            <a:ext cx="4637160" cy="6264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276720" y="1197000"/>
            <a:ext cx="2806560" cy="4032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434г. – г. Липа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БЕДА  «ЧАШНИКОВ»     НАД     ТАБОРИТ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648320" y="2598840"/>
          <a:ext cx="3809880" cy="28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98840"/>
                    <a:ext cx="3809880" cy="28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3520" y="609480"/>
            <a:ext cx="8381880" cy="68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Итоги    гуситского   движения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20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Крестьяне перестали платить десятину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20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Утвердилась гуситская церков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20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Королевская власть была ограничена сеймом. Чехия – сословная монарх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20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Из городов изгнано немецкое насел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20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Чехия оторвана от общеевропейского развит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20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Уничтожены сокровища церковного искус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20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20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Картинка 2 из 11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476280"/>
            <a:ext cx="7696440" cy="5772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Картинка 5 из 170"/>
          <p:cNvPicPr/>
          <p:nvPr/>
        </p:nvPicPr>
        <p:blipFill>
          <a:blip r:embed="rId1"/>
          <a:stretch/>
        </p:blipFill>
        <p:spPr>
          <a:xfrm>
            <a:off x="1116000" y="836640"/>
            <a:ext cx="7273800" cy="5184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Картинка 2 из 8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25720" y="1143000"/>
            <a:ext cx="3292560" cy="4572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Картинка 37 из 89"/>
          <p:cNvPicPr/>
          <p:nvPr/>
        </p:nvPicPr>
        <p:blipFill>
          <a:blip r:embed="rId1"/>
          <a:stretch/>
        </p:blipFill>
        <p:spPr>
          <a:xfrm>
            <a:off x="838080" y="457200"/>
            <a:ext cx="7620120" cy="602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довольство чешского обществ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762120" y="990720"/>
          <a:ext cx="7924680" cy="5562360"/>
        </p:xfrm>
        <a:graphic>
          <a:graphicData uri="http://schemas.openxmlformats.org/drawingml/2006/table">
            <a:tbl>
              <a:tblPr/>
              <a:tblGrid>
                <a:gridCol w="1828800"/>
                <a:gridCol w="6095880"/>
              </a:tblGrid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и насел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чины недово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лкие и средние феода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рожане-чех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стья-н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довольство чешского обществ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62120" y="990720"/>
          <a:ext cx="7924680" cy="5562360"/>
        </p:xfrm>
        <a:graphic>
          <a:graphicData uri="http://schemas.openxmlformats.org/drawingml/2006/table">
            <a:tbl>
              <a:tblPr/>
              <a:tblGrid>
                <a:gridCol w="1828800"/>
                <a:gridCol w="6095880"/>
              </a:tblGrid>
              <a:tr h="84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и насел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чины недово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лкие и средние феода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обление земельных влад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нищание, зависимость от пан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громные денежные поборы церкв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рожане-чех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стья-н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довольство чешского обществ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762120" y="990720"/>
          <a:ext cx="7924680" cy="5562360"/>
        </p:xfrm>
        <a:graphic>
          <a:graphicData uri="http://schemas.openxmlformats.org/drawingml/2006/table">
            <a:tbl>
              <a:tblPr/>
              <a:tblGrid>
                <a:gridCol w="1828800"/>
                <a:gridCol w="6095880"/>
              </a:tblGrid>
              <a:tr h="84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и насел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чины недово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лкие и средние феода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обление земельных влад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нищание, зависимость от пан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громные денежные поборы церкв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рожане-чех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силие немцев в городском управлен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рогие церковные обря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стья-н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4T16:58:02Z</dcterms:created>
  <dc:creator>Home Computer</dc:creator>
  <dc:description/>
  <dc:language>en-US</dc:language>
  <cp:lastModifiedBy>Home Computer</cp:lastModifiedBy>
  <dcterms:modified xsi:type="dcterms:W3CDTF">2008-01-28T20:52:55Z</dcterms:modified>
  <cp:revision>23</cp:revision>
  <dc:subject/>
  <dc:title>Презентация PowerPoint</dc:title>
</cp:coreProperties>
</file>