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66D-E310-4E61-AEE8-A87C6BEB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5DA-6411-4BE3-AB00-E2FB4A45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A0B-D20D-46AF-8656-D131837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FCA-58A7-4247-AAF1-B02FC8A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5E1-B06A-42EE-BAF6-31398D93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0A8-6A09-4D19-821C-4673890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312-1EB4-4F70-8A35-6525E27B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5C-1FF9-4FC0-8875-61F5717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35B-F12B-4A6E-B542-290ED9B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B80-296A-41F4-9256-2CFC0D0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AED-5871-4F50-AD5B-0AEE4F3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832-30A6-4913-B8C4-024F6B5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ADB-FCB8-419C-A8F2-6FC5867B3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untian.ru/graph/1110658121_bg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lovecz.ru/images/big/5i_4_v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a/Leiner_Konstanz_Inse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zechtoday.cz/images/big/0hus_small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vali.ru/pic/pictures/97/r_p_1aff96040f9d4cf0b636a0ad881a481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7-01.photosight.ru/25/188829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457200"/>
            <a:ext cx="739152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ситское движение в Чехи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Картинка 88 из 89"/>
          <p:cNvPicPr/>
          <p:nvPr/>
        </p:nvPicPr>
        <p:blipFill>
          <a:blip r:embed="rId1"/>
          <a:stretch/>
        </p:blipFill>
        <p:spPr>
          <a:xfrm>
            <a:off x="762120" y="2438280"/>
            <a:ext cx="3178080" cy="410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10 из 130"/>
          <p:cNvPicPr/>
          <p:nvPr/>
        </p:nvPicPr>
        <p:blipFill>
          <a:blip r:embed="rId2"/>
          <a:stretch/>
        </p:blipFill>
        <p:spPr>
          <a:xfrm>
            <a:off x="5562720" y="2133720"/>
            <a:ext cx="3074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990720"/>
          <a:ext cx="7924680" cy="582444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илие немцев в городском управл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ие церковные обря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е налоги и повинности в пользу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барщин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зависимость  от п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5 из 13"/>
          <p:cNvPicPr/>
          <p:nvPr/>
        </p:nvPicPr>
        <p:blipFill>
          <a:blip r:embed="rId1"/>
          <a:stretch/>
        </p:blipFill>
        <p:spPr>
          <a:xfrm>
            <a:off x="2590920" y="990720"/>
            <a:ext cx="4363920" cy="518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Картинка 12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55680" y="0"/>
            <a:ext cx="50072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2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8534520" cy="579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Изображение:Leiner Konstanz Ins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6480"/>
            <a:ext cx="5429520" cy="684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1276200"/>
            <a:ext cx="7656480" cy="497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333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  июля  1415   г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00160" y="655560"/>
            <a:ext cx="8743680" cy="5546880"/>
            <a:chOff x="200160" y="655560"/>
            <a:chExt cx="8743680" cy="5546880"/>
          </a:xfrm>
        </p:grpSpPr>
        <p:sp>
          <p:nvSpPr>
            <p:cNvPr id="73" name=""/>
            <p:cNvSpPr/>
            <p:nvPr/>
          </p:nvSpPr>
          <p:spPr>
            <a:xfrm>
              <a:off x="200160" y="655560"/>
              <a:ext cx="8743680" cy="554688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00160" y="655560"/>
              <a:ext cx="8686440" cy="5546880"/>
              <a:chOff x="200160" y="655560"/>
              <a:chExt cx="8686440" cy="5546880"/>
            </a:xfrm>
          </p:grpSpPr>
          <p:sp>
            <p:nvSpPr>
              <p:cNvPr id="75" name=""/>
              <p:cNvSpPr/>
              <p:nvPr/>
            </p:nvSpPr>
            <p:spPr>
              <a:xfrm>
                <a:off x="200160" y="655560"/>
                <a:ext cx="8686440" cy="55468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0160" y="655560"/>
                <a:ext cx="8686440" cy="4861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22320" bIns="22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33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" descr="Памятник Яну Гусу"/>
          <p:cNvPicPr/>
          <p:nvPr/>
        </p:nvPicPr>
        <p:blipFill>
          <a:blip r:embed="rId1"/>
          <a:stretch/>
        </p:blipFill>
        <p:spPr>
          <a:xfrm>
            <a:off x="611280" y="692280"/>
            <a:ext cx="8001000" cy="53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Картинка 15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66600"/>
            <a:ext cx="6705360" cy="655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260280"/>
            <a:ext cx="8153280" cy="58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419 г. – восстание в Праг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Начало  гуситских   войн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Гуситское       движ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МЕРЕННЫЕ                       ТАБОР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чашни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8820200">
            <a:off x="5639760" y="3008520"/>
            <a:ext cx="501840" cy="1485720"/>
          </a:xfrm>
          <a:prstGeom prst="downArrow">
            <a:avLst>
              <a:gd name="adj1" fmla="val 50000"/>
              <a:gd name="adj2" fmla="val 74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809800">
            <a:off x="3181320" y="3019320"/>
            <a:ext cx="486000" cy="1447920"/>
          </a:xfrm>
          <a:prstGeom prst="downArrow">
            <a:avLst>
              <a:gd name="adj1" fmla="val 50000"/>
              <a:gd name="adj2" fmla="val 74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763640" y="1197000"/>
          <a:ext cx="6858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6858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763640" y="1197000"/>
          <a:ext cx="685800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197000"/>
                    <a:ext cx="6858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968640" y="2668680"/>
            <a:ext cx="343080" cy="360"/>
            <a:chOff x="3968640" y="2668680"/>
            <a:chExt cx="343080" cy="360"/>
          </a:xfrm>
        </p:grpSpPr>
        <p:sp>
          <p:nvSpPr>
            <p:cNvPr id="46" name=""/>
            <p:cNvSpPr/>
            <p:nvPr/>
          </p:nvSpPr>
          <p:spPr>
            <a:xfrm>
              <a:off x="3968640" y="2668680"/>
              <a:ext cx="34308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68640" y="2668680"/>
              <a:ext cx="343080" cy="360"/>
              <a:chOff x="3968640" y="2668680"/>
              <a:chExt cx="343080" cy="360"/>
            </a:xfrm>
          </p:grpSpPr>
          <p:sp>
            <p:nvSpPr>
              <p:cNvPr id="48" name="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" descr="Картинка 6 из 101"/>
          <p:cNvPicPr/>
          <p:nvPr/>
        </p:nvPicPr>
        <p:blipFill>
          <a:blip r:embed="rId1"/>
          <a:stretch/>
        </p:blipFill>
        <p:spPr>
          <a:xfrm>
            <a:off x="228600" y="30492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рл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60" y="27432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Талантливый писа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Богатый коллекцион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Основатель Пражского университ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Покровитель искус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Картинка 10 из 130"/>
          <p:cNvPicPr/>
          <p:nvPr/>
        </p:nvPicPr>
        <p:blipFill>
          <a:blip r:embed="rId1"/>
          <a:stretch/>
        </p:blipFill>
        <p:spPr>
          <a:xfrm>
            <a:off x="539640" y="549360"/>
            <a:ext cx="3297240" cy="4897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а 2 из 89"/>
          <p:cNvPicPr/>
          <p:nvPr/>
        </p:nvPicPr>
        <p:blipFill>
          <a:blip r:embed="rId2"/>
          <a:stretch/>
        </p:blipFill>
        <p:spPr>
          <a:xfrm>
            <a:off x="4284720" y="260280"/>
            <a:ext cx="4637160" cy="626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280656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434г. – г. Лип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БЕДА  «ЧАШНИКОВ»     НАД     ТАБ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8320" y="2598840"/>
          <a:ext cx="380988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98840"/>
                    <a:ext cx="380988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609480"/>
            <a:ext cx="83818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Итоги    гуситского   движ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рестьяне перестали платить десятин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твердилась гуситская церк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оролевская власть была ограничена сеймом. Чехия – сословная монарх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з городов изгнано немецкое 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хия оторвана от общеевропейского разви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ничтожены сокровища церковного искус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Картинка 2 из 1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5 из 170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1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2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5720" y="1143000"/>
            <a:ext cx="329256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Картинка 37 из 89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60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990720"/>
          <a:ext cx="7924680" cy="556236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990720"/>
          <a:ext cx="7924680" cy="556236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120" y="990720"/>
          <a:ext cx="7924680" cy="556236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илие немцев в городском управл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ие церковные обря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6:58:02Z</dcterms:created>
  <dc:creator>Home Computer</dc:creator>
  <dc:description/>
  <dc:language>en-US</dc:language>
  <cp:lastModifiedBy>Home Computer</cp:lastModifiedBy>
  <dcterms:modified xsi:type="dcterms:W3CDTF">2008-01-28T20:52:55Z</dcterms:modified>
  <cp:revision>23</cp:revision>
  <dc:subject/>
  <dc:title>Презентация PowerPoint</dc:title>
</cp:coreProperties>
</file>