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89A-9FB5-4E00-8187-5188467F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F95-8E8E-4970-BC0C-CE359A28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952-CFE8-434D-93CF-30E26D46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4E7-789A-4B71-A131-EDB3E81C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6A72-F09A-4DEC-8738-34FE6E14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8BB4-C24A-4463-A6A9-C8B31214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BCDF-4586-4A84-AB0E-462819AD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4592-26B6-41AB-8B3B-688AC666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9B69-22E9-4E16-8AE9-700CE433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719B-211A-4B55-8D64-DCD31115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C4F9-B8CB-48A7-810A-5F26D708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9BA-CF59-42F4-A090-9057C127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AA54-05DA-4E3E-A2CF-4282770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F098-CF75-4EBA-9106-61982EC6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E26A-E4A4-4E22-8CA5-59C47158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55C3-E1EF-40B6-827B-704C4F14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86B-A0D4-4856-BCFD-D074A88D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E33-E2CB-42BF-A442-FDA37C43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1C9-02C7-4B01-8649-C33C8A9B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6E9-760A-4068-BCC0-EC4D05AA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803-24AC-42E9-BFB0-9ECFA814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479-2FAD-4C8F-8A66-AC2A99A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7A0-FF8D-46CF-B666-C1D73C18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6A7-BE0B-47F8-B9EA-F366355F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5F44-43E7-4DA9-BF43-75E9610288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E4CB-EBBB-4F0E-A2EA-AF6C408C17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торяем пройденный матери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зкультурная пау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ктическ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тоги урока и постановка домашнего за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620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256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5002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36572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530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лощадь. Формула площади прямоугольник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765000"/>
            <a:ext cx="2879640" cy="24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24000" y="1412640"/>
            <a:ext cx="136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5013360"/>
            <a:ext cx="4392720" cy="1584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5661000"/>
            <a:ext cx="13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365720"/>
            <a:ext cx="13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95640" y="1052640"/>
            <a:ext cx="5832360" cy="1584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=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1700280"/>
            <a:ext cx="136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260280"/>
            <a:ext cx="187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1052640"/>
            <a:ext cx="5832360" cy="158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4149720"/>
            <a:ext cx="4176720" cy="21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10 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14 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414972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5300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300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тички в домиках сидя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 окошечко глядя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етать им захотелос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етели, полетел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на место тихо с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978" t="-2633" r="4267" b="0"/>
          <a:stretch/>
        </p:blipFill>
        <p:spPr>
          <a:xfrm>
            <a:off x="5435640" y="1916280"/>
            <a:ext cx="3384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. 18, № 716. По желанию № 710.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692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6:23:20Z</dcterms:created>
  <dc:creator>veronika</dc:creator>
  <dc:description/>
  <dc:language>en-US</dc:language>
  <cp:lastModifiedBy>veronika</cp:lastModifiedBy>
  <dcterms:modified xsi:type="dcterms:W3CDTF">2008-01-25T17:07:06Z</dcterms:modified>
  <cp:revision>4</cp:revision>
  <dc:subject/>
  <dc:title>Слайд 1</dc:title>
</cp:coreProperties>
</file>