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A111-2C61-4A62-B79B-8F31AB3A2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5078-315D-4762-99E2-8C26CD7D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7B18-EEB5-4640-8941-C2DC568AE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BB02-859B-44AF-A0EF-68A793A56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C5B39-78EF-4408-BCD7-74C5EECE8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3708-5576-448D-BE86-B65D85F8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E858E-C350-48B3-BF27-9426941B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C8A3-09B6-433F-8867-0D03341F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D44A-0648-4871-8028-A84C1027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5762F-19F4-4FB3-839F-4FA933D1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004B-CC4C-462A-AAA5-1F25CA98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0BCB-D058-47AC-9E64-174EEF51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1566-E41C-4C9A-880C-770E74DD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68CE3-762C-4E21-9E98-EE27BA7A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06DC-AAB9-4B8A-A642-5DA26772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92D43-BE77-4197-881E-BBB53E243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A4A6-0CAD-4EBE-8545-1522E295A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8E3D-194E-4B02-8A27-7107BFAF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99C3-B299-4E6E-97E5-9777A1B8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628C-9CCE-4D5C-B33D-0AAA85BC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A90C-F407-4208-ADA8-A289CE54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212E-C197-46D6-9828-E2874D69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70A8-DDEA-4DD1-A897-756A9E5E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D30C-208A-49DD-92E6-10331BFD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2EA4-1796-43FB-913E-4F05426389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B499-C337-4E2C-A9DF-A013F2AD0C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стный счё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вторяем пройденный материа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изкультурная пау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бота с учебник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актическая раб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амостоятельная раб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тоги урока и постановка домашнего зад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62064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2565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0" y="350028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436572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530064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0" y="1628640"/>
            <a:ext cx="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000"/>
                            </p:stCondLst>
                            <p:childTnLst>
                              <p:par>
                                <p:cTn id="4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20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1000"/>
                            </p:stCondLst>
                            <p:childTnLst>
                              <p:par>
                                <p:cTn id="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0"/>
                            </p:stCondLst>
                            <p:childTnLst>
                              <p:par>
                                <p:cTn id="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7000"/>
                            </p:stCondLst>
                            <p:childTnLst>
                              <p:par>
                                <p:cTn id="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8000"/>
                            </p:stCondLst>
                            <p:childTnLst>
                              <p:par>
                                <p:cTn id="8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1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Площадь. Формула площади прямоугольника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16000" y="765000"/>
            <a:ext cx="2879640" cy="2448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=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24000" y="1412640"/>
            <a:ext cx="1368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 с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56000" y="5013360"/>
            <a:ext cx="4392720" cy="158436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32000" y="5661000"/>
            <a:ext cx="136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 с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67280" y="4365720"/>
            <a:ext cx="136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8 с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195640" y="1052640"/>
            <a:ext cx="5832360" cy="158436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=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4360" y="1700280"/>
            <a:ext cx="136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 с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84720" y="260280"/>
            <a:ext cx="187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0 с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95640" y="1052640"/>
            <a:ext cx="5832360" cy="1584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58920" y="4149720"/>
            <a:ext cx="4176720" cy="2158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= 10 см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= 14 см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19640" y="4149720"/>
            <a:ext cx="0" cy="115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19640" y="530064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11640" y="530064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Физкультминут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тички в домиках сидя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в окошечко глядят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летать им захотелос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летели, полетел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на место тихо се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1978" t="-2633" r="4267" b="0"/>
          <a:stretch/>
        </p:blipFill>
        <p:spPr>
          <a:xfrm>
            <a:off x="5435640" y="1916280"/>
            <a:ext cx="338436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. 18, № 716. По желанию № 710.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03280" y="69228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6:23:20Z</dcterms:created>
  <dc:creator>veronika</dc:creator>
  <dc:description/>
  <dc:language>en-US</dc:language>
  <cp:lastModifiedBy>veronika</cp:lastModifiedBy>
  <dcterms:modified xsi:type="dcterms:W3CDTF">2008-01-25T17:07:06Z</dcterms:modified>
  <cp:revision>4</cp:revision>
  <dc:subject/>
  <dc:title>Слайд 1</dc:title>
</cp:coreProperties>
</file>