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8.gif" ContentType="image/gif"/>
  <Override PartName="/ppt/media/image22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6.jpeg" ContentType="image/jpeg"/>
  <Override PartName="/ppt/media/image15.jpeg" ContentType="image/jpeg"/>
  <Override PartName="/ppt/media/image17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12.gif" ContentType="image/gif"/>
  <Override PartName="/ppt/media/image30.jpeg" ContentType="image/jpeg"/>
  <Override PartName="/ppt/media/image24.jpeg" ContentType="image/jpeg"/>
  <Override PartName="/ppt/media/image9.jpeg" ContentType="image/jpeg"/>
  <Override PartName="/ppt/media/image34.jpeg" ContentType="image/jpeg"/>
  <Override PartName="/ppt/media/image33.wmf" ContentType="image/x-wmf"/>
  <Override PartName="/ppt/media/image37.jpeg" ContentType="image/jpeg"/>
  <Override PartName="/ppt/media/image41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40.gif" ContentType="image/gif"/>
  <Override PartName="/ppt/media/image3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8DC-1EDA-452D-82A1-7E9B153E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743-76AB-4B8F-A597-85F5462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416-B4B5-4C8C-8F29-8CC99481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28B-E746-40DA-82FD-8E99468B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EC8-0451-4A52-A63A-AAEE306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DF4-3254-4E18-9EA5-3814810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3A1-9D91-4099-8F4B-C8E0936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D7-A04C-4490-8581-6D35FBF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A62-6F6F-4849-89B5-67C016B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963-3EC6-42FE-909D-2541321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D5-7050-4A20-998F-8A00283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CA4-AE2E-499D-839A-CC788FF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CFCA-C043-4D82-89CF-E7E91BDC4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99ff66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549360"/>
            <a:ext cx="5112000" cy="2303280"/>
          </a:xfrm>
          <a:custGeom>
            <a:avLst/>
            <a:gdLst>
              <a:gd name="textAreaLeft" fmla="*/ 0 w 5112000"/>
              <a:gd name="textAreaRight" fmla="*/ 5112360 w 5112000"/>
              <a:gd name="textAreaTop" fmla="*/ 298440 h 2303280"/>
              <a:gd name="textAreaBottom" fmla="*/ 20048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eedf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14800">
            <a:off x="1115640" y="1125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ff"/>
                  </a:solidFill>
                  <a:miter/>
                </a:ln>
                <a:gradFill rotWithShape="0">
                  <a:gsLst>
                    <a:gs pos="0">
                      <a:srgbClr val="e1fefe"/>
                    </a:gs>
                    <a:gs pos="50000">
                      <a:srgbClr val="00ffff"/>
                    </a:gs>
                    <a:gs pos="100000">
                      <a:srgbClr val="e1fefe"/>
                    </a:gs>
                  </a:gsLst>
                  <a:lin ang="7884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ПО ЛИТЕРАТУРНОМУ</a:t>
            </a:r>
            <a:endParaRPr b="0" lang="en-US" sz="2400" spc="1" strike="noStrike">
              <a:ln w="19080">
                <a:solidFill>
                  <a:srgbClr val="3333ff"/>
                </a:solidFill>
                <a:miter/>
              </a:ln>
              <a:gradFill rotWithShape="0">
                <a:gsLst>
                  <a:gs pos="0">
                    <a:srgbClr val="e1fefe"/>
                  </a:gs>
                  <a:gs pos="50000">
                    <a:srgbClr val="00ffff"/>
                  </a:gs>
                  <a:gs pos="100000">
                    <a:srgbClr val="e1fefe"/>
                  </a:gs>
                </a:gsLst>
                <a:lin ang="7884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ff"/>
                  </a:solidFill>
                  <a:miter/>
                </a:ln>
                <a:gradFill rotWithShape="0">
                  <a:gsLst>
                    <a:gs pos="0">
                      <a:srgbClr val="e1fefe"/>
                    </a:gs>
                    <a:gs pos="50000">
                      <a:srgbClr val="00ffff"/>
                    </a:gs>
                    <a:gs pos="100000">
                      <a:srgbClr val="e1fefe"/>
                    </a:gs>
                  </a:gsLst>
                  <a:lin ang="7884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ЕНИЮ</a:t>
            </a:r>
            <a:endParaRPr b="0" lang="en-US" sz="2400" spc="1" strike="noStrike">
              <a:ln w="19080">
                <a:solidFill>
                  <a:srgbClr val="3333ff"/>
                </a:solidFill>
                <a:miter/>
              </a:ln>
              <a:gradFill rotWithShape="0">
                <a:gsLst>
                  <a:gs pos="0">
                    <a:srgbClr val="e1fefe"/>
                  </a:gs>
                  <a:gs pos="50000">
                    <a:srgbClr val="00ffff"/>
                  </a:gs>
                  <a:gs pos="100000">
                    <a:srgbClr val="e1fefe"/>
                  </a:gs>
                </a:gsLst>
                <a:lin ang="7884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33376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5400000">
            <a:off x="5834880" y="3460680"/>
            <a:ext cx="5334120" cy="22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00000" y="3213000"/>
            <a:ext cx="720108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9900">
                      <a:alpha val="50000"/>
                    </a:srgbClr>
                  </a:outerShdw>
                </a:effectLst>
                <a:latin typeface="Impact"/>
              </a:rPr>
              <a:t>Работа над стихотворе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07932" dir="2700000" blurRad="0" rotWithShape="0">
                  <a:srgbClr val="0099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9900">
                      <a:alpha val="50000"/>
                    </a:srgbClr>
                  </a:outerShdw>
                </a:effectLst>
                <a:latin typeface="Impact"/>
              </a:rPr>
              <a:t>К.Бальмон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07932" dir="2700000" blurRad="0" rotWithShape="0">
                  <a:srgbClr val="0099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07932" dir="2700000" blurRad="0" rotWithShape="0">
                    <a:srgbClr val="009900">
                      <a:alpha val="50000"/>
                    </a:srgbClr>
                  </a:outerShdw>
                </a:effectLst>
                <a:latin typeface="Impact"/>
              </a:rPr>
              <a:t>"Снежинка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07932" dir="2700000" blurRad="0" rotWithShape="0">
                  <a:srgbClr val="0099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55897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Автор: Учитель первой квалификационной категории      МОУ «СОШ №7» г.Канаш,Чувашской Республики        Храм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Людмила Валер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404640"/>
            <a:ext cx="777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Дорого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7440" y="40464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бурно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9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Легко</a:t>
            </a:r>
            <a:r>
              <a:rPr b="0" lang="en-US" sz="8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60" y="3645000"/>
            <a:ext cx="921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Не в высь лазурную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360" y="5157720"/>
            <a:ext cx="43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На земл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88360" y="5157720"/>
            <a:ext cx="43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просится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0600" y="1995480"/>
            <a:ext cx="540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проносится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cfe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3800" y="2781360"/>
            <a:ext cx="34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Times New Roman"/>
              </a:rPr>
              <a:t>проситс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60" y="4327560"/>
            <a:ext cx="317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бурн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дорог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2276640"/>
            <a:ext cx="47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сознательн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стремитс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221000"/>
            <a:ext cx="4916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бурн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61440" y="5570640"/>
            <a:ext cx="283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жизн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232000" cy="19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21594600">
            <a:off x="5001840" y="404640"/>
            <a:ext cx="3024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400" y="476280"/>
            <a:ext cx="830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Лазурь чудесну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766880"/>
            <a:ext cx="72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Она  покинула</a:t>
            </a: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" y="3135240"/>
            <a:ext cx="364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Себя в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2640" y="24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38360" y="3141720"/>
            <a:ext cx="570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безвестну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724280"/>
            <a:ext cx="358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Стран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4200" y="4724280"/>
            <a:ext cx="542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низринула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7080" y="3429000"/>
            <a:ext cx="483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безвестн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стран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4720" y="4292640"/>
            <a:ext cx="391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будуще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465440" cy="299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 "/>
          <p:cNvPicPr/>
          <p:nvPr/>
        </p:nvPicPr>
        <p:blipFill>
          <a:blip r:embed="rId4"/>
          <a:stretch/>
        </p:blipFill>
        <p:spPr>
          <a:xfrm>
            <a:off x="5651640" y="18900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00" y="5032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В лучах блистающи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Скользит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" y="2781360"/>
            <a:ext cx="92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Средь хлопьев тающи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2160" y="4005360"/>
            <a:ext cx="66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Сохранно-белая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6160" y="1557360"/>
            <a:ext cx="31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Times New Roman"/>
              </a:rPr>
              <a:t>умелая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9,-2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9,-21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43280" y="2708280"/>
            <a:ext cx="416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сохранит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чисто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душ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800" y="278136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сохранно-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бела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64000" y="18900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80" y="260280"/>
            <a:ext cx="194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1640" y="260280"/>
            <a:ext cx="321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ветро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1720" y="260280"/>
            <a:ext cx="384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веющи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" y="1773360"/>
            <a:ext cx="90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Дрожит, взметается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360" y="3284640"/>
            <a:ext cx="35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На нем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0920" y="3284640"/>
            <a:ext cx="498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лелеющем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724280"/>
            <a:ext cx="747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Светло качается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9640" y="404640"/>
            <a:ext cx="7991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Его качелям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Она утешена,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С его метелям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Крутится бешено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3080" y="4149720"/>
            <a:ext cx="274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Times New Roman"/>
              </a:rPr>
              <a:t>вете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3024000" cy="194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35280" y="4292640"/>
            <a:ext cx="56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неожиданн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поворот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168720" cy="1873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003640" y="2492280"/>
            <a:ext cx="324036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11280" y="242100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843280" y="4437000"/>
            <a:ext cx="216036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4360" y="620640"/>
            <a:ext cx="330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Но вот</a:t>
            </a:r>
            <a:r>
              <a:rPr b="0" lang="en-US" sz="6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620640"/>
            <a:ext cx="538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кончаетс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99280" y="1916280"/>
            <a:ext cx="713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Дорога дальняя</a:t>
            </a: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360" y="3500280"/>
            <a:ext cx="675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Земли касаетс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640" y="5157720"/>
            <a:ext cx="88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Звезда кристальная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cc"/>
            </a:gs>
            <a:gs pos="50000">
              <a:srgbClr val="99ff66"/>
            </a:gs>
            <a:gs pos="100000">
              <a:srgbClr val="ddfe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557360"/>
            <a:ext cx="3600720" cy="4824360"/>
          </a:xfrm>
          <a:prstGeom prst="foldedCorner">
            <a:avLst>
              <a:gd name="adj" fmla="val 36462"/>
            </a:avLst>
          </a:prstGeom>
          <a:gradFill rotWithShape="0">
            <a:gsLst>
              <a:gs pos="0">
                <a:srgbClr val="fefefe"/>
              </a:gs>
              <a:gs pos="100000">
                <a:srgbClr val="afbee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  <a:effectLst>
            <a:outerShdw dist="171040" dir="2879153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1557360"/>
            <a:ext cx="3600720" cy="4824360"/>
          </a:xfrm>
          <a:prstGeom prst="foldedCorner">
            <a:avLst>
              <a:gd name="adj" fmla="val 37699"/>
            </a:avLst>
          </a:prstGeom>
          <a:gradFill rotWithShape="0">
            <a:gsLst>
              <a:gs pos="0">
                <a:srgbClr val="fefefe"/>
              </a:gs>
              <a:gs pos="100000">
                <a:srgbClr val="b3ebca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  <a:effectLst>
            <a:outerShdw dist="165240" dir="5400000" blurRad="0" rotWithShape="0">
              <a:srgbClr val="00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89000"/>
            <a:ext cx="28080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  <a:effectLst>
            <a:outerShdw dist="178285" dir="2431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8160" y="4046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27664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учить интерпретир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кст с точки зрения содержания, образных средств, 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315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учить работе над словом, составляя кластер методом двойного днев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6720" y="3645000"/>
            <a:ext cx="2722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пут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3760" y="3716280"/>
            <a:ext cx="533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достижен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цел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476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64000" y="404640"/>
            <a:ext cx="309564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32400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1640" y="404640"/>
            <a:ext cx="745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Лежит пуш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700280"/>
            <a:ext cx="829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Снежинка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080" y="3068640"/>
            <a:ext cx="27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Как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29080" y="3141720"/>
            <a:ext cx="330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чистая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0360" y="4508640"/>
            <a:ext cx="27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Как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4000" y="4508640"/>
            <a:ext cx="291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белая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1700280"/>
            <a:ext cx="43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Times New Roman"/>
              </a:rPr>
              <a:t>смелая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" y="0"/>
          <a:ext cx="91407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3080" y="3141720"/>
            <a:ext cx="304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ч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бел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141720"/>
            <a:ext cx="4665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ч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20720" y="4365720"/>
            <a:ext cx="244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душ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095640" cy="2665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859280" y="549360"/>
            <a:ext cx="374508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0"/>
          <a:ext cx="91407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478400" y="3213000"/>
            <a:ext cx="4665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931640" y="0"/>
            <a:ext cx="352116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истой душ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знатель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треми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 неизвестн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бурную жиз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будущ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еожида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вороты судьб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истой душо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3640" y="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еловек рождается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68360" y="981000"/>
            <a:ext cx="7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2997360"/>
            <a:ext cx="31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ожи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933720"/>
            <a:ext cx="43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остигает целей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494172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есмотря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825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стается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0"/>
            <a:ext cx="3521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белая ,чис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роси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бурная дор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безвестная стр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истая, бел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5080" y="62784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стается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 "/>
          <p:cNvPicPr/>
          <p:nvPr/>
        </p:nvPicPr>
        <p:blipFill>
          <a:blip r:embed="rId2"/>
          <a:stretch/>
        </p:blipFill>
        <p:spPr>
          <a:xfrm>
            <a:off x="5724360" y="3860640"/>
            <a:ext cx="2808360" cy="2665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240000" cy="2737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89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сли добр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ы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то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хорошо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19720" y="333360"/>
            <a:ext cx="2924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А когда наоборот -                                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плохо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492360" y="189000"/>
            <a:ext cx="259092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fe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04216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900000" y="0"/>
            <a:ext cx="741708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вайтесь людьми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19162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Не зли других, и сам не злис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Ведь в мире все закономерно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зло, излученное тобой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к тебе вернется непременн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5c6e"/>
            </a:gs>
            <a:gs pos="100000">
              <a:srgbClr val="aec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378936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то, угадай-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дая хозяйка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яхнёт перинки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д миром пушин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33840" y="1773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076720" y="3933720"/>
            <a:ext cx="3772080" cy="2664000"/>
            <a:chOff x="5076720" y="3933720"/>
            <a:chExt cx="3772080" cy="2664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5076720" y="3933720"/>
              <a:ext cx="3772080" cy="2664000"/>
            </a:xfrm>
            <a:prstGeom prst="rect">
              <a:avLst/>
            </a:prstGeom>
            <a:ln w="25560">
              <a:solidFill>
                <a:srgbClr val="000080"/>
              </a:solidFill>
              <a:miter/>
            </a:ln>
          </p:spPr>
        </p:pic>
        <p:sp>
          <p:nvSpPr>
            <p:cNvPr id="61" name=""/>
            <p:cNvSpPr/>
            <p:nvPr/>
          </p:nvSpPr>
          <p:spPr>
            <a:xfrm>
              <a:off x="5632920" y="6091200"/>
              <a:ext cx="11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. Сер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00000" y="907920"/>
            <a:ext cx="2736720" cy="2558160"/>
            <a:chOff x="900000" y="907920"/>
            <a:chExt cx="2736720" cy="255816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900000" y="907920"/>
              <a:ext cx="2736720" cy="2492640"/>
            </a:xfrm>
            <a:prstGeom prst="rect">
              <a:avLst/>
            </a:prstGeom>
            <a:ln w="25560">
              <a:solidFill>
                <a:srgbClr val="000080"/>
              </a:solidFill>
              <a:miter/>
            </a:ln>
          </p:spPr>
        </p:pic>
        <p:sp>
          <p:nvSpPr>
            <p:cNvPr id="64" name=""/>
            <p:cNvSpPr/>
            <p:nvPr/>
          </p:nvSpPr>
          <p:spPr>
            <a:xfrm>
              <a:off x="971640" y="3067200"/>
              <a:ext cx="152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.Шишк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27280" y="3933720"/>
            <a:ext cx="2661840" cy="2735280"/>
            <a:chOff x="827280" y="3933720"/>
            <a:chExt cx="2661840" cy="27352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898560" y="3933720"/>
              <a:ext cx="2590560" cy="2735280"/>
            </a:xfrm>
            <a:prstGeom prst="rect">
              <a:avLst/>
            </a:prstGeom>
            <a:ln w="25560">
              <a:solidFill>
                <a:srgbClr val="00008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827280" y="6165720"/>
              <a:ext cx="152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.Шишк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907920"/>
            <a:ext cx="3671640" cy="2471760"/>
            <a:chOff x="5219640" y="907920"/>
            <a:chExt cx="3671640" cy="2471760"/>
          </a:xfrm>
        </p:grpSpPr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5219640" y="907920"/>
              <a:ext cx="3671640" cy="2471760"/>
            </a:xfrm>
            <a:prstGeom prst="rect">
              <a:avLst/>
            </a:prstGeom>
            <a:ln w="25560">
              <a:solidFill>
                <a:srgbClr val="000080"/>
              </a:solidFill>
              <a:miter/>
            </a:ln>
          </p:spPr>
        </p:pic>
        <p:sp>
          <p:nvSpPr>
            <p:cNvPr id="70" name=""/>
            <p:cNvSpPr/>
            <p:nvPr/>
          </p:nvSpPr>
          <p:spPr>
            <a:xfrm>
              <a:off x="5364360" y="2852640"/>
              <a:ext cx="152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.Шишк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485800" y="189000"/>
            <a:ext cx="39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Зима на картин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5334120" cy="2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 rot="16200000">
            <a:off x="-2373120" y="3101760"/>
            <a:ext cx="5333760" cy="22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89000"/>
            <a:ext cx="5042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анти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ьмон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311640" cy="482436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68360" y="3141720"/>
            <a:ext cx="19429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0066"/>
                </a:solidFill>
                <a:latin typeface="Impact"/>
              </a:rPr>
              <a:t>1867</a:t>
            </a:r>
            <a:endParaRPr b="0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72360" y="3068640"/>
            <a:ext cx="2089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0066"/>
                </a:solidFill>
                <a:latin typeface="Impact"/>
              </a:rPr>
              <a:t>1942</a:t>
            </a:r>
            <a:endParaRPr b="0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132000" y="333000"/>
            <a:ext cx="60120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 Константин Дмитриевич Бальмонт родился 15 июня 1867 года в деревне Гумнище Владимирской губернии. Мать Бальмонта, "высокообразованная, умная и редкостная женщина", ввела поэта в мир музыки, словесности, истории, языкознания. В пять лет Костя уже научился читать самостоятельно, подсматривая за старшим братом, которого учила мать. Отец был необыкновенно тихим, добрым, молчаливым человеком, любил природу и охоту. Гуляя с ним, маленький Костя еще в детстве глубоко проник в красоту лесов, полей, болот, лесных речек. Это радостное ощущение детства и родных мест "среди цветов и песнопений" отражено в поэзии Бальмон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Блок назвал Бальмонта "поэтом с утренней душой". Никто не опутывает души таким светлым туманом, как Бальмонт. Его стихи очень певучи и музыкальны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881440" cy="5832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11280" y="2205000"/>
            <a:ext cx="504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2cbcb"/>
                    </a:gs>
                    <a:gs pos="100000">
                      <a:srgbClr val="ccffff">
                        <a:alpha val="56078"/>
                      </a:srgbClr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2cbcb"/>
                    </a:gs>
                    <a:gs pos="100000">
                      <a:srgbClr val="ccffff">
                        <a:alpha val="56078"/>
                      </a:srgbClr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нежинка"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2cbcb"/>
                  </a:gs>
                  <a:gs pos="100000">
                    <a:srgbClr val="ccffff">
                      <a:alpha val="56078"/>
                    </a:srgbClr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838080"/>
            <a:ext cx="939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Светло-пуш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060640"/>
            <a:ext cx="62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Снежин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20606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белая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8464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Как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1440" y="3206880"/>
            <a:ext cx="365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чистая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575240"/>
            <a:ext cx="318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Какая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720" y="4575240"/>
            <a:ext cx="394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"/>
              </a:rPr>
              <a:t>смелая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ddddfe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635280" cy="27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3645000"/>
            <a:ext cx="40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бел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ч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4520" y="3546360"/>
            <a:ext cx="304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чиста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душ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66544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24:55Z</dcterms:created>
  <dc:creator>Nastya</dc:creator>
  <dc:description/>
  <dc:language>en-US</dc:language>
  <cp:lastModifiedBy>ХРАМОВА</cp:lastModifiedBy>
  <dcterms:modified xsi:type="dcterms:W3CDTF">2008-01-26T13:19:50Z</dcterms:modified>
  <cp:revision>57</cp:revision>
  <dc:subject/>
  <dc:title>Презентация PowerPoint</dc:title>
</cp:coreProperties>
</file>