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29.png" ContentType="image/pn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5" y="0"/>
                </a:moveTo>
                <a:arcTo wR="5" hR="5" stAng="16200000" swAng="-5400000"/>
                <a:lnTo>
                  <a:pt x="0" y="30544"/>
                </a:lnTo>
                <a:arcTo wR="5" hR="5" stAng="10800000" swAng="-5400000"/>
                <a:lnTo>
                  <a:pt x="21595" y="3054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5" y="0"/>
                </a:moveTo>
                <a:arcTo wR="5" hR="5" stAng="16200000" swAng="-5400000"/>
                <a:lnTo>
                  <a:pt x="0" y="30544"/>
                </a:lnTo>
                <a:arcTo wR="5" hR="5" stAng="10800000" swAng="-5400000"/>
                <a:lnTo>
                  <a:pt x="21595" y="3054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-360" y="-7391880"/>
            <a:ext cx="360" cy="3454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720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2362320" y="812880"/>
            <a:ext cx="283500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2362320" y="812880"/>
            <a:ext cx="283500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2362320" y="812880"/>
            <a:ext cx="283500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1276200" y="1092240"/>
            <a:ext cx="4799160" cy="39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1276200" y="1092240"/>
            <a:ext cx="4799160" cy="39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0" y="-7391520"/>
            <a:ext cx="1440" cy="3454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0" y="-7391520"/>
            <a:ext cx="1440" cy="3454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1276200" y="1092240"/>
            <a:ext cx="4799160" cy="39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1276200" y="1092240"/>
            <a:ext cx="4799160" cy="39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1276200" y="1092240"/>
            <a:ext cx="4799160" cy="39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2362320" y="812880"/>
            <a:ext cx="283500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4680" y="4680"/>
            <a:ext cx="3240" cy="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1276200" y="1092240"/>
            <a:ext cx="4799160" cy="39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88D8-366E-4A6B-A3C3-9701F4DC2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0880" y="2387160"/>
            <a:ext cx="860292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40880" y="4723920"/>
            <a:ext cx="860292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FED7-5A67-44F5-A6D3-8C54517B2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0880" y="2387160"/>
            <a:ext cx="419796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49080" y="2387160"/>
            <a:ext cx="419796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40880" y="4723920"/>
            <a:ext cx="419796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49080" y="4723920"/>
            <a:ext cx="419796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A3D1-E236-4C8B-AF4D-252E3339E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40880" y="2387160"/>
            <a:ext cx="27698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9680" y="2387160"/>
            <a:ext cx="27698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58480" y="2387160"/>
            <a:ext cx="27698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40880" y="4723920"/>
            <a:ext cx="27698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9680" y="4723920"/>
            <a:ext cx="27698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58480" y="4723920"/>
            <a:ext cx="27698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7250-E481-4235-9C4F-97B30105D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40880" y="2387160"/>
            <a:ext cx="860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0880" y="2387160"/>
            <a:ext cx="860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0880" y="2387160"/>
            <a:ext cx="41979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49080" y="2387160"/>
            <a:ext cx="41979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40880" y="627120"/>
            <a:ext cx="86029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0880" y="2387160"/>
            <a:ext cx="419796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49080" y="2387160"/>
            <a:ext cx="41979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40880" y="4723920"/>
            <a:ext cx="419796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40880" y="2387160"/>
            <a:ext cx="860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7C20-D3BA-486D-98D9-26948D912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0880" y="2387160"/>
            <a:ext cx="41979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9080" y="2387160"/>
            <a:ext cx="419796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49080" y="4723920"/>
            <a:ext cx="419796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0880" y="2387160"/>
            <a:ext cx="419796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49080" y="2387160"/>
            <a:ext cx="419796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40880" y="4723920"/>
            <a:ext cx="860292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0880" y="2387160"/>
            <a:ext cx="860292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40880" y="4723920"/>
            <a:ext cx="860292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40880" y="2387160"/>
            <a:ext cx="419796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49080" y="2387160"/>
            <a:ext cx="419796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40880" y="4723920"/>
            <a:ext cx="419796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49080" y="4723920"/>
            <a:ext cx="419796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40880" y="2387160"/>
            <a:ext cx="27698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49680" y="2387160"/>
            <a:ext cx="27698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58480" y="2387160"/>
            <a:ext cx="27698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40880" y="4723920"/>
            <a:ext cx="27698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49680" y="4723920"/>
            <a:ext cx="27698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558480" y="4723920"/>
            <a:ext cx="27698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40880" y="2387160"/>
            <a:ext cx="860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0880" y="2387160"/>
            <a:ext cx="860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40880" y="2387160"/>
            <a:ext cx="41979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49080" y="2387160"/>
            <a:ext cx="41979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0880" y="2387160"/>
            <a:ext cx="860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FBEB-1855-4CDC-B59E-BA7C4F1CB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40880" y="627120"/>
            <a:ext cx="86029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40880" y="2387160"/>
            <a:ext cx="419796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49080" y="2387160"/>
            <a:ext cx="41979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40880" y="4723920"/>
            <a:ext cx="419796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40880" y="2387160"/>
            <a:ext cx="41979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49080" y="2387160"/>
            <a:ext cx="419796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49080" y="4723920"/>
            <a:ext cx="419796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40880" y="2387160"/>
            <a:ext cx="419796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49080" y="2387160"/>
            <a:ext cx="419796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40880" y="4723920"/>
            <a:ext cx="860292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40880" y="2387160"/>
            <a:ext cx="860292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40880" y="4723920"/>
            <a:ext cx="860292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40880" y="2387160"/>
            <a:ext cx="419796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49080" y="2387160"/>
            <a:ext cx="419796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40880" y="4723920"/>
            <a:ext cx="419796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49080" y="4723920"/>
            <a:ext cx="419796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40880" y="2387160"/>
            <a:ext cx="27698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49680" y="2387160"/>
            <a:ext cx="27698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558480" y="2387160"/>
            <a:ext cx="27698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40880" y="4723920"/>
            <a:ext cx="27698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649680" y="4723920"/>
            <a:ext cx="27698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558480" y="4723920"/>
            <a:ext cx="27698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740880" y="2387160"/>
            <a:ext cx="860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40880" y="2387160"/>
            <a:ext cx="860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0880" y="2387160"/>
            <a:ext cx="41979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9080" y="2387160"/>
            <a:ext cx="41979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5E50-686E-4F33-9B85-B52DD0E4D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40880" y="2387160"/>
            <a:ext cx="41979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49080" y="2387160"/>
            <a:ext cx="41979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740880" y="627120"/>
            <a:ext cx="86029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40880" y="2387160"/>
            <a:ext cx="419796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49080" y="2387160"/>
            <a:ext cx="41979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740880" y="4723920"/>
            <a:ext cx="419796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40880" y="2387160"/>
            <a:ext cx="41979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149080" y="2387160"/>
            <a:ext cx="419796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149080" y="4723920"/>
            <a:ext cx="419796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40880" y="2387160"/>
            <a:ext cx="419796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49080" y="2387160"/>
            <a:ext cx="419796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40880" y="4723920"/>
            <a:ext cx="860292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40880" y="2387160"/>
            <a:ext cx="860292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740880" y="4723920"/>
            <a:ext cx="860292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40880" y="2387160"/>
            <a:ext cx="419796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49080" y="2387160"/>
            <a:ext cx="419796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740880" y="4723920"/>
            <a:ext cx="419796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149080" y="4723920"/>
            <a:ext cx="419796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40880" y="2387160"/>
            <a:ext cx="27698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649680" y="2387160"/>
            <a:ext cx="27698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58480" y="2387160"/>
            <a:ext cx="27698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740880" y="4723920"/>
            <a:ext cx="27698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649680" y="4723920"/>
            <a:ext cx="27698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58480" y="4723920"/>
            <a:ext cx="27698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9A082-BA98-411B-95BB-D6E125622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2B21-8302-4BD3-AECA-D01E8AEEE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740880" y="2387160"/>
            <a:ext cx="860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1AC1E-9C56-4BFD-990F-4004FCB08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40880" y="2387160"/>
            <a:ext cx="860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01521-5CC1-4723-A908-30B2F1558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40880" y="2387160"/>
            <a:ext cx="41979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49080" y="2387160"/>
            <a:ext cx="41979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69AD6-215B-4A8B-86D9-935F2C212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08157-0E69-43AB-9564-27EC03993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740880" y="627120"/>
            <a:ext cx="86029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FE2B1-8240-4744-9952-950DD3357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40880" y="2387160"/>
            <a:ext cx="419796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149080" y="2387160"/>
            <a:ext cx="41979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740880" y="4723920"/>
            <a:ext cx="419796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20BFE-3D56-444D-AC52-42A4FA01F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40880" y="2387160"/>
            <a:ext cx="41979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149080" y="2387160"/>
            <a:ext cx="419796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149080" y="4723920"/>
            <a:ext cx="419796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8BBBB-92FA-4D26-A25E-F65B4580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40880" y="2387160"/>
            <a:ext cx="419796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149080" y="2387160"/>
            <a:ext cx="419796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740880" y="4723920"/>
            <a:ext cx="860292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56A38-994A-4D39-844F-9114E7788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40880" y="2387160"/>
            <a:ext cx="860292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740880" y="4723920"/>
            <a:ext cx="860292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B25E8-8566-4DD1-B815-729476C82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40880" y="2387160"/>
            <a:ext cx="419796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149080" y="2387160"/>
            <a:ext cx="419796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40880" y="4723920"/>
            <a:ext cx="419796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5149080" y="4723920"/>
            <a:ext cx="419796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4AD6D-B537-4E14-88BE-9FA3482BF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40880" y="627120"/>
            <a:ext cx="86029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594C-2BC2-472B-8DAB-3530F00DD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40880" y="2387160"/>
            <a:ext cx="27698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649680" y="2387160"/>
            <a:ext cx="27698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558480" y="2387160"/>
            <a:ext cx="27698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740880" y="4723920"/>
            <a:ext cx="27698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649680" y="4723920"/>
            <a:ext cx="27698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558480" y="4723920"/>
            <a:ext cx="27698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3A02D-16DC-4F9F-9349-6CFFA9C99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740880" y="2387160"/>
            <a:ext cx="860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40880" y="2387160"/>
            <a:ext cx="860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40880" y="2387160"/>
            <a:ext cx="41979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149080" y="2387160"/>
            <a:ext cx="41979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740880" y="627120"/>
            <a:ext cx="86029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40880" y="2387160"/>
            <a:ext cx="419796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149080" y="2387160"/>
            <a:ext cx="41979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740880" y="4723920"/>
            <a:ext cx="419796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40880" y="2387160"/>
            <a:ext cx="41979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49080" y="2387160"/>
            <a:ext cx="419796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149080" y="4723920"/>
            <a:ext cx="419796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40880" y="2387160"/>
            <a:ext cx="419796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149080" y="2387160"/>
            <a:ext cx="419796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40880" y="4723920"/>
            <a:ext cx="860292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0880" y="2387160"/>
            <a:ext cx="419796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387160"/>
            <a:ext cx="41979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40880" y="4723920"/>
            <a:ext cx="419796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EE72-9D2F-48DF-8237-C44FCB6C3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40880" y="2387160"/>
            <a:ext cx="860292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740880" y="4723920"/>
            <a:ext cx="860292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40880" y="2387160"/>
            <a:ext cx="419796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149080" y="2387160"/>
            <a:ext cx="419796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740880" y="4723920"/>
            <a:ext cx="419796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5149080" y="4723920"/>
            <a:ext cx="419796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40880" y="2387160"/>
            <a:ext cx="27698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649680" y="2387160"/>
            <a:ext cx="27698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558480" y="2387160"/>
            <a:ext cx="27698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740880" y="4723920"/>
            <a:ext cx="27698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649680" y="4723920"/>
            <a:ext cx="27698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558480" y="4723920"/>
            <a:ext cx="27698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740880" y="2387160"/>
            <a:ext cx="860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40880" y="2387160"/>
            <a:ext cx="860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40880" y="2387160"/>
            <a:ext cx="41979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149080" y="2387160"/>
            <a:ext cx="41979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740880" y="627120"/>
            <a:ext cx="86029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40880" y="2387160"/>
            <a:ext cx="419796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149080" y="2387160"/>
            <a:ext cx="41979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740880" y="4723920"/>
            <a:ext cx="419796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0880" y="2387160"/>
            <a:ext cx="41979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387160"/>
            <a:ext cx="419796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9080" y="4723920"/>
            <a:ext cx="419796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B3E7-E7D4-42DC-90ED-C8D24212C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40880" y="2387160"/>
            <a:ext cx="41979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149080" y="2387160"/>
            <a:ext cx="419796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149080" y="4723920"/>
            <a:ext cx="419796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40880" y="2387160"/>
            <a:ext cx="419796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149080" y="2387160"/>
            <a:ext cx="419796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740880" y="4723920"/>
            <a:ext cx="860292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40880" y="2387160"/>
            <a:ext cx="860292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740880" y="4723920"/>
            <a:ext cx="860292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40880" y="2387160"/>
            <a:ext cx="419796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149080" y="2387160"/>
            <a:ext cx="419796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740880" y="4723920"/>
            <a:ext cx="419796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5149080" y="4723920"/>
            <a:ext cx="419796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40880" y="2387160"/>
            <a:ext cx="27698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649680" y="2387160"/>
            <a:ext cx="27698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558480" y="2387160"/>
            <a:ext cx="27698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740880" y="4723920"/>
            <a:ext cx="27698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649680" y="4723920"/>
            <a:ext cx="27698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558480" y="4723920"/>
            <a:ext cx="27698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0880" y="2387160"/>
            <a:ext cx="419796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9080" y="2387160"/>
            <a:ext cx="419796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40880" y="4723920"/>
            <a:ext cx="860292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0808-1C1D-47F6-AABA-C5CD204C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-4680"/>
            <a:ext cx="10080720" cy="75661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336240" y="6887880"/>
            <a:ext cx="20890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443040" y="6887880"/>
            <a:ext cx="3181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7727760" y="6887880"/>
            <a:ext cx="20890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190930-0965-4FFC-AAE0-30516AC8DB5A}" type="slidenum">
              <a:rPr b="0" lang="en-GB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923400" y="1510920"/>
            <a:ext cx="8388360" cy="22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156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1920" indent="-331920">
              <a:lnSpc>
                <a:spcPct val="85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85000"/>
              </a:lnSpc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2048040"/>
            <a:ext cx="612720" cy="5511600"/>
          </a:xfrm>
          <a:custGeom>
            <a:avLst/>
            <a:gdLst>
              <a:gd name="textAreaLeft" fmla="*/ 360 w 612720"/>
              <a:gd name="textAreaRight" fmla="*/ 612360 w 612720"/>
              <a:gd name="textAreaTop" fmla="*/ 360 h 5511600"/>
              <a:gd name="textAreaBottom" fmla="*/ 5511240 h 5511600"/>
            </a:gdLst>
            <a:ahLst/>
            <a:rect l="textAreaLeft" t="textAreaTop" r="textAreaRight" b="textAreaBottom"/>
            <a:pathLst>
              <a:path w="21600" h="194197">
                <a:moveTo>
                  <a:pt x="55" y="0"/>
                </a:moveTo>
                <a:arcTo wR="55" hR="55" stAng="16200000" swAng="-5400000"/>
                <a:lnTo>
                  <a:pt x="0" y="194142"/>
                </a:lnTo>
                <a:arcTo wR="55" hR="55" stAng="10800000" swAng="-5400000"/>
                <a:lnTo>
                  <a:pt x="21545" y="194197"/>
                </a:lnTo>
                <a:arcTo wR="55" hR="55" stAng="5400000" swAng="-5400000"/>
                <a:lnTo>
                  <a:pt x="21600" y="55"/>
                </a:lnTo>
                <a:arcTo wR="55" hR="55" stAng="0" swAng="-5400000"/>
                <a:close/>
              </a:path>
            </a:pathLst>
          </a:custGeom>
          <a:solidFill>
            <a:srgbClr val="dc2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17480" y="0"/>
            <a:ext cx="9363240" cy="1917720"/>
          </a:xfrm>
          <a:prstGeom prst="roundRect">
            <a:avLst>
              <a:gd name="adj" fmla="val 7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40880" y="2387160"/>
            <a:ext cx="860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76000"/>
              </a:lnSpc>
              <a:spcAft>
                <a:spcPts val="1426"/>
              </a:spcAft>
              <a:buClr>
                <a:srgbClr val="0000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060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2600" indent="-21132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424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424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905120"/>
            <a:ext cx="10080720" cy="196560"/>
          </a:xfrm>
          <a:prstGeom prst="roundRect">
            <a:avLst>
              <a:gd name="adj" fmla="val 806"/>
            </a:avLst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7560" y="0"/>
            <a:ext cx="182520" cy="755964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892913">
                <a:moveTo>
                  <a:pt x="189" y="0"/>
                </a:moveTo>
                <a:arcTo wR="189" hR="189" stAng="16200000" swAng="-5400000"/>
                <a:lnTo>
                  <a:pt x="0" y="892724"/>
                </a:lnTo>
                <a:arcTo wR="189" hR="189" stAng="10800000" swAng="-5400000"/>
                <a:lnTo>
                  <a:pt x="21411" y="892913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4121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8600" indent="-428760">
              <a:lnSpc>
                <a:spcPct val="76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85880" indent="-428760">
              <a:lnSpc>
                <a:spcPct val="76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074600" indent="-426960">
              <a:lnSpc>
                <a:spcPct val="76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362240" indent="-427320">
              <a:lnSpc>
                <a:spcPct val="76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1650960" indent="-428760">
              <a:lnSpc>
                <a:spcPct val="76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1650960" indent="-428760">
              <a:lnSpc>
                <a:spcPct val="76000"/>
              </a:lnSpc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1650960" indent="-428760">
              <a:lnSpc>
                <a:spcPct val="76000"/>
              </a:lnSpc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39440" y="604800"/>
            <a:ext cx="859932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1000"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821880" y="2136240"/>
            <a:ext cx="840924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5360" indent="-425520">
              <a:lnSpc>
                <a:spcPct val="82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82640" indent="-425520">
              <a:lnSpc>
                <a:spcPct val="82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071720" indent="-424080">
              <a:lnSpc>
                <a:spcPct val="82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359000" indent="-425520">
              <a:lnSpc>
                <a:spcPct val="82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1647720" indent="-426960">
              <a:lnSpc>
                <a:spcPct val="82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1647720" indent="-426960">
              <a:lnSpc>
                <a:spcPct val="82000"/>
              </a:lnSpc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1647720" indent="-426960">
              <a:lnSpc>
                <a:spcPct val="82000"/>
              </a:lnSpc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060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2600" indent="-21132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424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424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4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5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6"/>
          </p:nvPr>
        </p:nvSpPr>
        <p:spPr>
          <a:xfrm>
            <a:off x="7227360" y="6886080"/>
            <a:ext cx="234180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3F929B-43E9-4069-87A6-3818A2B964D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2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40880" y="1963800"/>
            <a:ext cx="8766360" cy="49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82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8960" indent="-285840">
              <a:lnSpc>
                <a:spcPct val="82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1290600" indent="-212760">
              <a:lnSpc>
                <a:spcPct val="82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1722600" indent="-211320">
              <a:lnSpc>
                <a:spcPct val="82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2154240" indent="-212760">
              <a:lnSpc>
                <a:spcPct val="82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2154240" indent="-212760">
              <a:lnSpc>
                <a:spcPct val="8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2154240" indent="-212760">
              <a:lnSpc>
                <a:spcPct val="8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23960" y="7077240"/>
            <a:ext cx="93549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2048040"/>
            <a:ext cx="612720" cy="5511600"/>
          </a:xfrm>
          <a:custGeom>
            <a:avLst/>
            <a:gdLst>
              <a:gd name="textAreaLeft" fmla="*/ 360 w 612720"/>
              <a:gd name="textAreaRight" fmla="*/ 612360 w 612720"/>
              <a:gd name="textAreaTop" fmla="*/ 360 h 5511600"/>
              <a:gd name="textAreaBottom" fmla="*/ 5511240 h 5511600"/>
            </a:gdLst>
            <a:ahLst/>
            <a:rect l="textAreaLeft" t="textAreaTop" r="textAreaRight" b="textAreaBottom"/>
            <a:pathLst>
              <a:path w="21600" h="194197">
                <a:moveTo>
                  <a:pt x="55" y="0"/>
                </a:moveTo>
                <a:arcTo wR="55" hR="55" stAng="16200000" swAng="-5400000"/>
                <a:lnTo>
                  <a:pt x="0" y="194142"/>
                </a:lnTo>
                <a:arcTo wR="55" hR="55" stAng="10800000" swAng="-5400000"/>
                <a:lnTo>
                  <a:pt x="21545" y="194197"/>
                </a:lnTo>
                <a:arcTo wR="55" hR="55" stAng="5400000" swAng="-5400000"/>
                <a:lnTo>
                  <a:pt x="21600" y="55"/>
                </a:lnTo>
                <a:arcTo wR="55" hR="55" stAng="0" swAng="-5400000"/>
                <a:close/>
              </a:path>
            </a:pathLst>
          </a:custGeom>
          <a:solidFill>
            <a:srgbClr val="dc2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17480" y="0"/>
            <a:ext cx="9363240" cy="1917720"/>
          </a:xfrm>
          <a:prstGeom prst="roundRect">
            <a:avLst>
              <a:gd name="adj" fmla="val 7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40880" y="2387160"/>
            <a:ext cx="860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76000"/>
              </a:lnSpc>
              <a:spcAft>
                <a:spcPts val="1426"/>
              </a:spcAft>
              <a:buClr>
                <a:srgbClr val="0000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060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2600" indent="-21132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424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424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1905120"/>
            <a:ext cx="10080720" cy="196560"/>
          </a:xfrm>
          <a:prstGeom prst="roundRect">
            <a:avLst>
              <a:gd name="adj" fmla="val 806"/>
            </a:avLst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47560" y="0"/>
            <a:ext cx="182520" cy="755964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892913">
                <a:moveTo>
                  <a:pt x="189" y="0"/>
                </a:moveTo>
                <a:arcTo wR="189" hR="189" stAng="16200000" swAng="-5400000"/>
                <a:lnTo>
                  <a:pt x="0" y="892724"/>
                </a:lnTo>
                <a:arcTo wR="189" hR="189" stAng="10800000" swAng="-5400000"/>
                <a:lnTo>
                  <a:pt x="21411" y="892913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image" Target="../media/image20.jpeg"/><Relationship Id="rId11" Type="http://schemas.openxmlformats.org/officeDocument/2006/relationships/image" Target="../media/image21.jpeg"/><Relationship Id="rId12" Type="http://schemas.openxmlformats.org/officeDocument/2006/relationships/slideLayout" Target="../slideLayouts/slideLayout51.xml"/><Relationship Id="rId1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png"/><Relationship Id="rId9" Type="http://schemas.openxmlformats.org/officeDocument/2006/relationships/slideLayout" Target="../slideLayouts/slideLayout49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5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95440" y="922320"/>
            <a:ext cx="9090000" cy="5002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Изменение формы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редставления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информации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68000" y="1618920"/>
            <a:ext cx="9072360" cy="39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7200" spc="-1" strike="noStrike">
                <a:solidFill>
                  <a:srgbClr val="ff0000"/>
                </a:solidFill>
                <a:latin typeface="Arial"/>
              </a:rPr>
              <a:t>Систематизировать информацию</a:t>
            </a: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 - </a:t>
            </a:r>
            <a:br>
              <a:rPr sz="7200"/>
            </a:br>
            <a:br>
              <a:rPr sz="6600"/>
            </a:b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что это значит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2920" y="17640"/>
            <a:ext cx="907236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Задача №3</a:t>
            </a:r>
            <a:br>
              <a:rPr sz="44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Графическую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информацию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замените на символьную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заполните таблицу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по основному признаку предм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6872400" y="2001960"/>
            <a:ext cx="1407960" cy="177804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1260360" y="287964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3"/>
          <a:stretch/>
        </p:blipFill>
        <p:spPr>
          <a:xfrm>
            <a:off x="7920000" y="5580000"/>
            <a:ext cx="1081080" cy="125568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4"/>
          <a:stretch/>
        </p:blipFill>
        <p:spPr>
          <a:xfrm>
            <a:off x="5400720" y="540072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5"/>
          <a:stretch/>
        </p:blipFill>
        <p:spPr>
          <a:xfrm>
            <a:off x="8099280" y="2700360"/>
            <a:ext cx="1440000" cy="2521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6"/>
          <a:stretch/>
        </p:blipFill>
        <p:spPr>
          <a:xfrm>
            <a:off x="2519280" y="3419640"/>
            <a:ext cx="2160720" cy="216036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7"/>
          <a:stretch/>
        </p:blipFill>
        <p:spPr>
          <a:xfrm>
            <a:off x="5292720" y="2879640"/>
            <a:ext cx="1187280" cy="180036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8"/>
          <a:stretch/>
        </p:blipFill>
        <p:spPr>
          <a:xfrm>
            <a:off x="988920" y="5580000"/>
            <a:ext cx="1711440" cy="126036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9"/>
          <a:stretch/>
        </p:blipFill>
        <p:spPr>
          <a:xfrm>
            <a:off x="3060720" y="2519280"/>
            <a:ext cx="900000" cy="90036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10"/>
          <a:stretch/>
        </p:blipFill>
        <p:spPr>
          <a:xfrm>
            <a:off x="3780000" y="5940360"/>
            <a:ext cx="1260360" cy="108108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11"/>
          <a:stretch/>
        </p:blipFill>
        <p:spPr>
          <a:xfrm>
            <a:off x="1322280" y="4165560"/>
            <a:ext cx="838440" cy="6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68000" y="358560"/>
            <a:ext cx="907236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таблиц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720720" y="1979640"/>
            <a:ext cx="8820000" cy="4946760"/>
            <a:chOff x="720720" y="1979640"/>
            <a:chExt cx="8820000" cy="4946760"/>
          </a:xfrm>
        </p:grpSpPr>
        <p:sp>
          <p:nvSpPr>
            <p:cNvPr id="337" name=""/>
            <p:cNvSpPr/>
            <p:nvPr/>
          </p:nvSpPr>
          <p:spPr>
            <a:xfrm>
              <a:off x="6600960" y="6130800"/>
              <a:ext cx="293976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59040" y="6130800"/>
              <a:ext cx="294012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20720" y="6130800"/>
              <a:ext cx="294012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Гитара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600960" y="5342040"/>
              <a:ext cx="293976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659040" y="5342040"/>
              <a:ext cx="294012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20720" y="5342040"/>
              <a:ext cx="294012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Бая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600960" y="4551480"/>
              <a:ext cx="293976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659040" y="4551480"/>
              <a:ext cx="294012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Коньк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20720" y="4551480"/>
              <a:ext cx="294012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Бараба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600960" y="3757680"/>
              <a:ext cx="293976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Роза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659040" y="3757680"/>
              <a:ext cx="294012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Мя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20720" y="3757680"/>
              <a:ext cx="294012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Скрипк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600960" y="2971800"/>
              <a:ext cx="293976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Василё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659040" y="2971800"/>
              <a:ext cx="294012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Гантел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20720" y="2971800"/>
              <a:ext cx="294012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Труб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600960" y="1979640"/>
              <a:ext cx="2939760" cy="9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3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80"/>
                  </a:solidFill>
                  <a:latin typeface="Arial"/>
                </a:rPr>
                <a:t>Цвет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659040" y="1979640"/>
              <a:ext cx="2940120" cy="9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3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80"/>
                  </a:solidFill>
                  <a:latin typeface="Arial"/>
                </a:rPr>
                <a:t>Спортивный инвентар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20720" y="1979640"/>
              <a:ext cx="2940120" cy="9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3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80"/>
                  </a:solidFill>
                  <a:latin typeface="Arial"/>
                </a:rPr>
                <a:t>Музыкальные инструмент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20720" y="1979640"/>
              <a:ext cx="88200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20720" y="2971800"/>
              <a:ext cx="8820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20720" y="3757680"/>
              <a:ext cx="8820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20720" y="4551480"/>
              <a:ext cx="8820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20720" y="5342040"/>
              <a:ext cx="8820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20720" y="6132600"/>
              <a:ext cx="8820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20720" y="6924600"/>
              <a:ext cx="88200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20720" y="1979640"/>
              <a:ext cx="1440" cy="494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659040" y="1979640"/>
              <a:ext cx="1800" cy="494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599160" y="1979640"/>
              <a:ext cx="1800" cy="494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9539280" y="1979640"/>
              <a:ext cx="1440" cy="494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9086760" y="7191360"/>
            <a:ext cx="716040" cy="368280"/>
          </a:xfrm>
          <a:prstGeom prst="leftArrow">
            <a:avLst>
              <a:gd name="adj1" fmla="val 50000"/>
              <a:gd name="adj2" fmla="val 4860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659640" y="4500720"/>
            <a:ext cx="21603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Гвозд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15520" y="0"/>
            <a:ext cx="889020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Задание №4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: систематизируйте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2920" y="1763640"/>
            <a:ext cx="4451400" cy="49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6960" indent="0">
              <a:lnSpc>
                <a:spcPct val="93000"/>
              </a:lnSpc>
              <a:spcBef>
                <a:spcPts val="700"/>
              </a:spcBef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93000"/>
              </a:lnSpc>
              <a:spcBef>
                <a:spcPts val="700"/>
              </a:spcBef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93000"/>
              </a:lnSpc>
              <a:spcBef>
                <a:spcPts val="700"/>
              </a:spcBef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93000"/>
              </a:lnSpc>
              <a:spcBef>
                <a:spcPts val="700"/>
              </a:spcBef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93000"/>
              </a:lnSpc>
              <a:spcBef>
                <a:spcPts val="700"/>
              </a:spcBef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693720" y="5219640"/>
            <a:ext cx="8664480" cy="2013120"/>
            <a:chOff x="693720" y="5219640"/>
            <a:chExt cx="8664480" cy="2013120"/>
          </a:xfrm>
        </p:grpSpPr>
        <p:sp>
          <p:nvSpPr>
            <p:cNvPr id="371" name=""/>
            <p:cNvSpPr/>
            <p:nvPr/>
          </p:nvSpPr>
          <p:spPr>
            <a:xfrm>
              <a:off x="6467400" y="6827760"/>
              <a:ext cx="288936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583080" y="6827760"/>
              <a:ext cx="288612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93720" y="6827760"/>
              <a:ext cx="288936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467400" y="6426360"/>
              <a:ext cx="288936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583080" y="6426360"/>
              <a:ext cx="288612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3720" y="6426360"/>
              <a:ext cx="288936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467400" y="6024600"/>
              <a:ext cx="288936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583080" y="6024600"/>
              <a:ext cx="288612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3720" y="6024600"/>
              <a:ext cx="288936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467400" y="5622840"/>
              <a:ext cx="288936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583080" y="5622840"/>
              <a:ext cx="288612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93720" y="5622840"/>
              <a:ext cx="288936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467400" y="5219640"/>
              <a:ext cx="288936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3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Головные убор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583080" y="5219640"/>
              <a:ext cx="288612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3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Обув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93720" y="5219640"/>
              <a:ext cx="288936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3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Одеж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93720" y="5219640"/>
              <a:ext cx="86630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93720" y="5622840"/>
              <a:ext cx="86630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93720" y="6024600"/>
              <a:ext cx="86630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93720" y="6426360"/>
              <a:ext cx="86630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93720" y="6827760"/>
              <a:ext cx="86630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93720" y="7230960"/>
              <a:ext cx="86630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93720" y="5219640"/>
              <a:ext cx="1440" cy="2011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583080" y="5219640"/>
              <a:ext cx="1440" cy="201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467400" y="5219640"/>
              <a:ext cx="1800" cy="201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9356760" y="5219640"/>
              <a:ext cx="1440" cy="2011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"/>
          <p:cNvSpPr/>
          <p:nvPr/>
        </p:nvSpPr>
        <p:spPr>
          <a:xfrm>
            <a:off x="9009000" y="7191360"/>
            <a:ext cx="714600" cy="368280"/>
          </a:xfrm>
          <a:prstGeom prst="leftArrow">
            <a:avLst>
              <a:gd name="adj1" fmla="val 50000"/>
              <a:gd name="adj2" fmla="val 4850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6378480" y="2340000"/>
            <a:ext cx="1362240" cy="108576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2"/>
          <a:stretch/>
        </p:blipFill>
        <p:spPr>
          <a:xfrm>
            <a:off x="4813200" y="1260360"/>
            <a:ext cx="1666800" cy="166716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3"/>
          <a:stretch/>
        </p:blipFill>
        <p:spPr>
          <a:xfrm>
            <a:off x="7920000" y="3959280"/>
            <a:ext cx="1440000" cy="90000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4"/>
          <a:stretch/>
        </p:blipFill>
        <p:spPr>
          <a:xfrm>
            <a:off x="1079640" y="2700360"/>
            <a:ext cx="1260360" cy="180036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5"/>
          <a:stretch/>
        </p:blipFill>
        <p:spPr>
          <a:xfrm>
            <a:off x="3060720" y="1800360"/>
            <a:ext cx="1800360" cy="287964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6"/>
          <a:stretch/>
        </p:blipFill>
        <p:spPr>
          <a:xfrm>
            <a:off x="4824360" y="3274920"/>
            <a:ext cx="1711440" cy="186552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7"/>
          <a:stretch/>
        </p:blipFill>
        <p:spPr>
          <a:xfrm>
            <a:off x="7740720" y="1079640"/>
            <a:ext cx="2160360" cy="252072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8"/>
          <a:stretch/>
        </p:blipFill>
        <p:spPr>
          <a:xfrm>
            <a:off x="1079640" y="1368360"/>
            <a:ext cx="1800000" cy="13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Систематизировать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741240" y="2387520"/>
            <a:ext cx="860904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331920" indent="0" algn="ctr">
              <a:lnSpc>
                <a:spcPct val="93000"/>
              </a:lnSpc>
              <a:spcBef>
                <a:spcPts val="1100"/>
              </a:spcBef>
              <a:buNone/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Arial"/>
                <a:ea typeface="MS Gothic"/>
              </a:rPr>
              <a:t> </a:t>
            </a:r>
            <a:r>
              <a:rPr b="1" i="1" lang="en-GB" sz="5400" spc="-1" strike="noStrike">
                <a:solidFill>
                  <a:srgbClr val="000000"/>
                </a:solidFill>
                <a:latin typeface="Arial"/>
                <a:ea typeface="MS Gothic"/>
              </a:rPr>
              <a:t> </a:t>
            </a:r>
            <a:r>
              <a:rPr b="0" lang="en-GB" sz="5400" spc="-1" strike="noStrike">
                <a:solidFill>
                  <a:srgbClr val="000000"/>
                </a:solidFill>
                <a:latin typeface="Arial"/>
                <a:ea typeface="MS Gothic"/>
              </a:rPr>
              <a:t>это значит </a:t>
            </a:r>
            <a:r>
              <a:rPr b="0" lang="en-GB" sz="5400" spc="-1" strike="noStrike">
                <a:solidFill>
                  <a:srgbClr val="ff0000"/>
                </a:solidFill>
                <a:latin typeface="Arial"/>
                <a:ea typeface="MS Gothic"/>
              </a:rPr>
              <a:t>расположить</a:t>
            </a:r>
            <a:r>
              <a:rPr b="0" lang="en-GB" sz="5400" spc="-1" strike="noStrike">
                <a:solidFill>
                  <a:srgbClr val="000000"/>
                </a:solidFill>
                <a:latin typeface="Arial"/>
                <a:ea typeface="MS Gothic"/>
              </a:rPr>
              <a:t> таким способом, чтобы можно было  </a:t>
            </a:r>
            <a:r>
              <a:rPr b="0" lang="en-GB" sz="5400" spc="-1" strike="noStrike">
                <a:solidFill>
                  <a:srgbClr val="ff0000"/>
                </a:solidFill>
                <a:latin typeface="Arial"/>
                <a:ea typeface="MS Gothic"/>
              </a:rPr>
              <a:t>быстро произвести поиск</a:t>
            </a:r>
            <a:r>
              <a:rPr b="0" lang="en-GB" sz="5400" spc="-1" strike="noStrike">
                <a:solidFill>
                  <a:srgbClr val="000000"/>
                </a:solidFill>
                <a:latin typeface="Arial"/>
                <a:ea typeface="MS Gothic"/>
              </a:rPr>
              <a:t> нужной информации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741240" y="2282760"/>
            <a:ext cx="860904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331920" indent="-331920" algn="ctr">
              <a:lnSpc>
                <a:spcPct val="93000"/>
              </a:lnSpc>
              <a:spcBef>
                <a:spcPts val="11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6600" spc="-1" strike="noStrike">
                <a:solidFill>
                  <a:srgbClr val="000000"/>
                </a:solidFill>
                <a:latin typeface="Arial"/>
                <a:ea typeface="MS Gothic"/>
              </a:rPr>
              <a:t> </a:t>
            </a:r>
            <a:r>
              <a:rPr b="0" lang="en-GB" sz="6600" spc="-1" strike="noStrike">
                <a:solidFill>
                  <a:srgbClr val="000000"/>
                </a:solidFill>
                <a:latin typeface="Arial"/>
                <a:ea typeface="MS Gothic"/>
              </a:rPr>
              <a:t>Если информация систематизирована, то поиск осуществляется быстро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40880" y="671400"/>
            <a:ext cx="860580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Методы поис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40880" y="2387520"/>
            <a:ext cx="86058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81000"/>
              </a:lnSpc>
              <a:spcAft>
                <a:spcPts val="1426"/>
              </a:spcAft>
              <a:buClr>
                <a:srgbClr val="0000ff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Наблюд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81000"/>
              </a:lnSpc>
              <a:spcAft>
                <a:spcPts val="1426"/>
              </a:spcAft>
              <a:buClr>
                <a:srgbClr val="0000ff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Общ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81000"/>
              </a:lnSpc>
              <a:spcAft>
                <a:spcPts val="1426"/>
              </a:spcAft>
              <a:buClr>
                <a:srgbClr val="0000ff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Чтение литерат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81000"/>
              </a:lnSpc>
              <a:spcAft>
                <a:spcPts val="1426"/>
              </a:spcAft>
              <a:buClr>
                <a:srgbClr val="0000ff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Просмотр телепереда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81000"/>
              </a:lnSpc>
              <a:spcAft>
                <a:spcPts val="1426"/>
              </a:spcAft>
              <a:buClr>
                <a:srgbClr val="0000ff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Работа в библиотек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81000"/>
              </a:lnSpc>
              <a:spcAft>
                <a:spcPts val="1426"/>
              </a:spcAft>
              <a:buClr>
                <a:srgbClr val="0000ff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И другие мет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dur="indefinite" fill="hold">
                      <p:stCondLst>
                        <p:cond delay="indefinite"/>
                      </p:stCondLst>
                      <p:childTnLst>
                        <p:par>
                          <p:cTn id="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9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dur="indefinite" fill="hold">
                      <p:stCondLst>
                        <p:cond delay="indefinite"/>
                      </p:stCondLst>
                      <p:childTnLst>
                        <p:par>
                          <p:cTn id="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dur="indefinite" fill="hold">
                      <p:stCondLst>
                        <p:cond delay="indefinite"/>
                      </p:stCondLst>
                      <p:childTnLst>
                        <p:par>
                          <p:cTn id="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dur="indefinite" fill="hold">
                      <p:stCondLst>
                        <p:cond delay="indefinite"/>
                      </p:stCondLst>
                      <p:childTnLst>
                        <p:par>
                          <p:cTn id="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dur="indefinite" fill="hold">
                      <p:stCondLst>
                        <p:cond delay="indefinite"/>
                      </p:stCondLst>
                      <p:childTnLst>
                        <p:par>
                          <p:cTn id="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dur="indefinite" fill="hold">
                      <p:stCondLst>
                        <p:cond delay="indefinite"/>
                      </p:stCondLst>
                      <p:childTnLst>
                        <p:par>
                          <p:cTn id="1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 fill="hold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40880" y="671400"/>
            <a:ext cx="860580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753840" y="2179800"/>
            <a:ext cx="9326520" cy="44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0">
              <a:lnSpc>
                <a:spcPct val="87000"/>
              </a:lnSpc>
              <a:spcBef>
                <a:spcPts val="901"/>
              </a:spcBef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Обработка связанная с изменением формы представления информации, но не изменяющая её содержания, происходит при </a:t>
            </a:r>
            <a:r>
              <a:rPr b="0" lang="en-GB" sz="4800" spc="-1" strike="noStrike">
                <a:solidFill>
                  <a:srgbClr val="ff0000"/>
                </a:solidFill>
                <a:latin typeface="Arial"/>
              </a:rPr>
              <a:t>кодировании</a:t>
            </a: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4800" spc="-1" strike="noStrike">
                <a:solidFill>
                  <a:srgbClr val="ff0000"/>
                </a:solidFill>
                <a:latin typeface="Arial"/>
              </a:rPr>
              <a:t>систематизации</a:t>
            </a: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GB" sz="4800" spc="-1" strike="noStrike">
                <a:solidFill>
                  <a:srgbClr val="ff0000"/>
                </a:solidFill>
                <a:latin typeface="Arial"/>
              </a:rPr>
              <a:t>поиске</a:t>
            </a: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dur="indefinite" fill="hold">
                      <p:stCondLst>
                        <p:cond delay="indefinite"/>
                      </p:stCondLst>
                      <p:childTnLst>
                        <p:par>
                          <p:cTn id="1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" dur="500" fill="hold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41240" y="671400"/>
            <a:ext cx="860904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Источни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1368000" y="2484360"/>
            <a:ext cx="82090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учебник «Информатика 5» под ред. Л. Л.  Босовой, 2005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«Информатика в играх и задачках» Методические рекомендации для учителя под ред. А.В. Горячева, 1998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images.google.r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Обработка информации -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741240" y="2387520"/>
            <a:ext cx="860904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это решение некоторой информационной задач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 fill="hold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41240" y="671400"/>
            <a:ext cx="860904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2 типа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741240" y="2236680"/>
            <a:ext cx="915984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Обработка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, связанная с получением 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новой информации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из уже имеющейс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20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Обработка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, связанная с изменением 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формы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представления информации, а 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не  содержа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68000" y="718920"/>
            <a:ext cx="907236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3880" indent="0" algn="ctr">
              <a:lnSpc>
                <a:spcPct val="93000"/>
              </a:lnSpc>
              <a:buNone/>
              <a:tabLst>
                <a:tab algn="l" pos="0"/>
                <a:tab algn="l" pos="3538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6000" spc="-1" strike="noStrike">
                <a:solidFill>
                  <a:srgbClr val="99284c"/>
                </a:solidFill>
                <a:latin typeface="Arial"/>
              </a:rPr>
              <a:t>Задача №1</a:t>
            </a:r>
            <a:endParaRPr b="1" i="1" lang="en-US" sz="6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547640" y="2340000"/>
            <a:ext cx="76327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86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333333"/>
                </a:solidFill>
                <a:latin typeface="Arial"/>
              </a:rPr>
              <a:t>М – 21д.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  <a:p>
            <a:pPr marL="4986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333333"/>
                </a:solidFill>
                <a:latin typeface="Arial"/>
              </a:rPr>
              <a:t>Д - ? на 6 д. м., чем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  <a:p>
            <a:pPr marL="498600" indent="0" algn="ctr">
              <a:lnSpc>
                <a:spcPct val="75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98600" indent="0" algn="ctr">
              <a:lnSpc>
                <a:spcPct val="75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98600" indent="0" algn="ctr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9860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49860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49860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49860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5649480" y="2122560"/>
            <a:ext cx="3426120" cy="2370240"/>
            <a:chOff x="5649480" y="2122560"/>
            <a:chExt cx="3426120" cy="2370240"/>
          </a:xfrm>
        </p:grpSpPr>
        <p:grpSp>
          <p:nvGrpSpPr>
            <p:cNvPr id="302" name=""/>
            <p:cNvGrpSpPr/>
            <p:nvPr/>
          </p:nvGrpSpPr>
          <p:grpSpPr>
            <a:xfrm>
              <a:off x="5649480" y="2751120"/>
              <a:ext cx="1763640" cy="1263600"/>
              <a:chOff x="5649480" y="2751120"/>
              <a:chExt cx="1763640" cy="1263600"/>
            </a:xfrm>
          </p:grpSpPr>
          <p:sp>
            <p:nvSpPr>
              <p:cNvPr id="303" name=""/>
              <p:cNvSpPr/>
              <p:nvPr/>
            </p:nvSpPr>
            <p:spPr>
              <a:xfrm flipH="1">
                <a:off x="5649480" y="2751120"/>
                <a:ext cx="176364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7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7404120" y="2751120"/>
                <a:ext cx="1440" cy="126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7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" name=""/>
            <p:cNvSpPr/>
            <p:nvPr/>
          </p:nvSpPr>
          <p:spPr>
            <a:xfrm>
              <a:off x="7883640" y="2122560"/>
              <a:ext cx="158760" cy="2370240"/>
            </a:xfrm>
            <a:custGeom>
              <a:avLst/>
              <a:gdLst>
                <a:gd name="textAreaLeft" fmla="*/ 0 w 158760"/>
                <a:gd name="textAreaRight" fmla="*/ 57240 w 158760"/>
                <a:gd name="textAreaTop" fmla="*/ 61560 h 2370240"/>
                <a:gd name="textAreaBottom" fmla="*/ 2308680 h 2370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280360" y="2751120"/>
              <a:ext cx="795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40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39640" y="720360"/>
            <a:ext cx="9072720" cy="15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1920" indent="0" algn="ctr">
              <a:lnSpc>
                <a:spcPct val="77000"/>
              </a:lnSpc>
              <a:spcBef>
                <a:spcPts val="601"/>
              </a:spcBef>
              <a:buNone/>
              <a:tabLst>
                <a:tab algn="l" pos="0"/>
                <a:tab algn="l" pos="33192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6000" spc="-1" strike="noStrike">
                <a:solidFill>
                  <a:srgbClr val="99284c"/>
                </a:solidFill>
                <a:latin typeface="Arial"/>
              </a:rPr>
              <a:t>Задача № 2 </a:t>
            </a:r>
            <a:endParaRPr b="1" i="1" lang="en-US" sz="6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079640" y="1619280"/>
            <a:ext cx="7920000" cy="55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90320" indent="0" algn="ctr">
              <a:lnSpc>
                <a:spcPct val="77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90320" indent="0">
              <a:lnSpc>
                <a:spcPct val="77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33"/>
                </a:solidFill>
                <a:latin typeface="Arial"/>
              </a:rPr>
              <a:t>Раскодировать сообщение: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490320" indent="0">
              <a:lnSpc>
                <a:spcPct val="77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490320" indent="0">
              <a:lnSpc>
                <a:spcPct val="77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GB" sz="4000" spc="-1" strike="noStrike">
                <a:solidFill>
                  <a:srgbClr val="333333"/>
                </a:solidFill>
                <a:latin typeface="Arial"/>
              </a:rPr>
              <a:t>(11,1), (12,1), (5,2), (3,1), (6,3), (10,1), (12,1), (2,2), (1,3), (2,3), (5,1), (4,2), (1,3), (4,2), (6,1), (12,1), (3,2), (12,1), (10,3), (4,1), (6,2), (5,1), (2,2), (3,1), (1,3), (9,2), (10,3), (6,3), (11,3).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490320" indent="0">
              <a:lnSpc>
                <a:spcPct val="77000"/>
              </a:lnSpc>
              <a:spcBef>
                <a:spcPts val="400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490320" indent="0">
              <a:lnSpc>
                <a:spcPct val="77000"/>
              </a:lnSpc>
              <a:spcBef>
                <a:spcPts val="400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490320" indent="0">
              <a:lnSpc>
                <a:spcPct val="77000"/>
              </a:lnSpc>
              <a:spcBef>
                <a:spcPts val="400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Уч. стр. 30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079640" y="53964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1000" indent="0" algn="ctr">
              <a:lnSpc>
                <a:spcPct val="93000"/>
              </a:lnSpc>
              <a:buNone/>
              <a:tabLst>
                <a:tab algn="l" pos="0"/>
                <a:tab algn="l" pos="351000"/>
                <a:tab algn="l" pos="798480"/>
                <a:tab algn="l" pos="1247760"/>
                <a:tab algn="l" pos="1697040"/>
                <a:tab algn="l" pos="2146320"/>
                <a:tab algn="l" pos="2595600"/>
                <a:tab algn="l" pos="3044880"/>
                <a:tab algn="l" pos="3494160"/>
                <a:tab algn="l" pos="3943440"/>
                <a:tab algn="l" pos="4392720"/>
                <a:tab algn="l" pos="4842000"/>
                <a:tab algn="l" pos="5291280"/>
                <a:tab algn="l" pos="5740560"/>
                <a:tab algn="l" pos="6189840"/>
                <a:tab algn="l" pos="6638760"/>
                <a:tab algn="l" pos="7088040"/>
                <a:tab algn="l" pos="7537320"/>
                <a:tab algn="l" pos="7986600"/>
                <a:tab algn="l" pos="8435880"/>
                <a:tab algn="l" pos="8885160"/>
                <a:tab algn="l" pos="9334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Способы кодирования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741240" y="2387520"/>
            <a:ext cx="860904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93000"/>
              </a:lnSpc>
              <a:spcAft>
                <a:spcPts val="1426"/>
              </a:spcAft>
              <a:buClr>
                <a:srgbClr val="0000ff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Arial"/>
              </a:rPr>
              <a:t>Графический</a:t>
            </a: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 – с помощью рисунков и знак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3000"/>
              </a:lnSpc>
              <a:spcAft>
                <a:spcPts val="1426"/>
              </a:spcAft>
              <a:buClr>
                <a:srgbClr val="0000ff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Arial"/>
              </a:rPr>
              <a:t>Числовой</a:t>
            </a: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 – с помощью чисе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3000"/>
              </a:lnSpc>
              <a:spcAft>
                <a:spcPts val="1426"/>
              </a:spcAft>
              <a:buClr>
                <a:srgbClr val="0000ff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Arial"/>
              </a:rPr>
              <a:t>Символьный</a:t>
            </a: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 – с помощью символов алфавит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dur="indefinite" fill="hold">
                      <p:stCondLst>
                        <p:cond delay="indefinite"/>
                      </p:stCondLst>
                      <p:childTnLst>
                        <p:par>
                          <p:cTn id="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dur="indefinite" fill="hold">
                      <p:stCondLst>
                        <p:cond delay="indefinite"/>
                      </p:stCondLst>
                      <p:childTnLst>
                        <p:par>
                          <p:cTn id="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60360" y="392040"/>
            <a:ext cx="9072720" cy="175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Задача №1 (устно)</a:t>
            </a:r>
            <a:br>
              <a:rPr sz="44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По первым буквам нарисованных предметов прочти имя геро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4181400" y="3959280"/>
            <a:ext cx="2119320" cy="216036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374760" y="3419640"/>
            <a:ext cx="1425600" cy="143964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1347840" y="4635360"/>
            <a:ext cx="1352520" cy="130500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2519280" y="3600360"/>
            <a:ext cx="1800360" cy="120960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5"/>
          <a:stretch/>
        </p:blipFill>
        <p:spPr>
          <a:xfrm>
            <a:off x="5940360" y="3014640"/>
            <a:ext cx="1305000" cy="130500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6"/>
          <a:stretch/>
        </p:blipFill>
        <p:spPr>
          <a:xfrm>
            <a:off x="7053120" y="4140360"/>
            <a:ext cx="1408320" cy="12603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8280360" y="3240000"/>
            <a:ext cx="1081080" cy="108108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1920" indent="0" algn="ctr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9966"/>
                </a:solidFill>
                <a:latin typeface="Arial"/>
              </a:rPr>
              <a:t>Задача №2</a:t>
            </a:r>
            <a:endParaRPr b="1" i="1" lang="en-US" sz="4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60360" y="1901880"/>
            <a:ext cx="9339120" cy="49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  <a:p>
            <a:pPr marL="426960" indent="0">
              <a:lnSpc>
                <a:spcPct val="76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e6e6e6"/>
                </a:solidFill>
                <a:latin typeface="Times New Roman"/>
              </a:rPr>
              <a:t>А) </a:t>
            </a:r>
            <a:r>
              <a:rPr b="0" lang="en-GB" sz="3600" spc="-1" strike="noStrike">
                <a:solidFill>
                  <a:srgbClr val="e6e6e6"/>
                </a:solidFill>
                <a:latin typeface="Times New Roman"/>
              </a:rPr>
              <a:t>(устно) По первым буквам написанных слов прочтите новое слово</a:t>
            </a: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  <a:p>
            <a:pPr marL="426960" indent="0">
              <a:lnSpc>
                <a:spcPct val="76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  <a:p>
            <a:pPr marL="426960" indent="0">
              <a:lnSpc>
                <a:spcPct val="76000"/>
              </a:lnSpc>
              <a:spcBef>
                <a:spcPts val="8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      </a:t>
            </a:r>
            <a:r>
              <a:rPr b="1" lang="en-GB" sz="2800" spc="-1" strike="noStrike">
                <a:solidFill>
                  <a:srgbClr val="e6e6e6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e6e6e6"/>
                </a:solidFill>
                <a:latin typeface="Times New Roman"/>
              </a:rPr>
              <a:t>КОТ, РЫБА, ОКУНЬ, ЛЕС, ИГЛА, КОЗА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6960" indent="0">
              <a:lnSpc>
                <a:spcPct val="76000"/>
              </a:lnSpc>
              <a:spcBef>
                <a:spcPts val="8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400" spc="-1" strike="noStrike">
              <a:solidFill>
                <a:srgbClr val="e6e6e6"/>
              </a:solidFill>
              <a:latin typeface="Times New Roman"/>
            </a:endParaRPr>
          </a:p>
          <a:p>
            <a:pPr marL="426960" indent="0">
              <a:lnSpc>
                <a:spcPct val="76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e6e6e6"/>
                </a:solidFill>
                <a:latin typeface="Times New Roman"/>
              </a:rPr>
              <a:t>Б)</a:t>
            </a: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 </a:t>
            </a:r>
            <a:r>
              <a:rPr b="0" lang="en-GB" sz="3600" spc="-1" strike="noStrike">
                <a:solidFill>
                  <a:srgbClr val="e6e6e6"/>
                </a:solidFill>
                <a:latin typeface="Times New Roman"/>
              </a:rPr>
              <a:t>(в тетради) </a:t>
            </a: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  <a:p>
            <a:pPr marL="426960" indent="0">
              <a:lnSpc>
                <a:spcPct val="76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e6e6e6"/>
                </a:solidFill>
                <a:latin typeface="Times New Roman"/>
              </a:rPr>
              <a:t>     </a:t>
            </a:r>
            <a:r>
              <a:rPr b="0" lang="en-GB" sz="3600" spc="-1" strike="noStrike">
                <a:solidFill>
                  <a:srgbClr val="e6e6e6"/>
                </a:solidFill>
                <a:latin typeface="Times New Roman"/>
              </a:rPr>
              <a:t>Таким же способом закодируйте своё имя</a:t>
            </a: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 fill="hold"/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 fill="hold"/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539640" y="539640"/>
            <a:ext cx="9001080" cy="62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426960" indent="-322200" algn="ctr">
              <a:lnSpc>
                <a:spcPct val="93000"/>
              </a:lnSpc>
              <a:tabLst>
                <a:tab algn="l" pos="0"/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  <a:ea typeface="MS Gothic"/>
              </a:rPr>
              <a:t>При </a:t>
            </a:r>
            <a:r>
              <a:rPr b="1" lang="en-GB" sz="5400" spc="-1" strike="noStrike">
                <a:solidFill>
                  <a:srgbClr val="ff0000"/>
                </a:solidFill>
                <a:latin typeface="Arial"/>
                <a:ea typeface="MS Gothic"/>
              </a:rPr>
              <a:t>кодировании</a:t>
            </a:r>
            <a:r>
              <a:rPr b="0" lang="en-GB" sz="5400" spc="-1" strike="noStrike">
                <a:solidFill>
                  <a:srgbClr val="000000"/>
                </a:solidFill>
                <a:latin typeface="Arial"/>
                <a:ea typeface="MS Gothic"/>
              </a:rPr>
              <a:t> и </a:t>
            </a:r>
            <a:r>
              <a:rPr b="1" lang="en-GB" sz="5400" spc="-1" strike="noStrike">
                <a:solidFill>
                  <a:srgbClr val="ff0000"/>
                </a:solidFill>
                <a:latin typeface="Arial"/>
                <a:ea typeface="MS Gothic"/>
              </a:rPr>
              <a:t>декодировании</a:t>
            </a:r>
            <a:r>
              <a:rPr b="0" lang="en-GB" sz="5400" spc="-1" strike="noStrike">
                <a:solidFill>
                  <a:srgbClr val="000000"/>
                </a:solidFill>
                <a:latin typeface="Arial"/>
                <a:ea typeface="MS Gothic"/>
              </a:rPr>
              <a:t> происходит обработка информации связанная с изменением </a:t>
            </a:r>
            <a:r>
              <a:rPr b="1" lang="en-GB" sz="5400" spc="-1" strike="noStrike">
                <a:solidFill>
                  <a:srgbClr val="000000"/>
                </a:solidFill>
                <a:latin typeface="Arial"/>
                <a:ea typeface="MS Gothic"/>
              </a:rPr>
              <a:t>формы</a:t>
            </a:r>
            <a:r>
              <a:rPr b="0" lang="en-GB" sz="5400" spc="-1" strike="noStrike">
                <a:solidFill>
                  <a:srgbClr val="000000"/>
                </a:solidFill>
                <a:latin typeface="Arial"/>
                <a:ea typeface="MS Gothic"/>
              </a:rPr>
              <a:t> представления информации, а </a:t>
            </a:r>
            <a:r>
              <a:rPr b="1" lang="en-GB" sz="5400" spc="-1" strike="noStrike">
                <a:solidFill>
                  <a:srgbClr val="000000"/>
                </a:solidFill>
                <a:latin typeface="Arial"/>
                <a:ea typeface="MS Gothic"/>
              </a:rPr>
              <a:t>не содержания</a:t>
            </a:r>
            <a:r>
              <a:rPr b="0" lang="en-GB" sz="5400" spc="-1" strike="noStrike">
                <a:solidFill>
                  <a:srgbClr val="000000"/>
                </a:solidFill>
                <a:latin typeface="Arial"/>
                <a:ea typeface="MS Gothic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Слайд 1</dc:title>
</cp:coreProperties>
</file>