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5A50-1093-44E1-A658-AF2AFD4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0CBE-F116-44E7-A234-061BC415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40D8-E487-47DF-B40C-749746D8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5FBE-BEB9-4657-9E60-26CA9A9E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BCF9-1247-43FD-A294-A1BE35E0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A5F-3816-4B8C-BBCF-0802EA3A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F605-286F-40FD-BB2D-A401B3D8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3AE4-4D11-4E3B-8EDA-4C7715E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976-7099-4DF6-99B2-442F84C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2ACA-303F-4D46-BEA2-11395BCF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6488-23FE-4E5E-B818-92CDCDD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4886-ACB0-472F-9F71-D7B33BD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C3B5-215C-403C-A551-940FF3F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468-2B74-4AC8-AA39-9E7D606A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C63-983A-472F-ADE9-0D13909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52AD-39B2-4F3B-B331-F9876B93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5F9F-BC0C-4828-BB71-176A5A44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B68B-A36E-41A2-935D-3585E80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89D8-248A-41D6-AA5C-A047307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6FAA-FA6A-49AC-B037-FA7532A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E995-88F9-4301-9CB6-AA55B934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1B83-53E1-4789-9090-6AED2DB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46EA-F93B-4A70-9BE8-A295186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E708-61CC-419F-A5BC-F3BF437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3C28-3C0B-4B4E-B84C-18D4CF5B0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45B-6421-45F2-8AC7-196DE10ED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«Галактики.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Многообразие галактик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7080" cy="5256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Андром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21440" cy="511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хема внешнего вида галак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726240" cy="5384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Галактика 2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32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ральная галактика 44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532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Карликовая га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13800" cy="540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Галактика К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Галактика М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72360" cy="532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уманность Конская го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5078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ральная галактика 8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29440" cy="532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ральная галактика М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489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Млечны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5041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везд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Галактики Хигс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17080" cy="5329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екулярная галак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Бесконечная Вселенная и наш адрес в ней:</a:t>
            </a:r>
            <a:br>
              <a:rPr sz="36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Бесконечная Вселенная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«Наша» Метагалактика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«Наша» Сверхгалактика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«Местное скопление» Галактик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Млечный Путь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олнечная система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ланета Земля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Материк Евразия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трана Россия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Город  Нижний 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86440" y="4770360"/>
            <a:ext cx="2257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0420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Млечны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Галактика – это огромное скопление звезд, звездная система.</a:t>
            </a:r>
            <a:br>
              <a:rPr sz="44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Галактика (от греческого слова «галактикос» - млечный, молочный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Млечны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409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етовой год – это путь, который проходит свет за один год.</a:t>
            </a:r>
            <a:br>
              <a:rPr sz="4000"/>
            </a:b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Скорость света – 300тыс. км в сек.</a:t>
            </a:r>
            <a:br>
              <a:rPr sz="3600"/>
            </a:b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За год свет преодолевает </a:t>
            </a:r>
            <a:br>
              <a:rPr sz="3600"/>
            </a:b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10 триллионов километров.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Среднее расстояние между звездами около 5 световых лет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(т. е. примерно 50 трлн.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Млечны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409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корость Нашей Галактики –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 млн 500 тыс. км в час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корость Солнечной системы вокруг Галактики – 800 тыс. км в час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Один оборот Солнечной системы вокруг Галактики – 200 млн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72000" cy="5545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Большое и Малое Магеллановы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04:17Z</dcterms:created>
  <dc:creator>Елена</dc:creator>
  <dc:description/>
  <dc:language>en-US</dc:language>
  <cp:lastModifiedBy>Елена</cp:lastModifiedBy>
  <dcterms:modified xsi:type="dcterms:W3CDTF">2007-11-22T13:35:07Z</dcterms:modified>
  <cp:revision>32</cp:revision>
  <dc:subject/>
  <dc:title>                 Галактики</dc:title>
</cp:coreProperties>
</file>