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1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23.png" ContentType="image/png"/>
  <Override PartName="/ppt/media/image30.gif" ContentType="image/gif"/>
  <Override PartName="/ppt/media/image13.png" ContentType="image/png"/>
  <Override PartName="/ppt/media/image29.gif" ContentType="image/gif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3D4-8CAD-43CA-846B-03A2F0C2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126-EADF-419F-8473-E4C309B5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7F8-6DDD-40CF-AB94-F53A88C6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3D2-A197-4F2B-A4CF-A41A3B4C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85F-013B-40C9-8606-9FE90EBA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600-97A3-4111-B2D1-31D7F8E3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23E-DF26-44E8-AC17-4A2481A4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8D6-5D2E-4A24-963B-1727A3DC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AC0-54CE-4182-A473-7F931EA3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0F8-FF1F-4102-B4ED-FA0FF47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EC0-D0D7-4875-9E6F-FBEB3244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A50-9D9F-4751-A639-A7C7727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120-7387-4A84-A567-95163862A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34000">
            <a:off x="676440" y="980640"/>
            <a:ext cx="734364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тыре царства природ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16000" y="620640"/>
            <a:ext cx="6500880" cy="2533320"/>
          </a:xfrm>
          <a:prstGeom prst="rect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зентацию на тему «Четыре царства природы» по предмету «Окружающий мир -2 класс» выполнила учитель начальных классов средней школы № 3 Смирнова Эльвира Владимировна, высшая катег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к является ознакомительным, в системе уроков по данному предмету по теме «Мы –жители Земл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43280" y="2060640"/>
            <a:ext cx="381636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640" y="549360"/>
            <a:ext cx="763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ыре царства при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 rot="1194000">
            <a:off x="250560" y="1341360"/>
            <a:ext cx="2592360" cy="1994040"/>
          </a:xfrm>
          <a:prstGeom prst="irregularSeal2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 rot="1194000">
            <a:off x="1042560" y="3573000"/>
            <a:ext cx="3238560" cy="2224080"/>
          </a:xfrm>
          <a:prstGeom prst="irregularSeal2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 rot="11583000">
            <a:off x="5148000" y="3357360"/>
            <a:ext cx="3530520" cy="2612880"/>
          </a:xfrm>
          <a:prstGeom prst="irregularSeal2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1999400">
            <a:off x="5795640" y="1340640"/>
            <a:ext cx="2952720" cy="1994040"/>
          </a:xfrm>
          <a:prstGeom prst="irregularSeal2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9557600">
            <a:off x="2411280" y="1341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640" y="4292640"/>
            <a:ext cx="19447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12000" y="4508640"/>
            <a:ext cx="2089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ы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 rot="2568000">
            <a:off x="5148360" y="1413000"/>
            <a:ext cx="1098360" cy="441360"/>
          </a:xfrm>
          <a:prstGeom prst="rightArrow">
            <a:avLst>
              <a:gd name="adj1" fmla="val 50000"/>
              <a:gd name="adj2" fmla="val 622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81400">
            <a:off x="3131640" y="2421000"/>
            <a:ext cx="486000" cy="1081080"/>
          </a:xfrm>
          <a:prstGeom prst="downArrow">
            <a:avLst>
              <a:gd name="adj1" fmla="val 50000"/>
              <a:gd name="adj2" fmla="val 556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165400">
            <a:off x="5148000" y="2565000"/>
            <a:ext cx="485640" cy="1084320"/>
          </a:xfrm>
          <a:prstGeom prst="downArrow">
            <a:avLst>
              <a:gd name="adj1" fmla="val 50000"/>
              <a:gd name="adj2" fmla="val 5581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133720"/>
            <a:ext cx="143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иб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72360" y="2133720"/>
            <a:ext cx="20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ен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6165720"/>
            <a:ext cx="502920" cy="393840"/>
          </a:xfrm>
          <a:custGeom>
            <a:avLst/>
            <a:gdLst>
              <a:gd name="textAreaLeft" fmla="*/ 25200 w 502920"/>
              <a:gd name="textAreaRight" fmla="*/ 477720 w 50292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7577" h="21600">
                <a:moveTo>
                  <a:pt x="0" y="0"/>
                </a:moveTo>
                <a:lnTo>
                  <a:pt x="27577" y="0"/>
                </a:lnTo>
                <a:lnTo>
                  <a:pt x="27577" y="21600"/>
                </a:lnTo>
                <a:lnTo>
                  <a:pt x="0" y="21600"/>
                </a:lnTo>
                <a:close/>
              </a:path>
              <a:path fill="lightenLess" w="27577" h="21600">
                <a:moveTo>
                  <a:pt x="0" y="0"/>
                </a:moveTo>
                <a:lnTo>
                  <a:pt x="27577" y="0"/>
                </a:lnTo>
                <a:lnTo>
                  <a:pt x="26177" y="1400"/>
                </a:lnTo>
                <a:lnTo>
                  <a:pt x="1400" y="1400"/>
                </a:lnTo>
                <a:close/>
              </a:path>
              <a:path fill="darken" w="27577" h="21600">
                <a:moveTo>
                  <a:pt x="27577" y="0"/>
                </a:moveTo>
                <a:lnTo>
                  <a:pt x="27577" y="21600"/>
                </a:lnTo>
                <a:lnTo>
                  <a:pt x="26177" y="20200"/>
                </a:lnTo>
                <a:lnTo>
                  <a:pt x="26177" y="1400"/>
                </a:lnTo>
                <a:close/>
              </a:path>
              <a:path fill="darkenLess" w="27577" h="21600">
                <a:moveTo>
                  <a:pt x="2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7" y="20200"/>
                </a:lnTo>
                <a:close/>
              </a:path>
              <a:path fill="lighten" w="2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7" h="21600">
                <a:moveTo>
                  <a:pt x="6782" y="3794"/>
                </a:moveTo>
                <a:lnTo>
                  <a:pt x="20795" y="10800"/>
                </a:lnTo>
                <a:lnTo>
                  <a:pt x="6782" y="17806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9520" y="6257880"/>
            <a:ext cx="62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ереход на слайды происходит при нажатии на соответствующее ц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149560" cy="264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2617" t="6443" r="3719" b="4661"/>
          <a:stretch/>
        </p:blipFill>
        <p:spPr>
          <a:xfrm>
            <a:off x="250920" y="1125360"/>
            <a:ext cx="5113080" cy="496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356000" y="549360"/>
            <a:ext cx="395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зови грибы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5509080" y="126828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едная пог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51280" y="1484280"/>
            <a:ext cx="165744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2276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565360"/>
            <a:ext cx="647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773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р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427280" y="1989000"/>
            <a:ext cx="115236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2560" y="494172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843280" y="4723920"/>
            <a:ext cx="172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2560" y="5445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с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411280" y="5444640"/>
            <a:ext cx="19447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42920" y="620640"/>
            <a:ext cx="70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80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гри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80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4797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2708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ибно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378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708280"/>
            <a:ext cx="1368360" cy="433440"/>
          </a:xfrm>
          <a:prstGeom prst="leftArrow">
            <a:avLst>
              <a:gd name="adj1" fmla="val 50000"/>
              <a:gd name="adj2" fmla="val 7892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789360"/>
            <a:ext cx="1224000" cy="431640"/>
          </a:xfrm>
          <a:prstGeom prst="leftArrow">
            <a:avLst>
              <a:gd name="adj1" fmla="val 50000"/>
              <a:gd name="adj2" fmla="val 7089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4724280"/>
            <a:ext cx="1584360" cy="432000"/>
          </a:xfrm>
          <a:prstGeom prst="leftArrow">
            <a:avLst>
              <a:gd name="adj1" fmla="val 50000"/>
              <a:gd name="adj2" fmla="val 9168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8360" y="6093000"/>
            <a:ext cx="576360" cy="47592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6155" h="21600">
                <a:moveTo>
                  <a:pt x="0" y="0"/>
                </a:moveTo>
                <a:lnTo>
                  <a:pt x="26155" y="0"/>
                </a:lnTo>
                <a:lnTo>
                  <a:pt x="26155" y="21600"/>
                </a:lnTo>
                <a:lnTo>
                  <a:pt x="0" y="21600"/>
                </a:lnTo>
                <a:close/>
              </a:path>
              <a:path fill="lightenLess" w="26155" h="21600">
                <a:moveTo>
                  <a:pt x="0" y="0"/>
                </a:moveTo>
                <a:lnTo>
                  <a:pt x="26155" y="0"/>
                </a:lnTo>
                <a:lnTo>
                  <a:pt x="24755" y="1400"/>
                </a:lnTo>
                <a:lnTo>
                  <a:pt x="1400" y="1400"/>
                </a:lnTo>
                <a:close/>
              </a:path>
              <a:path fill="darken" w="26155" h="21600">
                <a:moveTo>
                  <a:pt x="26155" y="0"/>
                </a:moveTo>
                <a:lnTo>
                  <a:pt x="26155" y="21600"/>
                </a:lnTo>
                <a:lnTo>
                  <a:pt x="24755" y="20200"/>
                </a:lnTo>
                <a:lnTo>
                  <a:pt x="24755" y="1400"/>
                </a:lnTo>
                <a:close/>
              </a:path>
              <a:path fill="darkenLess" w="26155" h="21600">
                <a:moveTo>
                  <a:pt x="26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5" y="20200"/>
                </a:lnTo>
                <a:close/>
              </a:path>
              <a:path fill="lighten" w="26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5" h="21600">
                <a:moveTo>
                  <a:pt x="13078" y="3837"/>
                </a:moveTo>
                <a:lnTo>
                  <a:pt x="15654" y="6448"/>
                </a:lnTo>
                <a:lnTo>
                  <a:pt x="15654" y="4707"/>
                </a:lnTo>
                <a:lnTo>
                  <a:pt x="17429" y="4707"/>
                </a:lnTo>
                <a:lnTo>
                  <a:pt x="17429" y="8224"/>
                </a:lnTo>
                <a:lnTo>
                  <a:pt x="20041" y="10800"/>
                </a:lnTo>
                <a:lnTo>
                  <a:pt x="18387" y="10800"/>
                </a:lnTo>
                <a:lnTo>
                  <a:pt x="18387" y="17989"/>
                </a:lnTo>
                <a:lnTo>
                  <a:pt x="7768" y="17989"/>
                </a:lnTo>
                <a:lnTo>
                  <a:pt x="7768" y="10800"/>
                </a:lnTo>
                <a:lnTo>
                  <a:pt x="6115" y="10800"/>
                </a:lnTo>
                <a:close/>
              </a:path>
              <a:path fill="darkenLess" w="26155" h="21600">
                <a:moveTo>
                  <a:pt x="15654" y="6448"/>
                </a:moveTo>
                <a:lnTo>
                  <a:pt x="15654" y="4707"/>
                </a:lnTo>
                <a:lnTo>
                  <a:pt x="17429" y="4707"/>
                </a:lnTo>
                <a:lnTo>
                  <a:pt x="17429" y="8224"/>
                </a:lnTo>
                <a:close/>
              </a:path>
              <a:path fill="darkenLess" w="26155" h="21600">
                <a:moveTo>
                  <a:pt x="12155" y="14299"/>
                </a:moveTo>
                <a:lnTo>
                  <a:pt x="14000" y="14299"/>
                </a:lnTo>
                <a:lnTo>
                  <a:pt x="14000" y="17989"/>
                </a:lnTo>
                <a:lnTo>
                  <a:pt x="18387" y="17989"/>
                </a:lnTo>
                <a:lnTo>
                  <a:pt x="18387" y="10800"/>
                </a:lnTo>
                <a:lnTo>
                  <a:pt x="7768" y="10800"/>
                </a:lnTo>
                <a:lnTo>
                  <a:pt x="7768" y="17989"/>
                </a:lnTo>
                <a:lnTo>
                  <a:pt x="12155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55640" y="549360"/>
            <a:ext cx="74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образие рас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708360" y="1197000"/>
            <a:ext cx="13446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1746360" cy="3657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340000" y="1700280"/>
            <a:ext cx="3100320" cy="36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364000" y="1557360"/>
            <a:ext cx="3594240" cy="3657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95280" y="1628640"/>
            <a:ext cx="295920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11280" y="4869000"/>
            <a:ext cx="1271520" cy="806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1692360" y="4869000"/>
            <a:ext cx="1271520" cy="806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2916360" y="4869000"/>
            <a:ext cx="1271520" cy="806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4427640" y="2133720"/>
            <a:ext cx="359388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680" y="2133720"/>
            <a:ext cx="8962200" cy="2531880"/>
          </a:xfrm>
          <a:prstGeom prst="rect">
            <a:avLst/>
          </a:prstGeom>
          <a:solidFill>
            <a:srgbClr val="ffff9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Мне лепетал любимый ле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- Верь, нет милей родных небес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Нигде не дышится вольн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одных лугов, родных по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597480" cy="396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365200"/>
            <a:ext cx="3745080" cy="3472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10800000">
            <a:off x="8026920" y="1557360"/>
            <a:ext cx="72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3333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и рас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3333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615240" y="15764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4520" y="15573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Сте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1557360"/>
            <a:ext cx="18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5600" y="155736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36572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72360" y="6165720"/>
            <a:ext cx="432000" cy="422280"/>
          </a:xfrm>
          <a:custGeom>
            <a:avLst/>
            <a:gdLst>
              <a:gd name="textAreaLeft" fmla="*/ 27360 w 432000"/>
              <a:gd name="textAreaRight" fmla="*/ 404640 w 43200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097" h="21600">
                <a:moveTo>
                  <a:pt x="0" y="0"/>
                </a:moveTo>
                <a:lnTo>
                  <a:pt x="22097" y="0"/>
                </a:lnTo>
                <a:lnTo>
                  <a:pt x="22097" y="21600"/>
                </a:lnTo>
                <a:lnTo>
                  <a:pt x="0" y="21600"/>
                </a:lnTo>
                <a:close/>
              </a:path>
              <a:path fill="lightenLess" w="22097" h="21600">
                <a:moveTo>
                  <a:pt x="0" y="0"/>
                </a:moveTo>
                <a:lnTo>
                  <a:pt x="22097" y="0"/>
                </a:lnTo>
                <a:lnTo>
                  <a:pt x="20697" y="1400"/>
                </a:lnTo>
                <a:lnTo>
                  <a:pt x="1400" y="1400"/>
                </a:lnTo>
                <a:close/>
              </a:path>
              <a:path fill="darken" w="22097" h="21600">
                <a:moveTo>
                  <a:pt x="22097" y="0"/>
                </a:moveTo>
                <a:lnTo>
                  <a:pt x="22097" y="21600"/>
                </a:lnTo>
                <a:lnTo>
                  <a:pt x="20697" y="20200"/>
                </a:lnTo>
                <a:lnTo>
                  <a:pt x="20697" y="1400"/>
                </a:lnTo>
                <a:close/>
              </a:path>
              <a:path fill="darkenLess" w="22097" h="21600">
                <a:moveTo>
                  <a:pt x="2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7" y="20200"/>
                </a:lnTo>
                <a:close/>
              </a:path>
              <a:path fill="lighten" w="2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97" h="21600">
                <a:moveTo>
                  <a:pt x="11048" y="3837"/>
                </a:moveTo>
                <a:lnTo>
                  <a:pt x="13625" y="6448"/>
                </a:lnTo>
                <a:lnTo>
                  <a:pt x="13625" y="4707"/>
                </a:lnTo>
                <a:lnTo>
                  <a:pt x="15400" y="4707"/>
                </a:lnTo>
                <a:lnTo>
                  <a:pt x="15400" y="8224"/>
                </a:lnTo>
                <a:lnTo>
                  <a:pt x="18011" y="10800"/>
                </a:lnTo>
                <a:lnTo>
                  <a:pt x="16358" y="10800"/>
                </a:lnTo>
                <a:lnTo>
                  <a:pt x="16358" y="17989"/>
                </a:lnTo>
                <a:lnTo>
                  <a:pt x="5739" y="17989"/>
                </a:lnTo>
                <a:lnTo>
                  <a:pt x="5739" y="10800"/>
                </a:lnTo>
                <a:lnTo>
                  <a:pt x="4085" y="10800"/>
                </a:lnTo>
                <a:close/>
              </a:path>
              <a:path fill="darkenLess" w="22097" h="21600">
                <a:moveTo>
                  <a:pt x="13625" y="6448"/>
                </a:moveTo>
                <a:lnTo>
                  <a:pt x="13625" y="4707"/>
                </a:lnTo>
                <a:lnTo>
                  <a:pt x="15400" y="4707"/>
                </a:lnTo>
                <a:lnTo>
                  <a:pt x="15400" y="8224"/>
                </a:lnTo>
                <a:close/>
              </a:path>
              <a:path fill="darkenLess" w="22097" h="21600">
                <a:moveTo>
                  <a:pt x="10126" y="14299"/>
                </a:moveTo>
                <a:lnTo>
                  <a:pt x="11971" y="14299"/>
                </a:lnTo>
                <a:lnTo>
                  <a:pt x="11971" y="17989"/>
                </a:lnTo>
                <a:lnTo>
                  <a:pt x="16358" y="17989"/>
                </a:lnTo>
                <a:lnTo>
                  <a:pt x="16358" y="10800"/>
                </a:lnTo>
                <a:lnTo>
                  <a:pt x="5739" y="10800"/>
                </a:lnTo>
                <a:lnTo>
                  <a:pt x="5739" y="17989"/>
                </a:lnTo>
                <a:lnTo>
                  <a:pt x="1012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19280" y="47628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541" t="2366" r="0" b="0"/>
          <a:stretch/>
        </p:blipFill>
        <p:spPr>
          <a:xfrm>
            <a:off x="539640" y="2421000"/>
            <a:ext cx="2748240" cy="295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6442"/>
          <a:stretch/>
        </p:blipFill>
        <p:spPr>
          <a:xfrm>
            <a:off x="5724360" y="2276640"/>
            <a:ext cx="280836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9040" y="1268280"/>
            <a:ext cx="82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кроорганизмы, которые питаются, размнож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могут жить в люб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0" t="0" r="0" b="2485"/>
          <a:stretch/>
        </p:blipFill>
        <p:spPr>
          <a:xfrm>
            <a:off x="3203640" y="2781360"/>
            <a:ext cx="2448000" cy="23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17080" y="6165720"/>
            <a:ext cx="433080" cy="46836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68360"/>
              <a:gd name="textAreaBottom" fmla="*/ 440280 h 468360"/>
            </a:gdLst>
            <a:ahLst/>
            <a:rect l="textAreaLeft" t="textAreaTop" r="textAreaRight" b="textAreaBottom"/>
            <a:pathLst>
              <a:path w="21600" h="23358">
                <a:moveTo>
                  <a:pt x="0" y="0"/>
                </a:moveTo>
                <a:lnTo>
                  <a:pt x="21600" y="0"/>
                </a:lnTo>
                <a:lnTo>
                  <a:pt x="21600" y="23358"/>
                </a:lnTo>
                <a:lnTo>
                  <a:pt x="0" y="23358"/>
                </a:lnTo>
                <a:close/>
              </a:path>
              <a:path fill="lightenLess" w="21600" h="233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58">
                <a:moveTo>
                  <a:pt x="21600" y="0"/>
                </a:moveTo>
                <a:lnTo>
                  <a:pt x="21600" y="23358"/>
                </a:lnTo>
                <a:lnTo>
                  <a:pt x="20200" y="21958"/>
                </a:lnTo>
                <a:lnTo>
                  <a:pt x="20200" y="1400"/>
                </a:lnTo>
                <a:close/>
              </a:path>
              <a:path fill="darkenLess" w="21600" h="23358">
                <a:moveTo>
                  <a:pt x="21600" y="23358"/>
                </a:moveTo>
                <a:lnTo>
                  <a:pt x="0" y="23358"/>
                </a:lnTo>
                <a:lnTo>
                  <a:pt x="1400" y="21958"/>
                </a:lnTo>
                <a:lnTo>
                  <a:pt x="20200" y="21958"/>
                </a:lnTo>
                <a:close/>
              </a:path>
              <a:path fill="lighten" w="21600" h="23358">
                <a:moveTo>
                  <a:pt x="0" y="233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58"/>
                </a:lnTo>
                <a:close/>
              </a:path>
              <a:path fill="darken" w="21600" h="23358">
                <a:moveTo>
                  <a:pt x="10800" y="4716"/>
                </a:moveTo>
                <a:lnTo>
                  <a:pt x="13376" y="7327"/>
                </a:lnTo>
                <a:lnTo>
                  <a:pt x="13376" y="5586"/>
                </a:lnTo>
                <a:lnTo>
                  <a:pt x="15152" y="5586"/>
                </a:lnTo>
                <a:lnTo>
                  <a:pt x="15152" y="9103"/>
                </a:lnTo>
                <a:lnTo>
                  <a:pt x="17763" y="11679"/>
                </a:lnTo>
                <a:lnTo>
                  <a:pt x="16109" y="11679"/>
                </a:lnTo>
                <a:lnTo>
                  <a:pt x="16109" y="18868"/>
                </a:lnTo>
                <a:lnTo>
                  <a:pt x="5491" y="18868"/>
                </a:lnTo>
                <a:lnTo>
                  <a:pt x="5491" y="11679"/>
                </a:lnTo>
                <a:lnTo>
                  <a:pt x="3837" y="11679"/>
                </a:lnTo>
                <a:close/>
              </a:path>
              <a:path fill="darkenLess" w="21600" h="23358">
                <a:moveTo>
                  <a:pt x="13376" y="7327"/>
                </a:moveTo>
                <a:lnTo>
                  <a:pt x="13376" y="5586"/>
                </a:lnTo>
                <a:lnTo>
                  <a:pt x="15152" y="5586"/>
                </a:lnTo>
                <a:lnTo>
                  <a:pt x="15152" y="9103"/>
                </a:lnTo>
                <a:close/>
              </a:path>
              <a:path fill="darkenLess" w="21600" h="23358">
                <a:moveTo>
                  <a:pt x="9877" y="15178"/>
                </a:moveTo>
                <a:lnTo>
                  <a:pt x="11723" y="15178"/>
                </a:lnTo>
                <a:lnTo>
                  <a:pt x="11723" y="18868"/>
                </a:lnTo>
                <a:lnTo>
                  <a:pt x="16109" y="18868"/>
                </a:lnTo>
                <a:lnTo>
                  <a:pt x="16109" y="11679"/>
                </a:lnTo>
                <a:lnTo>
                  <a:pt x="5491" y="11679"/>
                </a:lnTo>
                <a:lnTo>
                  <a:pt x="5491" y="18868"/>
                </a:lnTo>
                <a:lnTo>
                  <a:pt x="9877" y="1886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00000" y="404640"/>
            <a:ext cx="741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0066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образие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0066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2881080" cy="2783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334620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24360" y="3645000"/>
            <a:ext cx="3529080" cy="2220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54560" y="148428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Как передвигаю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191628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58f8"/>
                </a:solidFill>
                <a:latin typeface="Arial"/>
              </a:rPr>
              <a:t>Как питаю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5120" y="2708280"/>
            <a:ext cx="267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Как строят жилищ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и воспит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отом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6165720"/>
            <a:ext cx="431640" cy="4032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3122" h="21600">
                <a:moveTo>
                  <a:pt x="0" y="0"/>
                </a:moveTo>
                <a:lnTo>
                  <a:pt x="23122" y="0"/>
                </a:lnTo>
                <a:lnTo>
                  <a:pt x="23122" y="21600"/>
                </a:lnTo>
                <a:lnTo>
                  <a:pt x="0" y="21600"/>
                </a:lnTo>
                <a:close/>
              </a:path>
              <a:path fill="lightenLess" w="23122" h="21600">
                <a:moveTo>
                  <a:pt x="0" y="0"/>
                </a:moveTo>
                <a:lnTo>
                  <a:pt x="23122" y="0"/>
                </a:lnTo>
                <a:lnTo>
                  <a:pt x="21722" y="1400"/>
                </a:lnTo>
                <a:lnTo>
                  <a:pt x="1400" y="1400"/>
                </a:lnTo>
                <a:close/>
              </a:path>
              <a:path fill="darken" w="23122" h="21600">
                <a:moveTo>
                  <a:pt x="23122" y="0"/>
                </a:moveTo>
                <a:lnTo>
                  <a:pt x="23122" y="21600"/>
                </a:lnTo>
                <a:lnTo>
                  <a:pt x="21722" y="20200"/>
                </a:lnTo>
                <a:lnTo>
                  <a:pt x="21722" y="1400"/>
                </a:lnTo>
                <a:close/>
              </a:path>
              <a:path fill="darkenLess" w="23122" h="21600">
                <a:moveTo>
                  <a:pt x="23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2" y="20200"/>
                </a:lnTo>
                <a:close/>
              </a:path>
              <a:path fill="lighten" w="23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22" h="21600">
                <a:moveTo>
                  <a:pt x="11561" y="3837"/>
                </a:moveTo>
                <a:lnTo>
                  <a:pt x="14137" y="6448"/>
                </a:lnTo>
                <a:lnTo>
                  <a:pt x="14137" y="4707"/>
                </a:lnTo>
                <a:lnTo>
                  <a:pt x="15913" y="4707"/>
                </a:lnTo>
                <a:lnTo>
                  <a:pt x="15913" y="8224"/>
                </a:lnTo>
                <a:lnTo>
                  <a:pt x="18524" y="10800"/>
                </a:lnTo>
                <a:lnTo>
                  <a:pt x="16870" y="10800"/>
                </a:lnTo>
                <a:lnTo>
                  <a:pt x="16870" y="17989"/>
                </a:lnTo>
                <a:lnTo>
                  <a:pt x="6252" y="17989"/>
                </a:lnTo>
                <a:lnTo>
                  <a:pt x="6252" y="10800"/>
                </a:lnTo>
                <a:lnTo>
                  <a:pt x="4598" y="10800"/>
                </a:lnTo>
                <a:close/>
              </a:path>
              <a:path fill="darkenLess" w="23122" h="21600">
                <a:moveTo>
                  <a:pt x="14137" y="6448"/>
                </a:moveTo>
                <a:lnTo>
                  <a:pt x="14137" y="4707"/>
                </a:lnTo>
                <a:lnTo>
                  <a:pt x="15913" y="4707"/>
                </a:lnTo>
                <a:lnTo>
                  <a:pt x="15913" y="8224"/>
                </a:lnTo>
                <a:close/>
              </a:path>
              <a:path fill="darkenLess" w="23122" h="21600">
                <a:moveTo>
                  <a:pt x="10639" y="14299"/>
                </a:moveTo>
                <a:lnTo>
                  <a:pt x="12484" y="14299"/>
                </a:lnTo>
                <a:lnTo>
                  <a:pt x="12484" y="17989"/>
                </a:lnTo>
                <a:lnTo>
                  <a:pt x="16870" y="17989"/>
                </a:lnTo>
                <a:lnTo>
                  <a:pt x="16870" y="10800"/>
                </a:lnTo>
                <a:lnTo>
                  <a:pt x="6252" y="10800"/>
                </a:lnTo>
                <a:lnTo>
                  <a:pt x="6252" y="17989"/>
                </a:lnTo>
                <a:lnTo>
                  <a:pt x="10639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446800" cy="4354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187280" y="476280"/>
            <a:ext cx="669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гадай кроссворд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2486520" y="229860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78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4520" y="227664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7440" y="227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9080" y="2276640"/>
            <a:ext cx="4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5800" y="227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1088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440" y="278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416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4160" y="3789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452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5240" y="479736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4520" y="5300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0160" y="32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7240" y="328464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9440" y="32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6160" y="3284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5800" y="278136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5440" y="32846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5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6520" y="4797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9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580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7440" y="5300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2520" y="530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5440" y="530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7800" y="530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4880" y="530064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55680" y="1557360"/>
            <a:ext cx="1457280" cy="187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885000" y="4149720"/>
            <a:ext cx="1484280" cy="167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1:02:30Z</dcterms:created>
  <dc:creator>Comp1</dc:creator>
  <dc:description/>
  <dc:language>en-US</dc:language>
  <cp:lastModifiedBy>User</cp:lastModifiedBy>
  <dcterms:modified xsi:type="dcterms:W3CDTF">2007-01-24T17:43:10Z</dcterms:modified>
  <cp:revision>8</cp:revision>
  <dc:subject/>
  <dc:title>Слайд 1</dc:title>
</cp:coreProperties>
</file>