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10.png" ContentType="image/png"/>
  <Override PartName="/ppt/media/image6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chimes.wav" ContentType="audio/x-wav"/>
  <Override PartName="/ppt/media/image16.jpeg" ContentType="image/jpeg"/>
  <Override PartName="/ppt/media/image19.jpeg" ContentType="image/jpeg"/>
  <Override PartName="/ppt/media/image21.wmf" ContentType="image/x-wmf"/>
  <Override PartName="/ppt/media/image18.jpeg" ContentType="image/jpeg"/>
  <Override PartName="/ppt/media/image15.jpeg" ContentType="image/jpeg"/>
  <Override PartName="/ppt/media/image14.wmf" ContentType="image/x-wmf"/>
  <Override PartName="/ppt/media/image13.jpeg" ContentType="image/jpeg"/>
  <Override PartName="/ppt/media/image5.jpeg" ContentType="image/jpeg"/>
  <Override PartName="/ppt/media/image20.wmf" ContentType="image/x-wmf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86EA6-92E9-4613-8E9C-DF5DB1D71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2A972-5979-4077-8876-955A507F1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8D45C-A5AE-404A-AA12-D983A0B08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982F4-CEDF-4963-9F3A-81ADB951F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C4F76-6DB8-4CC5-87BE-26E314C8E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B8CA6-938A-4A2C-8301-704135FBA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A750D-B960-4671-8AAE-D08F8A26E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2FF2E-CD98-4AED-877D-BEFDA5F3E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D4473-7281-43AC-BB6D-77B2DAF0F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5B272-3F96-4728-96F6-FE7E550DC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740BF-AA14-4A96-9AF7-84D5B6B9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D0F25-1047-4221-A796-CA2AF388E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8B907-2946-4172-97A3-8ABFBF3F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4D5AA-B93A-4A0B-80D6-1600ACA2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E6CBC-79BC-4B8B-851F-2975A0AFC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C39C5-B91A-41C3-80A1-CE3720247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32B24-6A8F-4F65-B912-F55E81A86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63833-A1A0-4955-82FE-0392FF601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ECEE8-FAF4-490A-B053-D23EB89B8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31ADD-60EC-41A9-9DFF-0B3AFD08A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6B807-8E70-4328-9E94-5D01F2CC2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1698D-2238-408D-99E9-DCBB5F7F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FC0B1-C56B-40B5-833A-B9433229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F8540-648A-4C79-97A5-865AC520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02BDA-311B-475A-B0CD-926A9A7B91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DB2E7-FD1A-41C3-9F89-F1390D3167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2138400"/>
            <a:ext cx="601992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«Ориентирование на местности. Азимут»</a:t>
            </a:r>
            <a:br>
              <a:rPr sz="4600"/>
            </a:b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23640" y="4437000"/>
            <a:ext cx="583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6 класс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География. Начальный курс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020000" y="4653000"/>
            <a:ext cx="1846080" cy="171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cc"/>
                </a:solidFill>
                <a:latin typeface="Arial"/>
              </a:rPr>
              <a:t>Работа по определению азиму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38480" cy="41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ределить азим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в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соковольт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олб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ро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ре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859280" y="2060640"/>
            <a:ext cx="3946680" cy="424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становка компа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значит сориентировать, т.е. установить комп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чтите памятку «Прави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боты с компасо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установ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мп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651640" y="3687840"/>
            <a:ext cx="316836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1600"/>
          </a:xfrm>
          <a:prstGeom prst="rect">
            <a:avLst/>
          </a:prstGeom>
          <a:solidFill>
            <a:srgbClr val="cccce6"/>
          </a:solidFill>
          <a:ln w="9360">
            <a:solidFill>
              <a:srgbClr val="00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ПРАВИЛА РАБОТЫ </a:t>
            </a:r>
            <a:br>
              <a:rPr sz="4000"/>
            </a:b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             С    К О М П А С О 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71280" y="1628640"/>
            <a:ext cx="77151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ожите компас на горизонтальную поверхность (или ладонь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релка компаса должна быть неподвижной. После этого поверните коробку компаса так, чтобы буква «С» на шкале компаса совпала с тёмным концом магнитной стрел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 сориентировали компас и подготовили его к рабо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4724280"/>
            <a:ext cx="6299280" cy="19144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8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218440" cy="167652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ПАМЯТКА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оследовательность определения                         </a:t>
            </a:r>
            <a:br>
              <a:rPr sz="32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азимута» 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561760"/>
            <a:ext cx="4906800" cy="38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ерни компас так, чтобы буква С совпала с концом магнитной стрелки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стекло компаса положи гранёный карандаш по  направлению от центра к предме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 шкале компаса отсчитай величину дуги от   0º до линии направления на предм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зьми гранёный карандаш или линейку и определи азимут на предметы в класс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 окно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 белку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 двер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724360" y="2708280"/>
            <a:ext cx="26323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Работа в группах по заданному маршруту в поисках запис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48320" y="1980720"/>
            <a:ext cx="4038480" cy="382428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бъединись в группу согласно цвета карточки на твоей пар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вигайся по азимуту согласно  заданиям на карточ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62040" y="1989000"/>
            <a:ext cx="3262320" cy="388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тог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1916280"/>
            <a:ext cx="3816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верка выполне-ния заданий игры по поиску записок каждой групп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/з § 61. Вопросы и задания /письменно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нового узнали на уроке и чему научи-лис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137200" y="1989000"/>
            <a:ext cx="2720880" cy="4464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97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ГОВОРИ И ПИШИ ПРАВИЛЬН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сшта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риди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ралл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ст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стоя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635280" y="1980720"/>
            <a:ext cx="505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льном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особ аре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риент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лойная окра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еографическая долг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4038480" cy="144000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ставить рассказ по заданным условным знака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148360" y="1341360"/>
            <a:ext cx="1511280" cy="10857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877080" y="1341360"/>
            <a:ext cx="1422360" cy="1168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4356000" y="2708280"/>
            <a:ext cx="1422360" cy="11685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6012000" y="2708280"/>
            <a:ext cx="1422360" cy="1066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1692360" y="4149720"/>
            <a:ext cx="1422360" cy="10540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3419640" y="4149720"/>
            <a:ext cx="1422360" cy="10540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5148360" y="4149720"/>
            <a:ext cx="1422360" cy="10666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8"/>
          <a:stretch/>
        </p:blipFill>
        <p:spPr>
          <a:xfrm>
            <a:off x="7020000" y="4149720"/>
            <a:ext cx="1422360" cy="1054080"/>
          </a:xfrm>
          <a:prstGeom prst="rect">
            <a:avLst/>
          </a:prstGeom>
          <a:ln w="0">
            <a:noFill/>
          </a:ln>
        </p:spPr>
      </p:pic>
    </p:spTree>
  </p:cSld>
  <p:transition>
    <p:wheel/>
    <p:sndAc>
      <p:stSnd>
        <p:snd r:embed="rId9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4452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Прочитать рассказ с условными знакам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7343640" cy="4608360"/>
          </a:xfrm>
          <a:prstGeom prst="rect">
            <a:avLst/>
          </a:prstGeom>
          <a:ln w="0">
            <a:noFill/>
          </a:ln>
        </p:spPr>
      </p:pic>
    </p:spTree>
  </p:cSld>
  <p:transition>
    <p:strips dir="ru"/>
    <p:sndAc>
      <p:stSnd>
        <p:snd r:embed="rId2" name="chimes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Задача сегодняшнего урок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425628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учиться определять стороны горизонта и направления на плане и кар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ТЕМА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«Ориентирование на местности. Азимут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659640" y="2637000"/>
            <a:ext cx="1776240" cy="163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«Ориентирование на местности» (стороны горизонт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403280" y="2195640"/>
            <a:ext cx="6697800" cy="35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Ориентирование по местным признак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229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ЧТО Я ДОЛЖЕН УМЕТЬ ПРИ </a:t>
            </a:r>
            <a:br>
              <a:rPr sz="3200"/>
            </a:b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РАБОТЕ С ГЕОГРАФИЧЕСКОЙ</a:t>
            </a:r>
            <a:br>
              <a:rPr sz="3200"/>
            </a:b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КАР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915920"/>
            <a:ext cx="79311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памятка ученик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Определять направления по сторонам  горизонта из любой точки на кар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Определять взаиморасположение точек  и объектов на карте (севернее, южнее,  западнее,  восточне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Определять географические координаты  объ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Определять объект по заданным координат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Определять абсолютную высоту (и глубину)  способом отмет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 Определять абсолютную высоту (и глубину)  гипсометрическим способ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732720" y="620640"/>
            <a:ext cx="20826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915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АЗИМУ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3848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мотрите, что можете сказа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кажите стороны горизонта на данной схеме. Укажите размер уг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 мы можем узнать точное направление сторон горизонт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кажите величину угла на запа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ы с вами определили АЗИМУ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ак что такое АЗИМУ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72000" y="2095560"/>
            <a:ext cx="410364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9:23:48Z</dcterms:created>
  <dc:creator>alex</dc:creator>
  <dc:description/>
  <dc:language>en-US</dc:language>
  <cp:lastModifiedBy>Татьяна</cp:lastModifiedBy>
  <dcterms:modified xsi:type="dcterms:W3CDTF">2007-02-21T18:29:23Z</dcterms:modified>
  <cp:revision>4</cp:revision>
  <dc:subject/>
  <dc:title>«Ориентирование на местности. Азимут» </dc:title>
</cp:coreProperties>
</file>