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5.jpeg" ContentType="image/jpeg"/>
  <Override PartName="/ppt/media/image14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52DC-D614-4005-ADE1-CC2C3B8A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4151-7A09-4A67-8F0E-3A6C70F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EFC3-9F48-4AA3-A511-2005743F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9215-A6F1-47D3-90B8-9540F69B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7650-A655-4D8A-874A-3146E5A1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6BA9-F807-41B6-BBDD-8BC9DBC4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B881-7959-4C5D-8F5F-77F8E84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D4BB-5DD9-4E14-A189-10D77C0D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F5BF-72BD-4DDD-9826-1357E121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408B-D95A-4A17-BCB5-1780366C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EC1F-276B-47A7-ABCC-1349895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9B0A-F749-4CAC-9942-67E0164D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9169-418C-49EE-AA89-DB6DC6B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9BBB-DF12-4322-88BB-1CA3BFE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955F-0F8A-4226-B763-3CB6F613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39AC-EA30-49AF-8F6E-B6ACC16D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0E2-BE88-409C-96A0-8EB02430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F023-CF02-4996-B3C1-0DECD0FE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6F32-1131-4B93-9CA3-D34E6B9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5AAA-CD24-4EFC-AAA4-6A7DB5DF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938E-5674-43A3-8C43-6049AC2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3601-3F50-423B-A32A-114D920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7775-5FE5-471B-ABDC-7A2EF75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0E5E-AB8C-45A2-BA49-5D8F779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158E-B999-4245-95E6-2544ADB4D9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3F22-EBD1-4F22-8285-22477FB53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138400"/>
            <a:ext cx="6019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«Ориентирование на местности. Азимут»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3640" y="443700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География. Начальный ку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84608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Работа по определению азиму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азим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коволь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94668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ановка комп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начит сориентировать, т.е. установить комп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тите памятку «Пра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ы с компас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установ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51640" y="3687840"/>
            <a:ext cx="3168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1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АВИЛА РАБОТЫ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     С    К О М П А С О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те компас на горизонтальную поверхность (или ладон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лка компаса должна быть неподвижной. После этого поверните коробку компаса так, чтобы буква «С» на шкале компаса совпала с тёмным концом магнитной стр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 сориентировали компас и подготовили его к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6299280" cy="191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6765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ПАМЯТК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ределения                        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азимута»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61760"/>
            <a:ext cx="4906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ни компас так, чтобы буква С совпала с концом магнитной стрелки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текло компаса положи гранёный карандаш по  направлению от центра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шкале компаса отсчитай величину дуги от   0º до линии направления на предм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ьми гранёный карандаш или линейку и определи азимут на предметы в класс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ок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бел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632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Работа в группах по заданному маршруту в поисках запис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980720"/>
            <a:ext cx="4038480" cy="38242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ъединись в группу согласно цвета карточки на твоей па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игайся по азимуту согласно  заданиям на карточ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2040" y="1989000"/>
            <a:ext cx="32623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916280"/>
            <a:ext cx="381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выполне-ния заданий игры по поиску записок каждой груп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/з § 61. Вопросы и задания /письменно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нового узнали на уроке и чему научи-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37200" y="1989000"/>
            <a:ext cx="2720880" cy="44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ГОВОРИ И ПИШИ ПРАВИ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иди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35280" y="1980720"/>
            <a:ext cx="505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льно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 аре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ойная о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графическая долг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4038480" cy="1440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ть рассказ по заданным условным зна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1511280" cy="10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77080" y="1341360"/>
            <a:ext cx="1422360" cy="116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356000" y="2708280"/>
            <a:ext cx="1422360" cy="116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012000" y="270828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692360" y="4149720"/>
            <a:ext cx="1422360" cy="105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419640" y="4149720"/>
            <a:ext cx="1422360" cy="105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148360" y="4149720"/>
            <a:ext cx="142236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020000" y="4149720"/>
            <a:ext cx="1422360" cy="105408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9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45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Прочитать рассказ с условными знак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ча сегодняшнего уро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2562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стороны горизонта и направления на плане и к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«Ориентирование на местности. Азимут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1776240" cy="16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«Ориентирование на местности» (стороны горизо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2195640"/>
            <a:ext cx="6697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иентирование по местным призна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 Я ДОЛЖЕН УМЕТЬ ПРИ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АБОТЕ С ГЕОГРАФИЧЕСКОЙ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КАР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931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амятка учени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Определять направления по сторонам  горизонта из любой точки на ка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Определять взаиморасположение точек  и объектов на карте (севернее, южнее,  западнее,  восточне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Определять географические координаты 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Определять объект по заданным координа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Определять абсолютную высоту (и глубину)  способом отм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Определять абсолютную высоту (и глубину)  гипсометрическим спосо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2082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АЗИМУ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мотрите, что можете сказ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ите стороны горизонта на данной схеме. Укажите размер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мы можем узнать точное направление сторон горизон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ажите величину угла на зап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с вами определили АЗИМ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что такое АЗИМ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2095560"/>
            <a:ext cx="41036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9:23:48Z</dcterms:created>
  <dc:creator>alex</dc:creator>
  <dc:description/>
  <dc:language>en-US</dc:language>
  <cp:lastModifiedBy>Татьяна</cp:lastModifiedBy>
  <dcterms:modified xsi:type="dcterms:W3CDTF">2007-02-21T18:29:23Z</dcterms:modified>
  <cp:revision>4</cp:revision>
  <dc:subject/>
  <dc:title>«Ориентирование на местности. Азимут» </dc:title>
</cp:coreProperties>
</file>