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DD8-E06C-4D59-8D4E-AA5608AE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D02-61E7-4531-ADEE-D7D570F7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9B6-4B99-494A-874F-DF11E852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DEF-A8A1-46E2-870C-793EF350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DED-F330-4336-8D53-9B40E359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353-982B-4D00-BACA-2A7463A5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EFC-4079-4D7B-B34E-F42A72D7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93D-9BBE-4F54-95DB-B2BCC910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0C9-7A43-41F3-8952-DB65D042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59E-F2FC-482C-B183-7169E7CA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179-B096-4BFC-98DA-668D365E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9B3-ED43-423B-97C1-1C6577E6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9D48-1E90-41BD-BD25-7E7F469DF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874520" y="1268280"/>
            <a:ext cx="6729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          </a:t>
            </a: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Прямые были страсти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       </a:t>
            </a: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Порядка ж ни на грош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       </a:t>
            </a: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Известно, что без в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       </a:t>
            </a: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Далеко не уйдеш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Толстой А. 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80360" cy="6884640"/>
            <a:chOff x="0" y="0"/>
            <a:chExt cx="9180360" cy="688464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3636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0" y="0"/>
              <a:ext cx="1655640" cy="6884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4" name=""/>
          <p:cNvGraphicFramePr/>
          <p:nvPr/>
        </p:nvGraphicFramePr>
        <p:xfrm>
          <a:off x="1835280" y="1197000"/>
          <a:ext cx="7129440" cy="4824000"/>
        </p:xfrm>
        <a:graphic>
          <a:graphicData uri="http://schemas.openxmlformats.org/drawingml/2006/table">
            <a:tbl>
              <a:tblPr/>
              <a:tblGrid>
                <a:gridCol w="2376360"/>
                <a:gridCol w="2376360"/>
                <a:gridCol w="2376720"/>
              </a:tblGrid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Что такое «смута». Причины См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67120" y="763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ы См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11280" y="687240"/>
            <a:ext cx="1368360" cy="1086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08000" y="501336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611820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1844640"/>
            <a:ext cx="21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Хозяйственное разорение страны в результате Ливонской войны и опричн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Голод 1601-1603 гг. (только в Москве от голода погибло 127 тыс. че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1844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инастический кризис в связи с пресечением династии Рюриковичей и избранием Земским собором 1598 г. царем Бориса Годун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1844640"/>
            <a:ext cx="223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худшение положения крестьян: увеличение повинностей, отмена «заповедных лет» и введение «урочных л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9180360" cy="6884640"/>
            <a:chOff x="0" y="0"/>
            <a:chExt cx="9180360" cy="68846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3636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0" y="0"/>
              <a:ext cx="1655640" cy="688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1692360" y="1141560"/>
            <a:ext cx="3902040" cy="4810680"/>
            <a:chOff x="1692360" y="1141560"/>
            <a:chExt cx="3902040" cy="481068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1692360" y="1141560"/>
              <a:ext cx="3902040" cy="3902040"/>
            </a:xfrm>
            <a:prstGeom prst="rect">
              <a:avLst/>
            </a:prstGeom>
            <a:ln w="57240">
              <a:solidFill>
                <a:srgbClr val="660033"/>
              </a:solidFill>
              <a:miter/>
            </a:ln>
          </p:spPr>
        </p:pic>
        <p:sp>
          <p:nvSpPr>
            <p:cNvPr id="119" name=""/>
            <p:cNvSpPr/>
            <p:nvPr/>
          </p:nvSpPr>
          <p:spPr>
            <a:xfrm>
              <a:off x="2070360" y="5248440"/>
              <a:ext cx="2992680" cy="703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8080"/>
                  </a:solidFill>
                  <a:latin typeface="Comic Sans MS"/>
                </a:rPr>
                <a:t>Лжедмитрий </a:t>
              </a: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I</a:t>
              </a:r>
              <a:r>
                <a:rPr b="1" lang="ru-RU" sz="2000" spc="-1" strike="noStrike">
                  <a:solidFill>
                    <a:srgbClr val="808080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8080"/>
                  </a:solidFill>
                  <a:latin typeface="Comic Sans MS"/>
                </a:rPr>
                <a:t>Миниатюра н.</a:t>
              </a: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 XVII</a:t>
              </a:r>
              <a:r>
                <a:rPr b="1" lang="ru-RU" sz="2000" spc="-1" strike="noStrike">
                  <a:solidFill>
                    <a:srgbClr val="808080"/>
                  </a:solidFill>
                  <a:latin typeface="Comic Sans MS"/>
                </a:rPr>
                <a:t> 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763640" y="44280"/>
            <a:ext cx="7129440" cy="5032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0000"/>
                </a:solidFill>
                <a:latin typeface="Comic Sans MS"/>
              </a:rPr>
              <a:t>3. Появление самозва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276228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жедмитр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игорий Отрепьев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-36360" y="0"/>
            <a:ext cx="9180360" cy="6858000"/>
            <a:chOff x="-36360" y="0"/>
            <a:chExt cx="9180360" cy="68580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-3636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2700360" y="765000"/>
            <a:ext cx="5111280" cy="5757840"/>
            <a:chOff x="2700360" y="765000"/>
            <a:chExt cx="5111280" cy="575784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2700360" y="765000"/>
              <a:ext cx="5111280" cy="4813200"/>
            </a:xfrm>
            <a:prstGeom prst="rect">
              <a:avLst/>
            </a:prstGeom>
            <a:ln w="76320">
              <a:solidFill>
                <a:srgbClr val="660033"/>
              </a:solidFill>
              <a:miter/>
            </a:ln>
          </p:spPr>
        </p:pic>
        <p:sp>
          <p:nvSpPr>
            <p:cNvPr id="129" name=""/>
            <p:cNvSpPr/>
            <p:nvPr/>
          </p:nvSpPr>
          <p:spPr>
            <a:xfrm>
              <a:off x="3808080" y="5819040"/>
              <a:ext cx="2992680" cy="703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8080"/>
                  </a:solidFill>
                  <a:latin typeface="Comic Sans MS"/>
                </a:rPr>
                <a:t>Марина Мнишек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8080"/>
                  </a:solidFill>
                  <a:latin typeface="Comic Sans MS"/>
                </a:rPr>
                <a:t>Миниатюра н. </a:t>
              </a: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XVII</a:t>
              </a:r>
              <a:r>
                <a:rPr b="1" lang="ru-RU" sz="2000" spc="-1" strike="noStrike">
                  <a:solidFill>
                    <a:srgbClr val="808080"/>
                  </a:solidFill>
                  <a:latin typeface="Comic Sans MS"/>
                </a:rPr>
                <a:t> 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763640" y="44280"/>
            <a:ext cx="7129440" cy="503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0000"/>
                </a:solidFill>
                <a:latin typeface="Comic Sans MS"/>
              </a:rPr>
              <a:t>3. Появление самозва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-36360" y="0"/>
            <a:ext cx="9180360" cy="6858000"/>
            <a:chOff x="-36360" y="0"/>
            <a:chExt cx="9180360" cy="68580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-3636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1692360" y="981000"/>
            <a:ext cx="7272360" cy="5270400"/>
            <a:chOff x="1692360" y="981000"/>
            <a:chExt cx="7272360" cy="5270400"/>
          </a:xfrm>
        </p:grpSpPr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1692360" y="981000"/>
              <a:ext cx="3635280" cy="52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364000" y="4163760"/>
              <a:ext cx="3600720" cy="131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Сигизмунд III Ваза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Портрет рабо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П. Рубен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После 1624 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763640" y="44280"/>
            <a:ext cx="7129440" cy="503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0000"/>
                </a:solidFill>
                <a:latin typeface="Comic Sans MS"/>
              </a:rPr>
              <a:t>3. Появление самозва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0"/>
            <a:ext cx="9180360" cy="6884640"/>
            <a:chOff x="0" y="0"/>
            <a:chExt cx="9180360" cy="6884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3636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0" y="0"/>
              <a:ext cx="1655640" cy="688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2340000" y="1827360"/>
            <a:ext cx="583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Привел меня Бог видеть злое дело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ровавый грех. Тогда я в дальний Углич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некое был послан послушанье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шел я в ночь. Наутро в час обедни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друг слышу звон, ударили в набат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рик, шум. Бегут на двор царицы. Я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пешу туда же — а там уже весь город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ляжу: лежит зарезанный царевич…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547640" y="43920"/>
            <a:ext cx="7561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О каких событиях написаны следующие стро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1555920"/>
            <a:ext cx="577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Мне счастья нет. Я думал свой народ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довольствии, во славе успокоить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Щедротами любовь его снискать —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о отложил пустое попеченье: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ни любить умеют только мертвых…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г насылал на нашу землю глад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род завыл, в мученьях погибая;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 отворил им житницы, я злато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ссыпал им, я им сыскал работы —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ни ж меня, беснуясь, проклинали!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40000" y="2491200"/>
            <a:ext cx="54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еди людей блуждали смерть и злоб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зрев комету, дрогнула зем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в эти дни Димитрий встал из гроб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Отрепьева свой дух перес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80360" cy="6884640"/>
            <a:chOff x="0" y="0"/>
            <a:chExt cx="9180360" cy="68846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3636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0" y="0"/>
              <a:ext cx="1655640" cy="688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>
            <a:off x="1763640" y="58680"/>
            <a:ext cx="6624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Соотнесите даты и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112392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стихийных бедствий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рание Бориса Годунова на ц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ь Бориса Году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похода Лжедмитр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1125360"/>
            <a:ext cx="115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98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5 г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5249 E">
                                      <p:cBhvr>
                                        <p:cTn id="297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9 E">
                                      <p:cBhvr>
                                        <p:cTn id="29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5226 E">
                                      <p:cBhvr>
                                        <p:cTn id="301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303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80360" cy="6884640"/>
            <a:chOff x="0" y="0"/>
            <a:chExt cx="9180360" cy="688464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3636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0" y="0"/>
              <a:ext cx="1655640" cy="688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115920"/>
            <a:ext cx="6264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00"/>
                </a:solidFill>
                <a:latin typeface="Comic Sans MS"/>
              </a:rPr>
              <a:t>Прочтите отрывок из исторического источника и ответьте на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855720"/>
            <a:ext cx="8496360" cy="5854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з сочинения историка В.О. Ключе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«...Почвой для нее послужило тягостное настроение народа, вынесенное народом из царствования Грозного и усиленное правлением Бориса Годунова. Повод к Смуте дан был пресечением династии и следовавшими затем попытками ее восстановления в лице самозванства. Коренными причинами Смуты надобно признать народный взгляд на отношение старой династии к Московскому государству, мешавшей освоиться с мыслью о выборном царе, и потом самый строй государства с его тяжелым тягловым основанием... Смуте содействовали и другие обстоятельства: действия правителей, становившихся во главе государства после царя Федора, боярские опалы, голод, мор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0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 какому веку российской истории относятся события, описываемые в отрывк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0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Что имел в виду историк, говоря о пресечении династии и выборном ца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На   основе  текста   документа   и  знаний   по   курсу   истории   назовите основные причины См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918000"/>
            <a:ext cx="8496360" cy="545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ченые так и не нашли царский указ, в котором бы прямо запрещалось ЭТО. Зато они нашли документ, составленный при царе Василии Шуйском в 1607 г.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«При царе Иоанне Васильевиче крестьяне выход имели вольный, а царь Федор Иванович по наговору Бориса Годунова, не слушая совета старейших бояр, выход крестьянам заказал, и у кого сколько тогда крестьян где было, книги учинил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Какой указ искали ученые? Что такое ЭТ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При каком монархе было введено это огранич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Как еще можно назвать «совет старейших бояр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Как этот документ позволяет охарактеризовать влияние Бори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одунова на царя по сравнению со «старейшими боярами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Что еще было произведено наряду с введением ЭТОГО, судя п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6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окумент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44280"/>
            <a:ext cx="69231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3300"/>
                </a:solidFill>
                <a:latin typeface="Comic Sans MS"/>
              </a:rPr>
              <a:t>Проверка изученно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1522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31240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680" y="1936800"/>
            <a:ext cx="331704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9900"/>
                </a:solidFill>
                <a:latin typeface="Arial"/>
              </a:rPr>
              <a:t>Начало См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51640" y="26668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1936800"/>
            <a:ext cx="364320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9900"/>
                </a:solidFill>
                <a:latin typeface="Arial"/>
              </a:rPr>
              <a:t>4 ноября 1612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397000">
            <a:off x="3060720" y="966600"/>
            <a:ext cx="1454040" cy="5905440"/>
          </a:xfrm>
          <a:custGeom>
            <a:avLst/>
            <a:gdLst>
              <a:gd name="textAreaLeft" fmla="*/ 0 w 1454040"/>
              <a:gd name="textAreaRight" fmla="*/ 1019880 w 1454040"/>
              <a:gd name="textAreaTop" fmla="*/ 705600 h 5905440"/>
              <a:gd name="textAreaBottom" fmla="*/ 5199840 h 590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5873760" y="2957400"/>
            <a:ext cx="609480" cy="1054080"/>
          </a:xfrm>
          <a:custGeom>
            <a:avLst/>
            <a:gdLst>
              <a:gd name="textAreaLeft" fmla="*/ 0 w 609480"/>
              <a:gd name="textAreaRight" fmla="*/ 427680 w 609480"/>
              <a:gd name="textAreaTop" fmla="*/ 126000 h 1054080"/>
              <a:gd name="textAreaBottom" fmla="*/ 92808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00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397000">
            <a:off x="2740320" y="1246680"/>
            <a:ext cx="915840" cy="4743720"/>
          </a:xfrm>
          <a:custGeom>
            <a:avLst/>
            <a:gdLst>
              <a:gd name="textAreaLeft" fmla="*/ 0 w 915840"/>
              <a:gd name="textAreaRight" fmla="*/ 642600 w 915840"/>
              <a:gd name="textAreaTop" fmla="*/ 566640 h 4743720"/>
              <a:gd name="textAreaBottom" fmla="*/ 4177080 h 474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397000">
            <a:off x="2751120" y="1247400"/>
            <a:ext cx="915840" cy="4741920"/>
          </a:xfrm>
          <a:custGeom>
            <a:avLst/>
            <a:gdLst>
              <a:gd name="textAreaLeft" fmla="*/ 0 w 915840"/>
              <a:gd name="textAreaRight" fmla="*/ 642600 w 915840"/>
              <a:gd name="textAreaTop" fmla="*/ 566640 h 4741920"/>
              <a:gd name="textAreaBottom" fmla="*/ 4175280 h 474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397000">
            <a:off x="2802240" y="1310400"/>
            <a:ext cx="1008000" cy="4670280"/>
          </a:xfrm>
          <a:custGeom>
            <a:avLst/>
            <a:gdLst>
              <a:gd name="textAreaLeft" fmla="*/ 0 w 1008000"/>
              <a:gd name="textAreaRight" fmla="*/ 707040 w 1008000"/>
              <a:gd name="textAreaTop" fmla="*/ 558000 h 4670280"/>
              <a:gd name="textAreaBottom" fmla="*/ 4112280 h 467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397000">
            <a:off x="2739960" y="1247400"/>
            <a:ext cx="915840" cy="4741920"/>
          </a:xfrm>
          <a:custGeom>
            <a:avLst/>
            <a:gdLst>
              <a:gd name="textAreaLeft" fmla="*/ 0 w 915840"/>
              <a:gd name="textAreaRight" fmla="*/ 642600 w 915840"/>
              <a:gd name="textAreaTop" fmla="*/ 566640 h 4741920"/>
              <a:gd name="textAreaBottom" fmla="*/ 4175280 h 474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397000">
            <a:off x="2626920" y="1348920"/>
            <a:ext cx="1143000" cy="4743720"/>
          </a:xfrm>
          <a:custGeom>
            <a:avLst/>
            <a:gdLst>
              <a:gd name="textAreaLeft" fmla="*/ 0 w 1143000"/>
              <a:gd name="textAreaRight" fmla="*/ 801720 w 1143000"/>
              <a:gd name="textAreaTop" fmla="*/ 566640 h 4743720"/>
              <a:gd name="textAreaBottom" fmla="*/ 4177080 h 474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582"/>
                  <a:pt x="21600" y="5163"/>
                </a:cubicBezTo>
                <a:lnTo>
                  <a:pt x="21600" y="16437"/>
                </a:lnTo>
                <a:cubicBezTo>
                  <a:pt x="21600" y="19019"/>
                  <a:pt x="10800" y="21600"/>
                  <a:pt x="0" y="2160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8160" y="3573360"/>
            <a:ext cx="403632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9900"/>
                </a:solidFill>
                <a:latin typeface="Arial"/>
              </a:rPr>
              <a:t>Окончание См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75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475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25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25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25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25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385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735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885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35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185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63640" y="1484280"/>
            <a:ext cx="738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580000"/>
                </a:solidFill>
                <a:latin typeface="Comic Sans MS"/>
              </a:rPr>
              <a:t>Начало Смуты: «…без власти далёко не уйдешь»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80360" cy="6858000"/>
            <a:chOff x="0" y="0"/>
            <a:chExt cx="918036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3636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1692360" y="44280"/>
            <a:ext cx="6923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План урока</a:t>
            </a:r>
            <a:r>
              <a:rPr b="0" lang="en-US" sz="2100" spc="-1" strike="noStrike">
                <a:solidFill>
                  <a:srgbClr val="9933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700280"/>
            <a:ext cx="6985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Царствование Бориса Годун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Что такое «смута». Причины См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Появление самозва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9180360" cy="6858000"/>
            <a:chOff x="0" y="0"/>
            <a:chExt cx="9180360" cy="68580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3636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1763640" y="404640"/>
            <a:ext cx="7274160" cy="6193080"/>
            <a:chOff x="1763640" y="404640"/>
            <a:chExt cx="7274160" cy="6193080"/>
          </a:xfrm>
        </p:grpSpPr>
        <p:pic>
          <p:nvPicPr>
            <p:cNvPr id="75" name="" descr=""/>
            <p:cNvPicPr/>
            <p:nvPr/>
          </p:nvPicPr>
          <p:blipFill>
            <a:blip r:embed="rId3"/>
            <a:srcRect l="0" t="0" r="1655" b="978"/>
            <a:stretch/>
          </p:blipFill>
          <p:spPr>
            <a:xfrm>
              <a:off x="1763640" y="404640"/>
              <a:ext cx="3895920" cy="619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724360" y="2604960"/>
              <a:ext cx="3313440" cy="2228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А. Голови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Портрет Ф. И.Шаляпи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в роли Бориса Годуно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в одноименной опер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М. П. Мусоргск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732720" y="3284640"/>
            <a:ext cx="2232000" cy="36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18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80360" cy="6858000"/>
            <a:chOff x="0" y="0"/>
            <a:chExt cx="9180360" cy="68580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3636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1835280" y="692280"/>
            <a:ext cx="7167600" cy="6893640"/>
            <a:chOff x="1835280" y="692280"/>
            <a:chExt cx="7167600" cy="6893640"/>
          </a:xfrm>
        </p:grpSpPr>
        <p:pic>
          <p:nvPicPr>
            <p:cNvPr id="82" name="" descr=""/>
            <p:cNvPicPr/>
            <p:nvPr/>
          </p:nvPicPr>
          <p:blipFill>
            <a:blip r:embed="rId3"/>
            <a:srcRect l="2062" t="1598" r="1494" b="1629"/>
            <a:stretch/>
          </p:blipFill>
          <p:spPr>
            <a:xfrm>
              <a:off x="1835280" y="692280"/>
              <a:ext cx="4608360" cy="5473440"/>
            </a:xfrm>
            <a:prstGeom prst="rect">
              <a:avLst/>
            </a:prstGeom>
            <a:ln w="57240">
              <a:solidFill>
                <a:srgbClr val="580000"/>
              </a:solidFill>
              <a:miter/>
            </a:ln>
          </p:spPr>
        </p:pic>
        <p:sp>
          <p:nvSpPr>
            <p:cNvPr id="83" name=""/>
            <p:cNvSpPr/>
            <p:nvPr/>
          </p:nvSpPr>
          <p:spPr>
            <a:xfrm>
              <a:off x="5219640" y="5662440"/>
              <a:ext cx="3783240" cy="1923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А. Медведев Патриарх И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и московский народ прося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Comic Sans MS"/>
                </a:rPr>
                <a:t>Бориса Годунова на цар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835280" y="44280"/>
            <a:ext cx="7129440" cy="503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0000"/>
                </a:solidFill>
                <a:latin typeface="Comic Sans MS"/>
              </a:rPr>
              <a:t>1. Царствование Бориса Годун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80360" cy="6858000"/>
            <a:chOff x="0" y="0"/>
            <a:chExt cx="9180360" cy="68580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3636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1692360" y="692280"/>
            <a:ext cx="3630600" cy="5580360"/>
            <a:chOff x="1692360" y="692280"/>
            <a:chExt cx="3630600" cy="558036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1692360" y="692280"/>
              <a:ext cx="3630600" cy="4686120"/>
            </a:xfrm>
            <a:prstGeom prst="rect">
              <a:avLst/>
            </a:prstGeom>
            <a:ln w="76320">
              <a:solidFill>
                <a:srgbClr val="660033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2246040" y="5568840"/>
              <a:ext cx="2142000" cy="703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8080"/>
                  </a:solidFill>
                  <a:latin typeface="Comic Sans MS"/>
                </a:rPr>
                <a:t>С. Присекин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8080"/>
                  </a:solidFill>
                  <a:latin typeface="Comic Sans MS"/>
                </a:rPr>
                <a:t>Борис Годун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835280" y="44280"/>
            <a:ext cx="7129440" cy="503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0000"/>
                </a:solidFill>
                <a:latin typeface="Comic Sans MS"/>
              </a:rPr>
              <a:t>1. Царствование Бориса Годун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18626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98 -1605 гг. – правление Бориса Году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351828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рис Годунов –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борный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79280" y="189000"/>
            <a:ext cx="13683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-36360" y="0"/>
            <a:ext cx="9180360" cy="6858000"/>
            <a:chOff x="-36360" y="0"/>
            <a:chExt cx="9180360" cy="6858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-3636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640" y="4428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0000"/>
                </a:solidFill>
                <a:latin typeface="Comic Sans MS"/>
              </a:rPr>
              <a:t>2.Что такое «смута».</a:t>
            </a:r>
            <a:r>
              <a:rPr b="0" lang="en-US" sz="2400" spc="-1" strike="noStrike">
                <a:solidFill>
                  <a:srgbClr val="58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1368360" cy="1085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8000" y="2176560"/>
            <a:ext cx="6778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80000"/>
                </a:solidFill>
                <a:latin typeface="Arial"/>
              </a:rPr>
              <a:t>Смута – период борьбы за власть,       сопровождающийся сменой династий, интервенцией и другими потряс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8:46:43Z</dcterms:created>
  <dc:creator>Быкова Ольга</dc:creator>
  <dc:description/>
  <dc:language>en-US</dc:language>
  <cp:lastModifiedBy>LUKI</cp:lastModifiedBy>
  <dcterms:modified xsi:type="dcterms:W3CDTF">2007-01-29T16:43:15Z</dcterms:modified>
  <cp:revision>80</cp:revision>
  <dc:subject/>
  <dc:title>Начало Смуты</dc:title>
</cp:coreProperties>
</file>