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299-13CD-412E-BB10-354FCC3E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619-8E3D-4E6A-94B4-C1EE3389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875-571D-49D6-B33E-6CFD57BC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9AD-CB3B-42FB-99B5-262A5FDA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CFE-99A7-4B8F-9561-7E6AC9DE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63C-BA53-4177-ACED-99424FE7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D42-7E93-4E22-84F0-BA71D1D4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FEF-9475-4178-AA64-C6E68FD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60A-05A7-468D-BC89-B1C9CE19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4B7-6FAB-4996-A053-FC6C4EF9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D96-9B1B-405F-B652-197B5F7D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6AB-B168-4CF1-B5C0-E976BC27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CFFD-3F19-4982-9935-B9C42F801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06800" y="216000"/>
            <a:ext cx="4202280" cy="5589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14164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9640" y="692280"/>
            <a:ext cx="338472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Вулк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40240" y="5888160"/>
            <a:ext cx="369576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ячие источни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9520" y="142920"/>
            <a:ext cx="8724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4200" y="133200"/>
            <a:ext cx="87156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3280" y="162000"/>
            <a:ext cx="8677440" cy="653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457200"/>
            <a:ext cx="914400" cy="1523880"/>
          </a:xfrm>
          <a:prstGeom prst="cloudCallout">
            <a:avLst>
              <a:gd name="adj1" fmla="val -20310"/>
              <a:gd name="adj2" fmla="val 71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69840" y="4940280"/>
            <a:ext cx="7705800" cy="1297080"/>
          </a:xfrm>
          <a:prstGeom prst="rect">
            <a:avLst/>
          </a:prstGeom>
          <a:solidFill>
            <a:srgbClr val="f1a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нт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язкая, температура от 2000 – 2500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2637000"/>
            <a:ext cx="6697800" cy="1223640"/>
          </a:xfrm>
          <a:prstGeom prst="rect">
            <a:avLst/>
          </a:prstGeom>
          <a:solidFill>
            <a:srgbClr val="f1a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гма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дкая, температура более 1000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0760" y="404640"/>
            <a:ext cx="5330880" cy="1151280"/>
          </a:xfrm>
          <a:prstGeom prst="rect">
            <a:avLst/>
          </a:prstGeom>
          <a:solidFill>
            <a:srgbClr val="f1a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ва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пература 1000 граду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ливается на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591080" y="4112640"/>
            <a:ext cx="577800" cy="505080"/>
          </a:xfrm>
          <a:prstGeom prst="rightArrow">
            <a:avLst>
              <a:gd name="adj1" fmla="val 50000"/>
              <a:gd name="adj2" fmla="val 2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535280" y="1952280"/>
            <a:ext cx="577800" cy="504720"/>
          </a:xfrm>
          <a:prstGeom prst="rightArrow">
            <a:avLst>
              <a:gd name="adj1" fmla="val 50000"/>
              <a:gd name="adj2" fmla="val 2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родукты извержения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-794160" y="3105360"/>
            <a:ext cx="4249800" cy="143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ла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83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родукты извержения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165720"/>
            <a:ext cx="806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улканические глыбы и бом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118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3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родукты извержения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20000" cy="538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6021360"/>
            <a:ext cx="597708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улканический пеп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561080" cy="5488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родукты извержения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950080"/>
            <a:ext cx="5329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улканические г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Вулканы на дне оке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Вулканы на су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сформировать представление о происхождении вулканов, гейз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знакомиться с отличием действующих и потухших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рименять полученные знания на прак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301932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79880" y="24922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620640"/>
            <a:ext cx="23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1916280"/>
            <a:ext cx="259236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ух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645000"/>
            <a:ext cx="22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нув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4240" y="1268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8366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16360" y="1674720"/>
            <a:ext cx="4356360" cy="3267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Действующие ву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4321440" cy="270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32360" y="1052640"/>
            <a:ext cx="3960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авайские 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Действующ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3324240"/>
            <a:ext cx="4564080" cy="3533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248360" cy="2755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4500720" cy="280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0920" y="1413000"/>
            <a:ext cx="5761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ючевская сопка. Высота ????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отухш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058160" cy="494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24000" y="126828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ЛИМАНДЖАРО. ????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Уснувш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7080" y="2781360"/>
            <a:ext cx="5236920" cy="392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5003640" cy="3787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41300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увий. Высота ???? 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Arial"/>
              </a:rPr>
              <a:t>гейзе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441440"/>
            <a:ext cx="3462120" cy="2597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29200" y="1479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743200" y="4186080"/>
            <a:ext cx="3357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ма по жерлу рвется наружу выход из кратера очень ей нужен. Если проход на поверхность ей дан, значит проснулся грозный вулк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192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08000" y="119160"/>
            <a:ext cx="9325080" cy="669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476280"/>
            <a:ext cx="61927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улк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299736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 ог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9520" y="157320"/>
            <a:ext cx="87249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5760" y="147600"/>
            <a:ext cx="87724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4200" y="152280"/>
            <a:ext cx="871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7249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9240" y="147600"/>
            <a:ext cx="87055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3:39:15Z</dcterms:created>
  <dc:creator>Rover</dc:creator>
  <dc:description/>
  <dc:language>en-US</dc:language>
  <cp:lastModifiedBy>VIDEO</cp:lastModifiedBy>
  <dcterms:modified xsi:type="dcterms:W3CDTF">2007-01-17T04:27:55Z</dcterms:modified>
  <cp:revision>37</cp:revision>
  <dc:subject/>
  <dc:title>Слайд 1</dc:title>
</cp:coreProperties>
</file>