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FB8-CF72-4E8A-A9A0-95CD8EC3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47B-987F-44F0-BC65-84DB36F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CBAF-4FA6-4CE7-ADF6-982B488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D08C0-2053-4329-BB33-CFD78F5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3EB4B-6A50-4AB6-ACB2-2C33087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C549-2D94-47A0-BD09-9637D65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6A9D-30AB-4A1B-92E7-6EB3831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57ABC-22D5-4F7F-8771-EB63A72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7949-D2DF-4DBC-BF0E-C01C406D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3AAFB-6F8F-4FE2-8DF8-2A6D9CBD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6962E-1DDE-42EE-9110-FA6F0EC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9CC58-DF83-4EC9-BF85-289006D2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A50-446A-4C5D-A42A-29E131B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76AA7-AEC4-48FA-9657-675A9424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1446-036B-457C-B5FE-CF2F10C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9A9FD-8BEC-47D6-A014-E17CBF16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B3C72-0216-4314-9408-D72CEB11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3F9A-9B92-497E-906A-9375248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2504A-9AAC-4704-878F-77860455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FECE0-3712-4652-8530-803C1AC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5D54F-28D3-45C3-9D42-CCFF614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2328-3F1B-4765-874C-F093075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489BD-7DAA-41A1-BDF5-C7D4BAA1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9B-0CF0-4B1A-A4E8-E2372C0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C85C1-86AE-4F4C-B13E-15781678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A5E-B184-4F62-BB6F-D8AAC72D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647-D263-4D60-877D-7FBF0144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9B8D-20EB-4C40-959D-7B9601A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C7E-7A57-4B46-A693-393EAAD9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BD8-FF8A-4147-833A-EAD9218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869E-2E2E-40C9-9CE0-6FBA453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D22-D231-40E8-AE82-17FF12C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9D6-28C8-47D2-8BF5-8DCE977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4240-522E-4B6B-B9BB-9AC4EF7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68C-22AA-4F9C-B0EB-759BB7C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CA8C-6CB5-4491-8B03-D411BC8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671-F661-4838-A3ED-A996A1E8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96FE-EE91-462A-B843-73871A97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065A-F5C7-418D-A69B-B1D4615F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21D7-B514-4804-8063-59D209B9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20E2-4452-446C-873E-43252E5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E84E-AB1E-498B-898D-8400F33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E685-E6C0-4FE7-B6D7-BAFE33A7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B3C-21FB-442F-A5AE-FB58FB64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F603-39EA-4DD4-A545-4BF3FC09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C309-68ED-4EF5-9129-3F92893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FA29-73CC-4018-B6C9-C286C3A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9304-DDFD-4AA0-AC6C-291B2A6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0A94-3513-4480-864A-541CDD1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5C4F-4CBD-4D3E-9FC5-23DD096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7C6C-1E01-4BEE-8BA8-CD5418D9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3D7D1-8019-45C0-97F5-CB10D597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0BB6-4321-4BBC-8611-9C27E49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ABB6-9981-4A3F-AAD4-15EA4FB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F3D-347E-47DB-B124-970F713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73B4-173E-4F39-BF40-2F39287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2E51-C86E-4D86-A9D3-97BF589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48AE-C194-4142-AE3D-E4EC25D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B485-B305-4397-88AB-5E87D7E4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625F-1949-4AB1-A148-0E4B200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1821-B529-43E2-A35C-28BEF874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0E0D-BB8B-4AA0-9C6F-9240DE4B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21FB-C57A-42CD-836C-F29C9A2E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AF03-341E-4380-B0A5-4F86838C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2084A-AEEC-411F-B5EA-363173C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829-38A8-4358-955D-E6330EE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06510-187C-427D-9DA7-F45D3E0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DBABC-803B-4D74-B2A6-BBF5BDA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FE4588-B409-444A-8219-E9087C7C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AAB6A-343F-48F3-9511-4A609747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B62B3-089B-4F49-8B74-0230C61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CBF80-429F-4553-AC12-571767A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B4465-96FD-4117-8B3A-6AAC111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EBCAF1-F971-4B7C-890A-D1B562A9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B387C-E192-4050-8B38-EF301E90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2832E-7D0F-4235-9F13-81470281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47C-14F3-486B-978D-7670346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341D2-7646-4B44-BA16-16F1C68E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4FC4-2FAB-4D41-AFCC-0335AE09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EFD8-C25C-4926-B72E-7F66412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BECA-2CF5-4B73-A4F5-26BDDE6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9F18-CFA5-4D40-9392-3B7C2F78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75A42-72DE-43D6-9995-CF8DFA3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08C4-F911-4056-8A6B-599A090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C5B3C-8DFA-4A26-8DF9-FB20687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FCAC-091C-4C85-A776-D3A1AB2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A704-7020-4587-9236-9EEB8C5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C5B-09BB-4933-A890-69DC860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AAF8-7599-4E90-B6D0-7425BC0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5F18C-7369-4513-BE55-ADE40BBE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636F6-3AA6-44B7-B832-689EDC4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E2B3B-A922-41CA-AD70-45244C78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1DF027-BB4C-447C-8AAC-525AC90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40D5A7-739C-42FF-A0B1-3E0AA34B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B2164-3813-4842-ABD4-F30C0A2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6FEF8F-B3B4-45FC-9A24-4B162C6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05FFFC-3830-4E70-8B39-85FBF267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CB971-6D64-408B-98A3-276AA3E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A78-D383-48C4-99FA-AE6CA6A3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D520DE-4654-44B3-AAAD-6152684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8708D-8921-415D-AEE2-C3B9063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4DBE60-97C8-4D91-B6AB-3D229F2A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727F5-0BEC-47C5-9B74-006486A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9C9F36-0485-4621-AA06-9AEFEC01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8732-38F4-434B-920F-AE7B25DF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5EBB2-BE64-4705-9BF4-03699FD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20C5-8DD1-4E28-AB05-452F8C5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A890-6705-459D-87CD-2A0B5F9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5CC9-C17D-4898-9B9A-9A5D3FC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1A1-2DCE-4F9D-BC2C-8212B89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16FF-8D1B-44D6-B193-9C9602F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67C51-6B30-499D-A333-1C021D0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E117-30B5-484F-9EDC-8BAD33C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BE18-81F1-4D94-A83B-8F8AB18F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7C1A-BF03-44D8-B9D5-334BC62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F23E-C605-4919-8262-A3B2C3EA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FFBD-CABA-4222-80D6-616BD919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90C19-2B53-4092-AE81-E8BE3420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759EA-02E4-45C7-BF87-1C6B2CD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97218-1A55-476A-BC51-8B530F5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55F-F7B3-4003-9993-ACAE34A0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9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75F-FC57-41A3-B0F1-9205B46E81D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DF70-671C-4F10-B010-AB7D77EC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1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4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D1E-7FD4-4B43-8324-8A89ED848D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9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3E1E-1EB7-4CC8-870B-5A3897B752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6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E6B-0CCD-4D54-ACAB-9FE7FE8E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DFB4-72DC-42C4-A5D8-D0D4A2F8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80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263-485D-46CD-9CAD-376F5A49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37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5E2B-F71F-4300-BD23-29766BBC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39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9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8CA-86E4-4810-A10B-A995F7971BF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Дифференцированный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и индивидуальный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подходы   на уроках   матема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539280" y="2565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 Цель  образования – перед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ледующим поколениям ц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ультуры  и  научить  их  жить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быстро  меняющимся  мире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Е.А. Ямбу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Дифференциация  – организац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чебного    процесса   с   учето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доминирующих    особенносте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упп  учащихся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«Индивидуализация  –  учё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личностных  особенност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ждого   ученик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З.А.Аба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В первом  случае в расчет берутся групповые,   во   втором  случае индивидуальные  особенности  и дифференцированное   обучение выступает как условие и средство индивидуализаци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ча  №  65     (5 класс)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ебник    А.Г. Ванця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Реши задачу алгебраичес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2900" spc="-1" strike="noStrike">
                <a:solidFill>
                  <a:srgbClr val="ffffff"/>
                </a:solidFill>
                <a:latin typeface="Times New Roman"/>
              </a:rPr>
              <a:t>Альбом  в  4  раза  дороже ручки,  а  ручка  в  3 раза дешевле тетради. Сколько стоят альбом, тетрадь и ручка,  если тетрадь  дешевле альбома  на  1 рубль 50 копеек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2.  Если  затрудняешься,  узнай  сначала,  какой  из товаров самый дешевый,  какой  самый  дорогой.  Какую  величину  удобнее  всего  взять  в  качестве  неизвестного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4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3. Измени  условие  задачи  так,  чтобы  она  стала сложнее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Times New Roman"/>
              </a:rPr>
              <a:t>Группы учащихс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уппа                                Группа                                                                                         Базового уровн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вышенного ур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сигнал-ответ»                        активна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ыслительная  деятельность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2268000" y="2133720"/>
            <a:ext cx="1582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219640" y="206064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05092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3272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зультаты ЕГЭ 2005-2006 уч. год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1620" name=""/>
          <p:cNvGraphicFramePr/>
          <p:nvPr/>
        </p:nvGraphicFramePr>
        <p:xfrm>
          <a:off x="250920" y="1341360"/>
          <a:ext cx="8642160" cy="4967280"/>
        </p:xfrm>
        <a:graphic>
          <a:graphicData uri="http://schemas.openxmlformats.org/drawingml/2006/table">
            <a:tbl>
              <a:tblPr/>
              <a:tblGrid>
                <a:gridCol w="936360"/>
                <a:gridCol w="1584360"/>
                <a:gridCol w="720720"/>
                <a:gridCol w="719280"/>
                <a:gridCol w="720720"/>
                <a:gridCol w="792000"/>
                <a:gridCol w="1312920"/>
                <a:gridCol w="1855800"/>
              </a:tblGrid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Г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2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3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4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5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9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вы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,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Результаты   Олимпиа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79280" y="1197000"/>
          <a:ext cx="8785440" cy="53402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2016000"/>
                <a:gridCol w="1729080"/>
                <a:gridCol w="187164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.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ванют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аст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це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 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ванют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мганова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це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 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чш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ван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аст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 м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цева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очков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31:44Z</dcterms:created>
  <dc:creator>Айдар</dc:creator>
  <dc:description/>
  <dc:language>en-US</dc:language>
  <cp:lastModifiedBy>Айдар</cp:lastModifiedBy>
  <dcterms:modified xsi:type="dcterms:W3CDTF">2007-01-08T13:13:23Z</dcterms:modified>
  <cp:revision>26</cp:revision>
  <dc:subject/>
  <dc:title>Дифференцированный    и индивидуальный    подход   на уроках   математики</dc:title>
</cp:coreProperties>
</file>