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98C8-F538-431B-9F4B-0F528A4B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4513-AD2E-4253-AE62-C0F9FD94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FCE5-E08B-4BDA-8915-96CF164F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946D-85E1-4791-987D-BEBE0764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6EAB-8B6E-4E23-B1CD-EA968207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045D-CD70-4C05-92C5-703066B4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D8C9-57D8-47BB-A529-B4A41C53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4099-D53D-4BFF-8BFA-4E1504E5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D7A1-DE4A-4F0C-B012-E848CCEF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850D-0F92-4B26-8626-0F2667E3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4FEA-15C0-4950-BCE8-34A71AD3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148D-B562-42F1-86C7-F0D40241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AA48-67ED-4B4B-9623-3E3CDFCD1F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907920"/>
            <a:ext cx="568800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бака - друг человека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79640" y="3213000"/>
            <a:ext cx="50482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Интегрированный урок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внеклассного чте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и технологии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68360" y="5445000"/>
            <a:ext cx="5438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втор: Галимуллина Р.Г.</a:t>
            </a:r>
            <a:endParaRPr b="0" i="1" lang="en-US" sz="2400" spc="1" strike="noStrike">
              <a:ln w="9360">
                <a:solidFill>
                  <a:srgbClr val="00cc99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47640" y="476280"/>
            <a:ext cx="5832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Отгадай загадку</a:t>
            </a:r>
            <a:endParaRPr b="0" lang="en-US" sz="2400" spc="1" strike="noStrike">
              <a:ln w="9360">
                <a:solidFill>
                  <a:srgbClr val="00cc99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55640" y="2133720"/>
            <a:ext cx="79930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00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 хозяином дружит,</a:t>
            </a:r>
            <a:endParaRPr b="0" i="1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00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00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м сторожит,</a:t>
            </a:r>
            <a:endParaRPr b="0" i="1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00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00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ивёт под крылечком,</a:t>
            </a:r>
            <a:endParaRPr b="0" i="1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00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00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 хвост колечком.</a:t>
            </a:r>
            <a:endParaRPr b="0" i="1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00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19280" y="404640"/>
            <a:ext cx="5905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Собака - друг человека</a:t>
            </a:r>
            <a:endParaRPr b="0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4000" y="1916280"/>
            <a:ext cx="50958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машнее животное</a:t>
            </a:r>
            <a:endParaRPr b="0" i="1" lang="en-US" sz="2400" spc="1" strike="noStrike">
              <a:ln w="9360">
                <a:solidFill>
                  <a:srgbClr val="00cc99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мейства псовых.</a:t>
            </a:r>
            <a:endParaRPr b="0" i="1" lang="en-US" sz="2400" spc="1" strike="noStrike">
              <a:ln w="9360">
                <a:solidFill>
                  <a:srgbClr val="00cc99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ывают служебные,</a:t>
            </a:r>
            <a:endParaRPr b="0" i="1" lang="en-US" sz="2400" spc="1" strike="noStrike">
              <a:ln w="9360">
                <a:solidFill>
                  <a:srgbClr val="00cc99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натные,охотничьи,</a:t>
            </a:r>
            <a:endParaRPr b="0" i="1" lang="en-US" sz="2400" spc="1" strike="noStrike">
              <a:ln w="9360">
                <a:solidFill>
                  <a:srgbClr val="00cc99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орожевые собаки.</a:t>
            </a:r>
            <a:endParaRPr b="0" i="1" lang="en-US" sz="2400" spc="1" strike="noStrike">
              <a:ln w="9360">
                <a:solidFill>
                  <a:srgbClr val="00cc99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508720" y="2133720"/>
            <a:ext cx="345600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 древнерусском языке были слова пес и пёс. Слово собака пришло позднее из иранских языков. У древ-них славян, если оно и встречается, то только в неодобрительном зна-чении – распущенный, злой челове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47640" y="692280"/>
            <a:ext cx="58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К истокам слов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 древнерусском языке были слова пес и пёс. Слово собака пришло позднее из иранских языков. У древ-них славян, если оно и встречается, то только в неодобрительном зна-чении – распущенный, злой челове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 собака на сене – о человеке, сам не пользуется чем-либо и другим не даё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 кошка с собакой живут – о пос-тоянно ссорящихся люд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ужен как собаке пятая нога – сов-сем не нужен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16000" y="620640"/>
            <a:ext cx="6624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Крылатые выражения</a:t>
            </a:r>
            <a:endParaRPr b="0" lang="en-US" sz="2400" spc="1" strike="noStrike">
              <a:ln w="9360">
                <a:solidFill>
                  <a:srgbClr val="00cc99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бака -  друг челове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бака лает, ветер носи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835280" y="692280"/>
            <a:ext cx="5761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Пословицы и поговорки</a:t>
            </a:r>
            <a:endParaRPr b="0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68360" y="3957480"/>
            <a:ext cx="40323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лед, лай…(кого?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ставка…( кого?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рмить, дрессировать … ( кого?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здить … (на ком?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ежать, мчаться … (от кого?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улять, играть … (с кем?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87280" y="765000"/>
            <a:ext cx="6480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гра "Подскажите словечко"</a:t>
            </a:r>
            <a:endParaRPr b="0" i="1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алимуллина Р.Г.</dc:creator>
  <dc:description/>
  <dc:language>en-US</dc:language>
  <cp:lastModifiedBy>Райса</cp:lastModifiedBy>
  <dcterms:modified xsi:type="dcterms:W3CDTF">2006-12-06T14:51:57Z</dcterms:modified>
  <cp:revision>34</cp:revision>
  <dc:subject/>
  <dc:title/>
</cp:coreProperties>
</file>