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D99-F63E-4EDE-8805-BF6B1658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67C-5D81-401D-B4AD-65B231C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AE2-E84F-4A3C-BADA-9ECA9212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1AB-E324-4583-A8DB-64A4C795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24F-2190-406A-B65F-60E6BF0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8D3E-5E17-4534-9A30-F2B09D6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9C1F-585C-4431-8292-3F1FCC3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8C7F-550E-497D-B663-2C3203A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BC25-6540-4B5F-BF45-9DDA50F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7EB8-2E01-48D1-9A2F-4150DDB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026E-9850-4E7F-ABCD-AC2D1FD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89D-06D7-4EAF-AB31-9B2762B0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999-078F-47DA-9BDC-6715655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3BD2-84FB-49D8-8AC9-DE3BF07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C5F-BA40-42DC-BAA8-2455B59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B22-E649-485D-8E44-4AAA8488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5F2C-9957-4184-B1E9-74BD2443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087-5774-42F5-83B8-3D32C156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F83-8FE7-4B74-AF1F-993A3F4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0AB-AFE1-4730-BBFF-F8C4F5D7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69E-55CD-4EE9-9AC8-523C77B7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D7C-F439-4B69-A853-2BE3AFD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BE4-1A67-4557-B78C-0DFFD91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F18-1607-4270-A5F6-693BA09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15D7-82F2-48A9-BFD5-FED7CAC805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Geneva CY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449-906B-49BA-B7D0-66B5254BF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eneva CY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eneva CY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6400800" cy="251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Manuscript CY"/>
              </a:rPr>
              <a:t>Mark  Twain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776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anuscript CY"/>
              </a:rPr>
              <a:t>1835-19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2560" y="72691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79405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Manuscript CY"/>
              </a:rPr>
              <a:t>Biograph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4240" y="-5810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960640" cy="3657600"/>
          </a:xfrm>
          <a:prstGeom prst="rect">
            <a:avLst/>
          </a:prstGeom>
          <a:ln w="76320">
            <a:solidFill>
              <a:srgbClr val="c743fd"/>
            </a:solidFill>
            <a:miter/>
          </a:ln>
        </p:spPr>
      </p:pic>
      <p:graphicFrame>
        <p:nvGraphicFramePr>
          <p:cNvPr id="158" name=""/>
          <p:cNvGraphicFramePr/>
          <p:nvPr/>
        </p:nvGraphicFramePr>
        <p:xfrm>
          <a:off x="1544760" y="1628640"/>
          <a:ext cx="3611520" cy="404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628640"/>
                    <a:ext cx="36115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anuscript CY"/>
              </a:rPr>
              <a:t>The adventures of Tom Sawy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28800" y="1770120"/>
          <a:ext cx="6070680" cy="55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70120"/>
                    <a:ext cx="6070680" cy="55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657600" cy="3352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39812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048120" y="838080"/>
            <a:ext cx="273024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636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Eskiz CY"/>
              </a:rPr>
              <a:t>The End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Eskiz CY"/>
              <a:ea typeface="Eskiz CY"/>
            </a:endParaRPr>
          </a:p>
        </p:txBody>
      </p:sp>
      <p:sp>
        <p:nvSpPr>
          <p:cNvPr id="166" name=""/>
          <p:cNvSpPr/>
          <p:nvPr/>
        </p:nvSpPr>
        <p:spPr>
          <a:xfrm>
            <a:off x="5237280" y="107316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Geneva CY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2:19:21Z</dcterms:created>
  <dc:creator>Департамент образования</dc:creator>
  <dc:description/>
  <dc:language>en-US</dc:language>
  <cp:lastModifiedBy>USER</cp:lastModifiedBy>
  <dcterms:modified xsi:type="dcterms:W3CDTF">2006-01-22T15:37:01Z</dcterms:modified>
  <cp:revision>10</cp:revision>
  <dc:subject/>
  <dc:title>Mark  Twain</dc:title>
</cp:coreProperties>
</file>