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BEF-64E4-4ACF-A4E8-6F54BBEE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8C0-D1CD-4B31-8315-730FDF4B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F9E-88A5-4CF1-9870-2F90674A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929-9FDD-4C89-A2B3-3AC927CB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A5340-0CA3-43EE-A090-A0628518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6C9EC-1132-4503-9E70-06D197CC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7B812-4A41-4AB6-A545-FDA1E2F6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120F1-14C5-4825-9D05-CF076AE9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ABF3C-EA1F-4BF0-85D6-18AFE0A3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3C9BA-CB4E-4D3A-B535-06FACE21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F5B6F-F083-4F52-9605-97D3D04A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630-0269-46A2-96EC-A4E93567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8876C-85B1-468A-85B2-7C0D3700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74C86-26C5-492D-AE43-7AB3129E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E50B3-39A8-432E-BAD0-D600B95C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DB875-3811-4B82-A916-F2678F17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FA8F-C481-412D-B5A1-8A9C1709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632-A363-44FD-896B-8AC8D6DC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740-DA7C-451F-BD1A-8EAF6F35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92C-F325-4AB2-8E0A-6954B96F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F2F-6915-4BBB-B87A-C03344B5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DF5-31D2-45AE-A854-A7FA234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C48-A166-45E2-98F3-5B2179D8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0CB-6F8E-4AAB-A9E7-3629633F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C112-3F86-4911-8762-8074D369B9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0C85-D562-414A-8B92-7CD45C1B09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:/samples_russian_project/school-sector.relarn.ru/tanya/schoolweb/gimn1/webquest/intro.htm" TargetMode="External"/><Relationship Id="rId3" Type="http://schemas.openxmlformats.org/officeDocument/2006/relationships/hyperlink" Target="file:///F:/samples_russian_project/school-sector.relarn.ru/tanya/schoolweb/gimn1/webquest/intro.htm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74278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«Без знания математики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нельзя понять ни основ современной техники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ни того как учены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изучают природные 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оциальные явления»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    А. Колмогоров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46052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628640"/>
          <a:ext cx="8532360" cy="4764240"/>
        </p:xfrm>
        <a:graphic>
          <a:graphicData uri="http://schemas.openxmlformats.org/drawingml/2006/table">
            <a:tbl>
              <a:tblPr/>
              <a:tblGrid>
                <a:gridCol w="1965600"/>
                <a:gridCol w="6566760"/>
              </a:tblGrid>
              <a:tr h="47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ru-RU" sz="18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ru-RU" sz="7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...И неужели мы будем в истории -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Эти, Байкал загубили которые..?"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 вывешивать бюллетень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ебя чувствует омуль, тюлень..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 заповедником стало озеро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 его воду не целлюлозило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ы никто никогда не сказал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Мертвое море - священный Байкал."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Вознесен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125360"/>
            <a:ext cx="30574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03280" y="2349360"/>
            <a:ext cx="6193080" cy="129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е действ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дробя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озер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йк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6" name="" descr="На островах Байкала выводится множество птенцов(4)"/>
          <p:cNvPicPr/>
          <p:nvPr/>
        </p:nvPicPr>
        <p:blipFill>
          <a:blip r:embed="rId2"/>
          <a:stretch/>
        </p:blipFill>
        <p:spPr>
          <a:xfrm>
            <a:off x="250920" y="4437000"/>
            <a:ext cx="2160360" cy="2087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Предположительный маршрут трубопровода Ковыкта-Китай(3)"/>
          <p:cNvPicPr/>
          <p:nvPr/>
        </p:nvPicPr>
        <p:blipFill>
          <a:blip r:embed="rId3"/>
          <a:stretch/>
        </p:blipFill>
        <p:spPr>
          <a:xfrm>
            <a:off x="6227640" y="4111560"/>
            <a:ext cx="29163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00000" y="760320"/>
            <a:ext cx="6912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Байкал зимой (фото из личного архива И.И.Журавковой)"/>
          <p:cNvPicPr/>
          <p:nvPr/>
        </p:nvPicPr>
        <p:blipFill>
          <a:blip r:embed="rId2"/>
          <a:stretch/>
        </p:blipFill>
        <p:spPr>
          <a:xfrm>
            <a:off x="971640" y="765000"/>
            <a:ext cx="6480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91600"/>
            <a:ext cx="8218440" cy="14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,41 + 5,0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 – 0,8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,3 * 00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660,99 : 3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8,2 + 9,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,2 – 4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4,9 * 0,1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0,125 * 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,5 – 2 ½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4,9 : 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¾ * 4/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 : 2/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 ¼ + 0,2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 + 0,84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4,2 – 3,5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54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000000">
                <a:alpha val="0"/>
              </a:srgbClr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 ни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рек круп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17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– свыше 10 к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рек – до 8 к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ки – до 6 к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3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реки – до 4 к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4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реки – до 2 к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 стороны восточного берега в Байкал впадаю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32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ки, с западного 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20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Нерпа"/>
          <p:cNvPicPr/>
          <p:nvPr/>
        </p:nvPicPr>
        <p:blipFill>
          <a:blip r:embed="rId2"/>
          <a:stretch/>
        </p:blipFill>
        <p:spPr>
          <a:xfrm>
            <a:off x="4932360" y="1557360"/>
            <a:ext cx="36925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Кроссворд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ношение пройденного пути ко времени дви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исло, стоящее над дробной чер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ин из компонентов д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на сотая часть чис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диница измерения уг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Ветер сарма в разгаре (5)"/>
          <p:cNvPicPr/>
          <p:nvPr/>
        </p:nvPicPr>
        <p:blipFill>
          <a:blip r:embed="rId2"/>
          <a:stretch/>
        </p:blipFill>
        <p:spPr>
          <a:xfrm>
            <a:off x="1116000" y="692280"/>
            <a:ext cx="6192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Объемы сточных вод области, сбрасываемые стационарными источниками в естественные водоемы и их структура(в %) (6)"/>
          <p:cNvPicPr/>
          <p:nvPr/>
        </p:nvPicPr>
        <p:blipFill>
          <a:blip r:embed="rId2"/>
          <a:stretch/>
        </p:blipFill>
        <p:spPr>
          <a:xfrm>
            <a:off x="250920" y="692280"/>
            <a:ext cx="8569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9:42:29Z</dcterms:created>
  <dc:creator>USER</dc:creator>
  <dc:description/>
  <dc:language>en-US</dc:language>
  <cp:lastModifiedBy>USER</cp:lastModifiedBy>
  <dcterms:modified xsi:type="dcterms:W3CDTF">2006-01-23T17:07:51Z</dcterms:modified>
  <cp:revision>10</cp:revision>
  <dc:subject/>
  <dc:title>Слайд 1</dc:title>
</cp:coreProperties>
</file>