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306-10DF-4B45-8036-6D1C062C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C8DE-9E25-4A51-B3DB-83253790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D6C-A39B-40D0-B58E-2108D3A5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5CB-49D8-4A83-A887-C3680737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BE833-2528-45FD-B46A-A5C68EC6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F4488-18F7-44CF-A7DD-BFDF01EF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2D3EF-DAB5-4C71-9687-862D8543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F734A-7697-4519-A98C-8FFC4D43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FF8ED-C766-44F5-B8B5-63D81438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D6CF3-DD6E-4F94-8F1F-DB6C7AA5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069BD-B16E-403B-B428-A26C2D78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94AE-B49E-42DF-9DD6-8F319C93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3D4FD-C7B1-432E-A785-7D9AC69C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7D216-4F1F-47FC-B63E-F8C71E68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1F9DD-0F25-4B68-B581-EA523C36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25597-7788-4EBF-8B41-E7A17BE9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48876-6BF2-40C6-9893-B632266C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239-BBD5-44D6-93FD-FC72CD25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E34-46A4-4F40-BA23-C6D8DF2B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6A8F-1FDF-496C-AB7B-DD3DD78D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303E-A924-476B-8F2A-5FD696A7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9DB8-83E0-46A7-A2E9-99134919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FBAB-05D5-4071-9DBF-E242B091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A495-68F6-4FF3-B2CD-28FE168D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CF8C-41A0-466A-B9DB-BD813C36D4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F227-B756-4286-824B-76AA112F43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:/samples_russian_project/school-sector.relarn.ru/tanya/schoolweb/gimn1/webquest/intro.htm" TargetMode="External"/><Relationship Id="rId3" Type="http://schemas.openxmlformats.org/officeDocument/2006/relationships/hyperlink" Target="file:///F:/samples_russian_project/school-sector.relarn.ru/tanya/schoolweb/gimn1/webquest/intro.htm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404640"/>
            <a:ext cx="74278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«Без знания математики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нельзя понять ни основ современной техники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и того как учены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изучают природные 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оциальные явления»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       А. Колмогоров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46052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628640"/>
          <a:ext cx="8532360" cy="4764240"/>
        </p:xfrm>
        <a:graphic>
          <a:graphicData uri="http://schemas.openxmlformats.org/drawingml/2006/table">
            <a:tbl>
              <a:tblPr/>
              <a:tblGrid>
                <a:gridCol w="1965600"/>
                <a:gridCol w="6566760"/>
              </a:tblGrid>
              <a:tr h="47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ru-RU" sz="1800" spc="-1" strike="noStrike" u="sng">
                          <a:solidFill>
                            <a:srgbClr val="ffcc00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r>
                        <a:rPr b="0" lang="ru-RU" sz="7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ер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...И неужели мы будем в истории -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Эти, Байкал загубили которые..?"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о вывешивать бюллетень,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себя чувствует омуль, тюлень..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 заповедником стало озеро,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 его воду не целлюлозило,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ы никто никогда не сказал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Мертвое море - священный Байкал."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Вознесен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1125360"/>
            <a:ext cx="305748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03280" y="2349360"/>
            <a:ext cx="619308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се действ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дробям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озер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йка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6" name="" descr="На островах Байкала выводится множество птенцов(4)"/>
          <p:cNvPicPr/>
          <p:nvPr/>
        </p:nvPicPr>
        <p:blipFill>
          <a:blip r:embed="rId2"/>
          <a:stretch/>
        </p:blipFill>
        <p:spPr>
          <a:xfrm>
            <a:off x="250920" y="4437000"/>
            <a:ext cx="2160360" cy="2087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Предположительный маршрут трубопровода Ковыкта-Китай(3)"/>
          <p:cNvPicPr/>
          <p:nvPr/>
        </p:nvPicPr>
        <p:blipFill>
          <a:blip r:embed="rId3"/>
          <a:stretch/>
        </p:blipFill>
        <p:spPr>
          <a:xfrm>
            <a:off x="6227640" y="4111560"/>
            <a:ext cx="291636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00000" y="760320"/>
            <a:ext cx="6912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Байкал зимой (фото из личного архива И.И.Журавковой)"/>
          <p:cNvPicPr/>
          <p:nvPr/>
        </p:nvPicPr>
        <p:blipFill>
          <a:blip r:embed="rId2"/>
          <a:stretch/>
        </p:blipFill>
        <p:spPr>
          <a:xfrm>
            <a:off x="971640" y="765000"/>
            <a:ext cx="6480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14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3,41 + 5,09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4 – 0,81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2,3 * 001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660,99 : 3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8,2 + 9,9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5,2 – 4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34,9 * 0,1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0384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0,125 * 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4,5 – 2 ½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14,9 : 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¾ * 4/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4 : 2/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3 ¼ + 0,2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4 + 0,84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4,2 – 3,5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54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 них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рек крупн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17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свыше 10 к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рек – до 8 к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еки – до 6 к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3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реки – до 4 к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4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реки – до 2 к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 стороны восточного берега в Байкал впадают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32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еки, с западного 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2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Нерпа"/>
          <p:cNvPicPr/>
          <p:nvPr/>
        </p:nvPicPr>
        <p:blipFill>
          <a:blip r:embed="rId2"/>
          <a:stretch/>
        </p:blipFill>
        <p:spPr>
          <a:xfrm>
            <a:off x="4932360" y="1557360"/>
            <a:ext cx="36925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500"/>
                            </p:stCondLst>
                            <p:childTnLst>
                              <p:par>
                                <p:cTn id="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Кроссворд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ношение пройденного пути ко времени дви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исло, стоящее над дробной чер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дин из компонентов де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дна сотая часть чис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диница измерения уг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Ветер сарма в разгаре (5)"/>
          <p:cNvPicPr/>
          <p:nvPr/>
        </p:nvPicPr>
        <p:blipFill>
          <a:blip r:embed="rId2"/>
          <a:stretch/>
        </p:blipFill>
        <p:spPr>
          <a:xfrm>
            <a:off x="1116000" y="692280"/>
            <a:ext cx="6192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Объемы сточных вод области, сбрасываемые стационарными источниками в естественные водоемы и их структура(в %) (6)"/>
          <p:cNvPicPr/>
          <p:nvPr/>
        </p:nvPicPr>
        <p:blipFill>
          <a:blip r:embed="rId2"/>
          <a:stretch/>
        </p:blipFill>
        <p:spPr>
          <a:xfrm>
            <a:off x="250920" y="692280"/>
            <a:ext cx="8569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9:42:29Z</dcterms:created>
  <dc:creator>USER</dc:creator>
  <dc:description/>
  <dc:language>en-US</dc:language>
  <cp:lastModifiedBy>USER</cp:lastModifiedBy>
  <dcterms:modified xsi:type="dcterms:W3CDTF">2006-01-23T17:07:51Z</dcterms:modified>
  <cp:revision>10</cp:revision>
  <dc:subject/>
  <dc:title>Слайд 1</dc:title>
</cp:coreProperties>
</file>