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67CE-D10A-4B89-9BD5-3C70ED6FB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FA2D-6575-42FA-9AC8-19637CE9E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7999-4289-446C-849F-63CDA8BFC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ие дома, интернаты (в тылу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5B61-32E7-4BCD-84C1-F6D74C7B2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94BD-E9E0-4183-B0EF-853D7AFE1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F88-895A-49F8-8E20-34166BBB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A62-AED1-4C86-8F3E-727AAC97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DFE-2510-4C2F-A058-3BEEFA34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D1B-C29E-4C9B-BAE3-A3D34662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EF7-676A-4251-B47F-62319B13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F9A-5395-4F93-BFB2-49D3657D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3F4-961B-4AAD-AE73-D24DD9ED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49B-2874-4CFC-95B6-4E1BC3AE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CDA-1560-41DE-8767-901E39AB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0C3-BD3A-4577-86F4-3A7357EB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233-B9D0-4133-AC00-B194297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441-8F87-4ACA-840B-773AC1D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B8B7-2927-4513-804F-C0BFBCA5E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eep4u.ru/imgs/b/080509/62/62e0e34983ceb16229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s://ru.wikipedia.org/wiki/&#1058;&#1088;&#1077;&#1090;&#1080;&#1081;_&#1088;&#1077;&#1081;&#1093;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80880" y="0"/>
            <a:ext cx="7543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ЕТИ и ВО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  75-летию Победы в Великой Отечественной Войн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28600" y="4038480"/>
            <a:ext cx="82296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3c6"/>
                </a:solidFill>
                <a:latin typeface="Arial"/>
              </a:rPr>
              <a:t>Внеурочное за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антинова Людмила Александровна, учителя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кавина Алла Юрьевна,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казён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елеховск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Большелугская средняя школа №8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" descr="https://pbs.twimg.com/media/EPXQ04SWkAEqQx8.jpg"/>
          <p:cNvPicPr/>
          <p:nvPr/>
        </p:nvPicPr>
        <p:blipFill>
          <a:blip r:embed="rId3"/>
          <a:stretch/>
        </p:blipFill>
        <p:spPr>
          <a:xfrm>
            <a:off x="685800" y="0"/>
            <a:ext cx="5221440" cy="39736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5" descr="https://avatars.mds.yandex.net/get-zen_doc/1567788/pub_5db0468a06cc4600b034e254_5db04de14e057700b17c9a87/scale_1200"/>
          <p:cNvPicPr/>
          <p:nvPr/>
        </p:nvPicPr>
        <p:blipFill>
          <a:blip r:embed="rId4"/>
          <a:stretch/>
        </p:blipFill>
        <p:spPr>
          <a:xfrm rot="177600">
            <a:off x="4105080" y="3303360"/>
            <a:ext cx="495288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http://victory.rusarchives.ru/sites/default/files/1432_234987426_big.jpg"/>
          <p:cNvPicPr/>
          <p:nvPr/>
        </p:nvPicPr>
        <p:blipFill>
          <a:blip r:embed="rId5"/>
          <a:stretch/>
        </p:blipFill>
        <p:spPr>
          <a:xfrm rot="21030600">
            <a:off x="258840" y="33825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0231"/>
          <p:cNvPicPr/>
          <p:nvPr/>
        </p:nvPicPr>
        <p:blipFill>
          <a:blip r:embed="rId6"/>
          <a:srcRect l="26753" t="0" r="25484" b="2461"/>
          <a:stretch/>
        </p:blipFill>
        <p:spPr>
          <a:xfrm>
            <a:off x="6324480" y="0"/>
            <a:ext cx="215604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Нашивка остарбайтера. "/>
          <p:cNvPicPr/>
          <p:nvPr/>
        </p:nvPicPr>
        <p:blipFill>
          <a:blip r:embed="rId7"/>
          <a:stretch/>
        </p:blipFill>
        <p:spPr>
          <a:xfrm>
            <a:off x="3200400" y="5334120"/>
            <a:ext cx="121932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едетские» лагер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свенц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аха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йдане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хенваль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аласпил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4191120"/>
            <a:ext cx="601992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Группа детей, освобожденных из концлагеря Освенцим. Польша. 02.1945г.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4191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Дети в концентрационных лагерях"/>
          <p:cNvPicPr/>
          <p:nvPr/>
        </p:nvPicPr>
        <p:blipFill>
          <a:blip r:embed="rId4"/>
          <a:srcRect l="26555" t="0" r="20266" b="6092"/>
          <a:stretch/>
        </p:blipFill>
        <p:spPr>
          <a:xfrm>
            <a:off x="6019920" y="4191120"/>
            <a:ext cx="3124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лолетние узники –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ши земля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5" descr="Image0001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3352680" y="1523880"/>
            <a:ext cx="2590920" cy="30481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108" name="Рисунок 6" descr="Image0004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6400800" y="1447920"/>
            <a:ext cx="2567160" cy="34621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109" name="Рисунок 7" descr="Image0005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228600" y="1371600"/>
            <a:ext cx="2755800" cy="3481560"/>
          </a:xfrm>
          <a:prstGeom prst="rect">
            <a:avLst/>
          </a:prstGeom>
          <a:ln w="22320">
            <a:solidFill>
              <a:srgbClr val="0066ff"/>
            </a:solidFill>
            <a:miter/>
          </a:ln>
        </p:spPr>
      </p:pic>
      <p:pic>
        <p:nvPicPr>
          <p:cNvPr id="110" name="Рисунок 8" descr="D:\Все ФОТО\ФОТО - 2015\Фотографии 2015\фото Малолетние узники\DSC_0747.JPG"/>
          <p:cNvPicPr/>
          <p:nvPr/>
        </p:nvPicPr>
        <p:blipFill>
          <a:blip r:embed="rId6"/>
          <a:srcRect l="54172" t="27847" r="10345" b="0"/>
          <a:stretch/>
        </p:blipFill>
        <p:spPr>
          <a:xfrm rot="21192000">
            <a:off x="1528920" y="3900240"/>
            <a:ext cx="2514600" cy="2819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" descr="D:\Все ФОТО\ФОТО - 2015\Фотографии 2015\фото Малолетние узники\DSC_0737.JPG"/>
          <p:cNvPicPr/>
          <p:nvPr/>
        </p:nvPicPr>
        <p:blipFill>
          <a:blip r:embed="rId7"/>
          <a:srcRect l="13684" t="18356" r="22891" b="340"/>
          <a:stretch/>
        </p:blipFill>
        <p:spPr>
          <a:xfrm rot="342600">
            <a:off x="4766760" y="4076280"/>
            <a:ext cx="3962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-main-pic" descr="Картинка 83 из 377185"/>
          <p:cNvPicPr/>
          <p:nvPr/>
        </p:nvPicPr>
        <p:blipFill>
          <a:blip r:embed="rId1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Нам жизнь дана для ПАМЯТ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-main-pic" descr="Картинка 83 из 377185"/>
          <p:cNvPicPr/>
          <p:nvPr/>
        </p:nvPicPr>
        <p:blipFill>
          <a:blip r:embed="rId1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м жизнь дана для памя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005"/>
          <p:cNvPicPr/>
          <p:nvPr/>
        </p:nvPicPr>
        <p:blipFill>
          <a:blip r:embed="rId2"/>
          <a:stretch/>
        </p:blipFill>
        <p:spPr>
          <a:xfrm>
            <a:off x="380880" y="12193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0002"/>
          <p:cNvPicPr/>
          <p:nvPr/>
        </p:nvPicPr>
        <p:blipFill>
          <a:blip r:embed="rId3"/>
          <a:stretch/>
        </p:blipFill>
        <p:spPr>
          <a:xfrm>
            <a:off x="4800600" y="1219320"/>
            <a:ext cx="3990960" cy="306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9" name="Picture 4" descr="2008"/>
          <p:cNvPicPr/>
          <p:nvPr/>
        </p:nvPicPr>
        <p:blipFill>
          <a:blip r:embed="rId4"/>
          <a:stretch/>
        </p:blipFill>
        <p:spPr>
          <a:xfrm rot="324600">
            <a:off x="4765680" y="4016520"/>
            <a:ext cx="3809880" cy="26668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20" name="Picture 4" descr="0231"/>
          <p:cNvPicPr/>
          <p:nvPr/>
        </p:nvPicPr>
        <p:blipFill>
          <a:blip r:embed="rId5"/>
          <a:srcRect l="28673" t="36811" r="25484" b="4291"/>
          <a:stretch/>
        </p:blipFill>
        <p:spPr>
          <a:xfrm rot="21239400">
            <a:off x="1066320" y="39625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i-main-pic" descr="Картинка 163 из 377185"/>
          <p:cNvPicPr/>
          <p:nvPr/>
        </p:nvPicPr>
        <p:blipFill>
          <a:blip r:embed="rId6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-main-pic" descr="Картинка 83 из 377185"/>
          <p:cNvPicPr/>
          <p:nvPr/>
        </p:nvPicPr>
        <p:blipFill>
          <a:blip r:embed="rId1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хорошо проснуться на рас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хорошо, что ночью снятся с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хорошо, что кружится план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хорошо на свете без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хорошо влюбляться и сме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хорошо порою погрус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хорошо встречаться и прощ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осто хорошо на свете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143000" y="53341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Я желаю, чтобы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-main-pic" descr="Картинка 83 из 377185"/>
          <p:cNvPicPr/>
          <p:nvPr/>
        </p:nvPicPr>
        <p:blipFill>
          <a:blip r:embed="rId1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нятии использованы материал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Валентины Ивановны Кокшаровой «Непокоренные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отворения, написанные бывшими малолетними узниками фашистских концентрационных лаг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Короткие поздравления стихи с рождением ребенка, оригинальные и легко запоминающиеся. Стихи смс пожелания с новорожденным с рождением. Много удивительно теплых стихов."/>
          <p:cNvPicPr/>
          <p:nvPr/>
        </p:nvPicPr>
        <p:blipFill>
          <a:blip r:embed="rId4"/>
          <a:stretch/>
        </p:blipFill>
        <p:spPr>
          <a:xfrm rot="791400">
            <a:off x="4940280" y="392040"/>
            <a:ext cx="3844800" cy="358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Развитие ребенка"/>
          <p:cNvPicPr/>
          <p:nvPr/>
        </p:nvPicPr>
        <p:blipFill>
          <a:blip r:embed="rId5"/>
          <a:stretch/>
        </p:blipFill>
        <p:spPr>
          <a:xfrm>
            <a:off x="4462560" y="3932280"/>
            <a:ext cx="4681440" cy="2925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Уже не младенец: что должен уметь делать ребенок в пять месяцев"/>
          <p:cNvPicPr/>
          <p:nvPr/>
        </p:nvPicPr>
        <p:blipFill>
          <a:blip r:embed="rId6"/>
          <a:stretch/>
        </p:blipFill>
        <p:spPr>
          <a:xfrm rot="21372000">
            <a:off x="93240" y="3497400"/>
            <a:ext cx="447372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s://www.photoforum.ru/f/photo/000/014/14672_99.jpg"/>
          <p:cNvPicPr/>
          <p:nvPr/>
        </p:nvPicPr>
        <p:blipFill>
          <a:blip r:embed="rId7"/>
          <a:stretch/>
        </p:blipFill>
        <p:spPr>
          <a:xfrm rot="20202000">
            <a:off x="847800" y="597960"/>
            <a:ext cx="246060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478"/>
          <p:cNvPicPr/>
          <p:nvPr/>
        </p:nvPicPr>
        <p:blipFill>
          <a:blip r:embed="rId1"/>
          <a:stretch/>
        </p:blipFill>
        <p:spPr>
          <a:xfrm>
            <a:off x="-217440" y="27000"/>
            <a:ext cx="936144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ем были заняты дети, как пережили эту войн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518148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правлены в детские дома, интернаты (в тыл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https://www.icrc.org/sites/default/files/styles/document_photo_gallery_detail_file/public/document/image_list/150-y-children-02-hist-0106.jpg?itok=8PxqUIoE"/>
          <p:cNvPicPr/>
          <p:nvPr/>
        </p:nvPicPr>
        <p:blipFill>
          <a:blip r:embed="rId3"/>
          <a:stretch/>
        </p:blipFill>
        <p:spPr>
          <a:xfrm>
            <a:off x="228600" y="16002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7"/>
          <p:cNvSpPr/>
          <p:nvPr/>
        </p:nvSpPr>
        <p:spPr>
          <a:xfrm>
            <a:off x="434340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ли наравне с взрослыми на заводах и фабри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8" descr="http://topwar.ru/uploads/posts/2011-10/1318183356_01.jpg"/>
          <p:cNvPicPr/>
          <p:nvPr/>
        </p:nvPicPr>
        <p:blipFill>
          <a:blip r:embed="rId4"/>
          <a:stretch/>
        </p:blipFill>
        <p:spPr>
          <a:xfrm>
            <a:off x="4765680" y="1600200"/>
            <a:ext cx="422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ем были заняты дети, как пережили эту войн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http://topwar.ru/uploads/posts/2011-10/1318183383_02.jpg"/>
          <p:cNvPicPr/>
          <p:nvPr/>
        </p:nvPicPr>
        <p:blipFill>
          <a:blip r:embed="rId3"/>
          <a:stretch/>
        </p:blipFill>
        <p:spPr>
          <a:xfrm>
            <a:off x="228600" y="1523880"/>
            <a:ext cx="5046840" cy="355284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4" descr="Детство, растоптанное войной"/>
          <p:cNvPicPr/>
          <p:nvPr/>
        </p:nvPicPr>
        <p:blipFill>
          <a:blip r:embed="rId4"/>
          <a:stretch/>
        </p:blipFill>
        <p:spPr>
          <a:xfrm>
            <a:off x="5334120" y="1447920"/>
            <a:ext cx="3490920" cy="5181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393120" y="525780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ходили в партизанские от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755080" y="63244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евали на фронт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ЕТИ и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Малолетние узники фашиз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и задач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знать кто такие малолетние узники и их судь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 о малолетних узни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ать о малолетних узниках однокласс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ть книгу Памяти о малолетних узни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0658"/>
          <p:cNvPicPr/>
          <p:nvPr/>
        </p:nvPicPr>
        <p:blipFill>
          <a:blip r:embed="rId3"/>
          <a:srcRect l="0" t="16253" r="0" b="16621"/>
          <a:stretch/>
        </p:blipFill>
        <p:spPr>
          <a:xfrm>
            <a:off x="304920" y="152280"/>
            <a:ext cx="6248160" cy="350532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Дети Бухенвальда"/>
          <p:cNvPicPr/>
          <p:nvPr/>
        </p:nvPicPr>
        <p:blipFill>
          <a:blip r:embed="rId4"/>
          <a:stretch/>
        </p:blipFill>
        <p:spPr>
          <a:xfrm>
            <a:off x="3581280" y="3274920"/>
            <a:ext cx="5388120" cy="358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0005"/>
          <p:cNvPicPr/>
          <p:nvPr/>
        </p:nvPicPr>
        <p:blipFill>
          <a:blip r:embed="rId5"/>
          <a:stretch/>
        </p:blipFill>
        <p:spPr>
          <a:xfrm rot="20998800">
            <a:off x="172800" y="4087800"/>
            <a:ext cx="338616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https://tunnel.ru/media/images/2016-09/post_comment/717664/at192214184.jpg"/>
          <p:cNvPicPr/>
          <p:nvPr/>
        </p:nvPicPr>
        <p:blipFill>
          <a:blip r:embed="rId6"/>
          <a:stretch/>
        </p:blipFill>
        <p:spPr>
          <a:xfrm rot="589800">
            <a:off x="6401880" y="907560"/>
            <a:ext cx="27799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-main-pic" descr="Картинка 83 из 377185">
            <a:hlinkClick r:id="rId1"/>
          </p:cNvPr>
          <p:cNvPicPr/>
          <p:nvPr/>
        </p:nvPicPr>
        <p:blipFill>
          <a:blip r:embed="rId2"/>
          <a:srcRect l="315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ОСТАРБАЙТЕРЫ»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ли рабы Третьего рей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ботник с Восто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— определение, принятое в </a:t>
            </a:r>
            <a:r>
              <a:rPr b="0" lang="ru-RU" sz="3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Герман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для обозначения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юдей, вывезенных из Восточной Европы с целью использования в качестве бесплатной или низкооплачиваемой рабочей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4" descr="Нашивка остарбайтера. "/>
          <p:cNvPicPr/>
          <p:nvPr/>
        </p:nvPicPr>
        <p:blipFill>
          <a:blip r:embed="rId4"/>
          <a:stretch/>
        </p:blipFill>
        <p:spPr>
          <a:xfrm>
            <a:off x="7162920" y="5029200"/>
            <a:ext cx="1600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R</cp:lastModifiedBy>
  <dcterms:modified xsi:type="dcterms:W3CDTF">2020-05-05T12:41:17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