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9.wmf" ContentType="image/x-wmf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9F58-CC03-4CB5-A41B-EAB43B7426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DA4F-CF1A-400D-990F-34E5D4FE8E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5D9A-F1F6-4537-8906-E255656A0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0B08-8541-403F-B501-CA738CB955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6934-2100-4A57-B935-83EB52BF17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4201-061B-4D59-BEAE-196997C8A9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6DD4-E9C6-4916-B8C2-DB2C5BEB18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B3D0-2D34-4467-9C3E-E2B6843177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B491-C189-41A0-A7E9-209D33ED48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792E-143A-4F48-8996-C36EF2D7BF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1893-C08A-4458-89F1-A0F9BE4E6F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10D4-E7F5-41E1-9409-6763973CE6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8A7C-BA82-4ADB-B1D5-A50F5A918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A00D-4255-4345-BBC6-8F49F6BE6F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6697-5F9F-4F33-929C-0A0EB24BC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77C-2249-4691-B964-8B46694A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310-8B64-41CE-8DE8-EA5236DA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30B-3624-4440-B36E-1BE457B6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D03-2812-497B-B595-EE075B84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AFD-1716-42BA-80BB-96DF7634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793D-530B-488F-8252-B85D4CC8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5DD-824B-468A-9FBC-72F329CD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7C9-6258-4CA9-9564-5EC0EF80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592-2850-4205-A64A-F2F1E326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EF2-B46A-4C53-91C9-6CC76D6F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5B1-7254-411C-9555-7A9D2E82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B19-DE0E-47D5-8CEE-A762B75C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A1F4-6691-44AF-9A79-9BB5225E8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1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de.wikipedia.org/wiki/Zwerg_(Mythologie)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900000" y="1844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INE  ROMANTISCHE RHEINRE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84360" y="2492280"/>
            <a:ext cx="845964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755640" y="328464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755640" y="328464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-main-pic" descr="Картинка 20 из 166"/>
          <p:cNvPicPr/>
          <p:nvPr/>
        </p:nvPicPr>
        <p:blipFill>
          <a:blip r:embed="rId1"/>
          <a:stretch/>
        </p:blipFill>
        <p:spPr>
          <a:xfrm>
            <a:off x="250920" y="3716280"/>
            <a:ext cx="87138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Loreley – Wahrzeichen der Rheinromant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 (531x700, 243Kb)"/>
          <p:cNvPicPr/>
          <p:nvPr/>
        </p:nvPicPr>
        <p:blipFill>
          <a:blip r:embed="rId1"/>
          <a:stretch/>
        </p:blipFill>
        <p:spPr>
          <a:xfrm>
            <a:off x="826920" y="1484280"/>
            <a:ext cx="3672000" cy="4815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Картинка 116 из 2192"/>
          <p:cNvPicPr/>
          <p:nvPr/>
        </p:nvPicPr>
        <p:blipFill>
          <a:blip r:embed="rId2"/>
          <a:stretch/>
        </p:blipFill>
        <p:spPr>
          <a:xfrm>
            <a:off x="4788000" y="4581360"/>
            <a:ext cx="4140000" cy="2014560"/>
          </a:xfrm>
          <a:prstGeom prst="rect">
            <a:avLst/>
          </a:prstGeom>
          <a:ln w="0">
            <a:noFill/>
          </a:ln>
        </p:spPr>
      </p:pic>
      <p:pic>
        <p:nvPicPr>
          <p:cNvPr id="94" name="Loreley.wma" descr=""/>
          <p:cNvPicPr/>
          <p:nvPr/>
        </p:nvPicPr>
        <p:blipFill>
          <a:blip r:embed="rId3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Картинка 128 из 2192"/>
          <p:cNvPicPr/>
          <p:nvPr/>
        </p:nvPicPr>
        <p:blipFill>
          <a:blip r:embed="rId4"/>
          <a:stretch/>
        </p:blipFill>
        <p:spPr>
          <a:xfrm>
            <a:off x="4932360" y="1700280"/>
            <a:ext cx="3781440" cy="269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9565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ubach und die Marksburg – ein ehmaliges Gefängni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Браубах, Марксбург © DZT, G. Kilian"/>
          <p:cNvPicPr/>
          <p:nvPr/>
        </p:nvPicPr>
        <p:blipFill>
          <a:blip r:embed="rId1"/>
          <a:stretch/>
        </p:blipFill>
        <p:spPr>
          <a:xfrm>
            <a:off x="6084720" y="1268280"/>
            <a:ext cx="2376720" cy="259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Экспозиция обмундирования и вооружения воинов разных эпох"/>
          <p:cNvPicPr/>
          <p:nvPr/>
        </p:nvPicPr>
        <p:blipFill>
          <a:blip r:embed="rId2"/>
          <a:stretch/>
        </p:blipFill>
        <p:spPr>
          <a:xfrm>
            <a:off x="4356000" y="4292640"/>
            <a:ext cx="2160720" cy="2303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Выставка орудий пыток"/>
          <p:cNvPicPr/>
          <p:nvPr/>
        </p:nvPicPr>
        <p:blipFill>
          <a:blip r:embed="rId3"/>
          <a:stretch/>
        </p:blipFill>
        <p:spPr>
          <a:xfrm>
            <a:off x="6672240" y="4076640"/>
            <a:ext cx="2471760" cy="2592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395280" y="508464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i-main-pic" descr="Картинка 9 из 67"/>
          <p:cNvPicPr/>
          <p:nvPr/>
        </p:nvPicPr>
        <p:blipFill>
          <a:blip r:embed="rId4"/>
          <a:stretch/>
        </p:blipFill>
        <p:spPr>
          <a:xfrm>
            <a:off x="0" y="1916280"/>
            <a:ext cx="4129200" cy="468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blenz und seine Fest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1047772"/>
          <p:cNvPicPr/>
          <p:nvPr/>
        </p:nvPicPr>
        <p:blipFill>
          <a:blip r:embed="rId1"/>
          <a:stretch/>
        </p:blipFill>
        <p:spPr>
          <a:xfrm>
            <a:off x="324000" y="1700280"/>
            <a:ext cx="4176720" cy="496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6070018"/>
          <p:cNvPicPr/>
          <p:nvPr/>
        </p:nvPicPr>
        <p:blipFill>
          <a:blip r:embed="rId2"/>
          <a:stretch/>
        </p:blipFill>
        <p:spPr>
          <a:xfrm>
            <a:off x="4788000" y="1773360"/>
            <a:ext cx="3960720" cy="4895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5148360" y="4941720"/>
            <a:ext cx="318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önigswinter und Bo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924776"/>
          <p:cNvPicPr/>
          <p:nvPr/>
        </p:nvPicPr>
        <p:blipFill>
          <a:blip r:embed="rId1"/>
          <a:stretch/>
        </p:blipFill>
        <p:spPr>
          <a:xfrm>
            <a:off x="101520" y="2133720"/>
            <a:ext cx="3822840" cy="3816360"/>
          </a:xfrm>
          <a:prstGeom prst="rect">
            <a:avLst/>
          </a:prstGeom>
          <a:ln w="0">
            <a:noFill/>
          </a:ln>
        </p:spPr>
      </p:pic>
      <p:pic>
        <p:nvPicPr>
          <p:cNvPr id="108" name="imgb" descr="917"/>
          <p:cNvPicPr/>
          <p:nvPr/>
        </p:nvPicPr>
        <p:blipFill>
          <a:blip r:embed="rId2"/>
          <a:stretch/>
        </p:blipFill>
        <p:spPr>
          <a:xfrm>
            <a:off x="4356000" y="1268280"/>
            <a:ext cx="4176720" cy="2808360"/>
          </a:xfrm>
          <a:prstGeom prst="rect">
            <a:avLst/>
          </a:prstGeom>
          <a:ln w="0">
            <a:noFill/>
          </a:ln>
        </p:spPr>
      </p:pic>
      <p:pic>
        <p:nvPicPr>
          <p:cNvPr id="109" name="imgb" descr="z269"/>
          <p:cNvPicPr/>
          <p:nvPr/>
        </p:nvPicPr>
        <p:blipFill>
          <a:blip r:embed="rId3"/>
          <a:stretch/>
        </p:blipFill>
        <p:spPr>
          <a:xfrm>
            <a:off x="4140360" y="4149720"/>
            <a:ext cx="4824360" cy="244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395280" y="436572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öln – “Rom des Norde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gb" descr="a815"/>
          <p:cNvPicPr/>
          <p:nvPr/>
        </p:nvPicPr>
        <p:blipFill>
          <a:blip r:embed="rId1"/>
          <a:stretch/>
        </p:blipFill>
        <p:spPr>
          <a:xfrm>
            <a:off x="250920" y="1989000"/>
            <a:ext cx="5329080" cy="4464360"/>
          </a:xfrm>
          <a:prstGeom prst="rect">
            <a:avLst/>
          </a:prstGeom>
          <a:ln w="0">
            <a:noFill/>
          </a:ln>
        </p:spPr>
      </p:pic>
      <p:pic>
        <p:nvPicPr>
          <p:cNvPr id="113" name="imgb" descr="kel_3"/>
          <p:cNvPicPr/>
          <p:nvPr/>
        </p:nvPicPr>
        <p:blipFill>
          <a:blip r:embed="rId2"/>
          <a:stretch/>
        </p:blipFill>
        <p:spPr>
          <a:xfrm>
            <a:off x="6227640" y="1268280"/>
            <a:ext cx="267192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Церковь Remigiuskirche, где играл на органе юный Бетховен"/>
          <p:cNvPicPr/>
          <p:nvPr/>
        </p:nvPicPr>
        <p:blipFill>
          <a:blip r:embed="rId3"/>
          <a:stretch/>
        </p:blipFill>
        <p:spPr>
          <a:xfrm>
            <a:off x="7596360" y="3933720"/>
            <a:ext cx="1342800" cy="259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 []"/>
          <p:cNvPicPr/>
          <p:nvPr/>
        </p:nvPicPr>
        <p:blipFill>
          <a:blip r:embed="rId4"/>
          <a:stretch/>
        </p:blipFill>
        <p:spPr>
          <a:xfrm>
            <a:off x="5724360" y="3933720"/>
            <a:ext cx="173376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GRAP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ографический энциклопедический словарь – М.: Лист, 19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deker K. “Eine Rheinreise heute” – Bonn: Gilde-Buchhandlung Carl Kayser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rghard Herrmann, Kapser Cordula „Linz am Rhein. Geschichte der Stadt“, Bohlau Verlag, Koln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Rhein in Sagen, Mythen und Marchen – Hamburg, Rhein-Elbe-Verlag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hein-fuhrer – Heidelberg, Konig- Verlag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vmm-weltkulturerbe.d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rheinreise.d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weltreport.de/germany/rheinreise/print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loreley-linie.loreleyvalley.com/index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rheinreise.de/rheinburge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de.wikipedia.org/wiki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germany.openup.ru/excurs.shtml rh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swisshippo.by.ru/swiss/rhein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germany portal.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weltbericht.de/europa/deutschland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468360" y="907920"/>
            <a:ext cx="8058240" cy="421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Vielen Dank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ür Ihre Aufmerksamke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Rhein-Karte.png"/>
          <p:cNvPicPr/>
          <p:nvPr/>
        </p:nvPicPr>
        <p:blipFill>
          <a:blip r:embed="rId1"/>
          <a:stretch/>
        </p:blipFill>
        <p:spPr>
          <a:xfrm>
            <a:off x="0" y="0"/>
            <a:ext cx="50547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Картинка 26 из 1653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316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1924776"/>
          <p:cNvPicPr/>
          <p:nvPr/>
        </p:nvPicPr>
        <p:blipFill>
          <a:blip r:embed="rId3"/>
          <a:stretch/>
        </p:blipFill>
        <p:spPr>
          <a:xfrm>
            <a:off x="7020000" y="3429000"/>
            <a:ext cx="1950840" cy="234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Картинка 114 из 2192"/>
          <p:cNvPicPr/>
          <p:nvPr/>
        </p:nvPicPr>
        <p:blipFill>
          <a:blip r:embed="rId4"/>
          <a:stretch/>
        </p:blipFill>
        <p:spPr>
          <a:xfrm>
            <a:off x="5219640" y="3933720"/>
            <a:ext cx="1656000" cy="223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17808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sere Reisero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Rhein-Karte"/>
          <p:cNvPicPr/>
          <p:nvPr/>
        </p:nvPicPr>
        <p:blipFill>
          <a:blip r:embed="rId1"/>
          <a:stretch/>
        </p:blipFill>
        <p:spPr>
          <a:xfrm>
            <a:off x="4140360" y="68400"/>
            <a:ext cx="4840200" cy="6789600"/>
          </a:xfrm>
          <a:prstGeom prst="rect">
            <a:avLst/>
          </a:prstGeom>
          <a:ln w="0">
            <a:noFill/>
          </a:ln>
        </p:spPr>
      </p:pic>
      <p:sp>
        <p:nvSpPr>
          <p:cNvPr id="60" name="Line 7"/>
          <p:cNvSpPr/>
          <p:nvPr/>
        </p:nvSpPr>
        <p:spPr>
          <a:xfrm flipV="1">
            <a:off x="7164360" y="3284280"/>
            <a:ext cx="576360" cy="2377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7380000" y="3284640"/>
            <a:ext cx="360360" cy="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0"/>
          <p:cNvSpPr/>
          <p:nvPr/>
        </p:nvSpPr>
        <p:spPr>
          <a:xfrm flipH="1" flipV="1">
            <a:off x="7164360" y="2924280"/>
            <a:ext cx="287280" cy="433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1"/>
          <p:cNvSpPr/>
          <p:nvPr/>
        </p:nvSpPr>
        <p:spPr>
          <a:xfrm flipH="1" flipV="1">
            <a:off x="6803640" y="2421000"/>
            <a:ext cx="36036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2"/>
          <p:cNvSpPr/>
          <p:nvPr/>
        </p:nvSpPr>
        <p:spPr>
          <a:xfrm flipH="1" flipV="1">
            <a:off x="6732720" y="2276280"/>
            <a:ext cx="71280" cy="14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imgb" descr="ph_gorki"/>
          <p:cNvPicPr/>
          <p:nvPr/>
        </p:nvPicPr>
        <p:blipFill>
          <a:blip r:embed="rId2"/>
          <a:stretch/>
        </p:blipFill>
        <p:spPr>
          <a:xfrm>
            <a:off x="179280" y="2708280"/>
            <a:ext cx="3787920" cy="27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MCj04046770000[1]"/>
          <p:cNvPicPr/>
          <p:nvPr/>
        </p:nvPicPr>
        <p:blipFill>
          <a:blip r:embed="rId3"/>
          <a:stretch/>
        </p:blipFill>
        <p:spPr>
          <a:xfrm>
            <a:off x="6372360" y="4941720"/>
            <a:ext cx="720720" cy="71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7.30805E-007 C 0.00486 -0.00208 0.00868 -0.00416 0.01094 -0.01087 C 0.01215 -0.01434 0.01372 -0.02174 0.01372 -0.02174 C 0.01181 -0.03631 0.0066 -0.04093 0.01372 -0.05458 C 0.0158 -0.06267 0.01389 -0.06637 0.02049 -0.06938 C 0.02778 -0.09806 0.01927 -0.06267 0.02465 -0.09112 C 0.02535 -0.09482 0.02743 -0.10222 0.02743 -0.10222 C 0.02917 -0.11795 0.02951 -0.13414 0.03837 -0.14593 C 0.04254 -0.17253 0.04011 -0.19982 0.04514 -0.22618 C 0.04636 -0.23242 0.0474 -0.23867 0.04931 -0.24445 C 0.05087 -0.24954 0.05486 -0.25902 0.05486 -0.25902 C 0.05608 -0.26596 0.05781 -0.27475 0.06024 -0.28099 C 0.06129 -0.28377 0.06667 -0.28816 0.06441 -0.28816 C 0.06111 -0.28816 0.05608 -0.28099 0.05608 -0.28099 C 0.05087 -0.28585 0.0474 -0.28654 0.04115 -0.28816 C 0.04028 -0.29001 0.03958 -0.29209 0.03837 -0.29371 C 0.03715 -0.29533 0.03507 -0.29556 0.0342 -0.29741 C 0.03316 -0.29949 0.03368 -0.3025 0.03281 -0.30458 C 0.03004 -0.31105 0.02813 -0.31036 0.02326 -0.31198 C 0.01806 -0.31545 0.01302 -0.31684 0.00816 -0.321 C 0.00191 -0.33395 0.00556 -0.32956 -0.00139 -0.3358 C -0.00608 -0.34482 -0.0033 -0.33927 -0.00955 -0.35222 C -0.01111 -0.35546 -0.01146 -0.35939 -0.01233 -0.36309 C -0.01354 -0.36772 -0.0217 -0.37558 -0.02465 -0.37766 C -0.02969 -0.39084 -0.03611 -0.40287 -0.04114 -0.41605 C -0.0434 -0.42206 -0.04271 -0.43039 -0.04514 -0.43617 C -0.04687 -0.44033 -0.05347 -0.44241 -0.05347 -0.44704 E">
                                      <p:cBhvr>
                                        <p:cTn id="37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Rheinfall 08-2007 Panorama.jpg"/>
          <p:cNvPicPr/>
          <p:nvPr/>
        </p:nvPicPr>
        <p:blipFill>
          <a:blip r:embed="rId1"/>
          <a:stretch/>
        </p:blipFill>
        <p:spPr>
          <a:xfrm>
            <a:off x="468360" y="1268280"/>
            <a:ext cx="8229600" cy="5589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affhausen und sein Rhein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11280" y="522936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vodopady.MP3" descr=""/>
          <p:cNvPicPr/>
          <p:nvPr/>
        </p:nvPicPr>
        <p:blipFill>
          <a:blip r:embed="rId2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6919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z mit seinem Museum der Druckkun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Gutenberg Museum, Mainz"/>
          <p:cNvPicPr/>
          <p:nvPr/>
        </p:nvPicPr>
        <p:blipFill>
          <a:blip r:embed="rId1"/>
          <a:stretch/>
        </p:blipFill>
        <p:spPr>
          <a:xfrm>
            <a:off x="179280" y="1773360"/>
            <a:ext cx="5256360" cy="48956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4132080" y="3246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7" descr="File:Mainzer Dom vom Kreuzgang.jpg"/>
          <p:cNvPicPr/>
          <p:nvPr/>
        </p:nvPicPr>
        <p:blipFill>
          <a:blip r:embed="rId3"/>
          <a:stretch/>
        </p:blipFill>
        <p:spPr>
          <a:xfrm>
            <a:off x="5680080" y="1773360"/>
            <a:ext cx="3176640" cy="482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üdesheim mit seinen mittelalterischen Bur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The Germania monument, Rudesheim"/>
          <p:cNvPicPr/>
          <p:nvPr/>
        </p:nvPicPr>
        <p:blipFill>
          <a:blip r:embed="rId1"/>
          <a:stretch/>
        </p:blipFill>
        <p:spPr>
          <a:xfrm>
            <a:off x="6012000" y="115920"/>
            <a:ext cx="3132000" cy="4537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180px-Bingen_Basilika"/>
          <p:cNvPicPr/>
          <p:nvPr/>
        </p:nvPicPr>
        <p:blipFill>
          <a:blip r:embed="rId2"/>
          <a:stretch/>
        </p:blipFill>
        <p:spPr>
          <a:xfrm>
            <a:off x="4859280" y="4221000"/>
            <a:ext cx="1847880" cy="2637000"/>
          </a:xfrm>
          <a:prstGeom prst="rect">
            <a:avLst/>
          </a:prstGeom>
          <a:ln w="0">
            <a:noFill/>
          </a:ln>
        </p:spPr>
      </p:pic>
      <p:pic>
        <p:nvPicPr>
          <p:cNvPr id="78" name="i-main-pic" descr="Картинка 77 из 166"/>
          <p:cNvPicPr/>
          <p:nvPr/>
        </p:nvPicPr>
        <p:blipFill>
          <a:blip r:embed="rId3"/>
          <a:stretch/>
        </p:blipFill>
        <p:spPr>
          <a:xfrm>
            <a:off x="0" y="2125800"/>
            <a:ext cx="4932360" cy="473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gen und der Mäusetu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80px-Binger_M%C3%A4useturm"/>
          <p:cNvPicPr/>
          <p:nvPr/>
        </p:nvPicPr>
        <p:blipFill>
          <a:blip r:embed="rId1"/>
          <a:stretch/>
        </p:blipFill>
        <p:spPr>
          <a:xfrm>
            <a:off x="324000" y="1268280"/>
            <a:ext cx="4464000" cy="540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80px-Bingen_Burg_Klopp"/>
          <p:cNvPicPr/>
          <p:nvPr/>
        </p:nvPicPr>
        <p:blipFill>
          <a:blip r:embed="rId2"/>
          <a:stretch/>
        </p:blipFill>
        <p:spPr>
          <a:xfrm>
            <a:off x="4680000" y="2637000"/>
            <a:ext cx="4464000" cy="4032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076720" y="4675320"/>
            <a:ext cx="225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135840" y="4818240"/>
            <a:ext cx="102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Raubburgen Sooneck, Heimburg, Fürstenbe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rheinstein blooms"/>
          <p:cNvPicPr/>
          <p:nvPr/>
        </p:nvPicPr>
        <p:blipFill>
          <a:blip r:embed="rId1"/>
          <a:stretch/>
        </p:blipFill>
        <p:spPr>
          <a:xfrm>
            <a:off x="179280" y="907920"/>
            <a:ext cx="172728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Bacharach am Rhein, Burg Stahleck, Peterskirche, Marktturm,  Foto: � WHO, 13. Mai 1999"/>
          <p:cNvPicPr/>
          <p:nvPr/>
        </p:nvPicPr>
        <p:blipFill>
          <a:blip r:embed="rId2"/>
          <a:stretch/>
        </p:blipFill>
        <p:spPr>
          <a:xfrm>
            <a:off x="5219640" y="2276640"/>
            <a:ext cx="3924360" cy="42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Картинка 1 из 5"/>
          <p:cNvPicPr/>
          <p:nvPr/>
        </p:nvPicPr>
        <p:blipFill>
          <a:blip r:embed="rId3"/>
          <a:stretch/>
        </p:blipFill>
        <p:spPr>
          <a:xfrm>
            <a:off x="2050920" y="1557360"/>
            <a:ext cx="3024360" cy="344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Loreley – Wahrzeichen der Rheinromant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350px-Loreley_mit_tal_von_linker_rheinseite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824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1116000" y="4724280"/>
            <a:ext cx="138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6:03:25Z</dcterms:created>
  <dc:creator>1</dc:creator>
  <dc:description/>
  <dc:language>en-US</dc:language>
  <cp:lastModifiedBy>1</cp:lastModifiedBy>
  <dcterms:modified xsi:type="dcterms:W3CDTF">2017-07-17T06:17:52Z</dcterms:modified>
  <cp:revision>103</cp:revision>
  <dc:subject/>
  <dc:title>  ДЕПАРТАМЕНТ ОБРАЗОВАНИЯ г.МОСКВЫ ГОСУДАРСТВЕННОЕ ОБРАЗОВАТЕЛЬНОЕ УЧРЕЖДЕНИЕ ЦЕНТР ОБРАЗОВАНИЯ 1158  </dc:title>
</cp:coreProperties>
</file>