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6.jpeg" ContentType="image/jpeg"/>
  <Override PartName="/ppt/media/chimes.wav" ContentType="audio/x-wav"/>
  <Override PartName="/ppt/media/image16.jpeg" ContentType="image/jpeg"/>
  <Override PartName="/ppt/media/image2.jpeg" ContentType="image/jpeg"/>
  <Override PartName="/ppt/media/image23.jpeg" ContentType="image/jpeg"/>
  <Override PartName="/ppt/media/image28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E194-0D56-464A-93AA-7F99E436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95D-735C-4B8A-B1C1-2CF7ACE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2E3-BDF9-4193-A76F-016EB0CA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C5C-B4B1-48C2-8B61-6988022D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69C-3894-4C47-BAAB-AA39CF7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967-4B24-41BE-BB76-4B45D07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E08-9B2C-4C61-B482-4A40E7E5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8EB2-CC1B-436C-A523-15F0720A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12E-4FDB-4D4A-A02E-098BAFD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194-4D4A-42C0-8B8D-F80960F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74D-F49F-494D-85CB-FB316242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8D6-6904-454F-A56A-B949286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497d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0F9A-6352-4C84-A97A-0C94EC521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1"/>
          <a:srcRect l="21487" t="24250" r="40514" b="13627"/>
          <a:stretch/>
        </p:blipFill>
        <p:spPr>
          <a:xfrm>
            <a:off x="3929040" y="0"/>
            <a:ext cx="5214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F:\ЛОндон картинки\Трафальгарская площадь\trafalgar-square.jpg"/>
          <p:cNvPicPr/>
          <p:nvPr/>
        </p:nvPicPr>
        <p:blipFill>
          <a:blip r:embed="rId2"/>
          <a:stretch/>
        </p:blipFill>
        <p:spPr>
          <a:xfrm>
            <a:off x="0" y="3429000"/>
            <a:ext cx="5146560" cy="3429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:\ЛОндон картинки\тауэрский мост\tauerskij-most-06.jpg"/>
          <p:cNvPicPr/>
          <p:nvPr/>
        </p:nvPicPr>
        <p:blipFill>
          <a:blip r:embed="rId3"/>
          <a:stretch/>
        </p:blipFill>
        <p:spPr>
          <a:xfrm>
            <a:off x="0" y="0"/>
            <a:ext cx="5143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http://img.metro.co.uk/i/pix/2007/08/beefeater_450x308.jpg"/>
          <p:cNvPicPr/>
          <p:nvPr/>
        </p:nvPicPr>
        <p:blipFill>
          <a:blip r:embed="rId1"/>
          <a:srcRect l="10675" t="0" r="-689" b="0"/>
          <a:stretch/>
        </p:blipFill>
        <p:spPr>
          <a:xfrm>
            <a:off x="0" y="0"/>
            <a:ext cx="9215280" cy="7007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eefea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:\ЛОндон картинки\Трафальгарская площадь\trafalgar_square_london.jpg"/>
          <p:cNvPicPr/>
          <p:nvPr/>
        </p:nvPicPr>
        <p:blipFill>
          <a:blip r:embed="rId1"/>
          <a:srcRect l="10859" t="4546" r="16225" b="79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falgar      Squ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H:\ЛОндон картинки\тауэрский мост\r11bi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ower Bri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http://www.popfi.com/wp-content/uploads/madame-tussaud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dame Tussaud’s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:\ЛОндон картинки\Музей Мадам ТЮссо\11.jpg"/>
          <p:cNvPicPr/>
          <p:nvPr/>
        </p:nvPicPr>
        <p:blipFill>
          <a:blip r:embed="rId1"/>
          <a:srcRect l="2866" t="0" r="3250" b="0"/>
          <a:stretch/>
        </p:blipFill>
        <p:spPr>
          <a:xfrm>
            <a:off x="0" y="-52560"/>
            <a:ext cx="9358200" cy="691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dame Tussaud’s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H:\ЛОндон картинки\Музей телевидения\815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Museum of the Moving Im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:\ЛОндон картинки\Гайдпарк\1343131608469434_756x507.jpg"/>
          <p:cNvPicPr/>
          <p:nvPr/>
        </p:nvPicPr>
        <p:blipFill>
          <a:blip r:embed="rId1"/>
          <a:srcRect l="0" t="-90" r="-185" b="3126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e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http://london-sightseeing.net/wp-content/uploads/2010/06/regents-park-gardens-london.jpg"/>
          <p:cNvPicPr/>
          <p:nvPr/>
        </p:nvPicPr>
        <p:blipFill>
          <a:blip r:embed="rId1"/>
          <a:srcRect l="0" t="0" r="0" b="1789"/>
          <a:stretch/>
        </p:blipFill>
        <p:spPr>
          <a:xfrm>
            <a:off x="0" y="0"/>
            <a:ext cx="93106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ent’s Pa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H:\ЛОндон картинки\статуя питера пена\84831_original.jpg"/>
          <p:cNvPicPr/>
          <p:nvPr/>
        </p:nvPicPr>
        <p:blipFill>
          <a:blip r:embed="rId1"/>
          <a:srcRect l="3619" t="0" r="574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tatue of Peter 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H:\ЛОндон картинки\кенсингтонские сады\brit00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nsington Garde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London and its sigh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572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Is it worth visiting London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F:\ЛОндон картинки\Музей Шерлока Хомса\2009-01-11_2564.jpg">
            <a:hlinkClick r:id="rId1" action="ppaction://hlinksldjump"/>
          </p:cNvPr>
          <p:cNvPicPr/>
          <p:nvPr/>
        </p:nvPicPr>
        <p:blipFill>
          <a:blip r:embed="rId2"/>
          <a:srcRect l="5669" t="2082" r="3586" b="2082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01 - увертюра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17912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F:\ЛОндон картинки\Музей Шерлока Хомса\13.jpg"/>
          <p:cNvPicPr/>
          <p:nvPr/>
        </p:nvPicPr>
        <p:blipFill>
          <a:blip r:embed="rId1"/>
          <a:srcRect l="6877" t="0" r="2625" b="0"/>
          <a:stretch/>
        </p:blipFill>
        <p:spPr>
          <a:xfrm>
            <a:off x="0" y="0"/>
            <a:ext cx="942984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F:\ЛОндон картинки\Музей Шерлока Хомса\58219115.jpg"/>
          <p:cNvPicPr/>
          <p:nvPr/>
        </p:nvPicPr>
        <p:blipFill>
          <a:blip r:embed="rId1"/>
          <a:srcRect l="0" t="0" r="13751" b="15001"/>
          <a:stretch/>
        </p:blipFill>
        <p:spPr>
          <a:xfrm>
            <a:off x="-142920" y="0"/>
            <a:ext cx="9286920" cy="6864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ker Street Cl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01 - увертюра (1).mp3" descr=""/>
          <p:cNvPicPr/>
          <p:nvPr/>
        </p:nvPicPr>
        <p:blipFill>
          <a:blip r:embed="rId2"/>
          <a:stretch/>
        </p:blipFill>
        <p:spPr>
          <a:xfrm>
            <a:off x="8839080" y="3714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1[2]"/>
          <p:cNvPicPr/>
          <p:nvPr/>
        </p:nvPicPr>
        <p:blipFill>
          <a:blip r:embed="rId1"/>
          <a:srcRect l="0" t="20492" r="0" b="2343"/>
          <a:stretch/>
        </p:blipFill>
        <p:spPr>
          <a:xfrm>
            <a:off x="0" y="-412920"/>
            <a:ext cx="9144000" cy="7270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Beat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sterday”. The Beat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terday all my troubles seemed so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t looks as though they're here to st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h, I believed in yester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ddenly I'm not half the man I used to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re's a shadow hanging over 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h, yesterday came sudde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she had to 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on't k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wouldn't s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aid something wr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long for yesterday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одержимое 2"/>
          <p:cNvSpPr/>
          <p:nvPr/>
        </p:nvSpPr>
        <p:spPr>
          <a:xfrm>
            <a:off x="4929120" y="1617840"/>
            <a:ext cx="4071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ve was such an easy game to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need a place to hide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h, I believed in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she had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don't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e wouldn't s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said something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long for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esterday love was such an easy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e to p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I need a place to hide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h, I believed in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the_beatles_-_yesterday_(zaycev.net)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2681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Calibri"/>
              </a:rPr>
              <a:t>Is it worth visiting London</a:t>
            </a:r>
            <a:r>
              <a:rPr b="1" i="1" lang="ru-RU" sz="66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d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lings and emo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iked everything very mu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verything is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ant to have more lessons lik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joyed myself during th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idn’t understand some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http://img.galya.ru/galya.ru/Pictures3/catalog_diary/2010/10/19/t4_2165467.jpg"/>
          <p:cNvPicPr/>
          <p:nvPr/>
        </p:nvPicPr>
        <p:blipFill>
          <a:blip r:embed="rId1"/>
          <a:srcRect l="0" t="24691" r="74043" b="48880"/>
          <a:stretch/>
        </p:blipFill>
        <p:spPr>
          <a:xfrm>
            <a:off x="6727680" y="1206360"/>
            <a:ext cx="987480" cy="100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http://img.galya.ru/galya.ru/Pictures3/catalog_diary/2010/10/19/t4_2165467.jpg"/>
          <p:cNvPicPr/>
          <p:nvPr/>
        </p:nvPicPr>
        <p:blipFill>
          <a:blip r:embed="rId2"/>
          <a:srcRect l="23972" t="25399" r="48994" b="50269"/>
          <a:stretch/>
        </p:blipFill>
        <p:spPr>
          <a:xfrm>
            <a:off x="7643880" y="2216160"/>
            <a:ext cx="1000080" cy="927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http://img.galya.ru/galya.ru/Pictures3/catalog_diary/2010/10/19/t4_2165467.jpg"/>
          <p:cNvPicPr/>
          <p:nvPr/>
        </p:nvPicPr>
        <p:blipFill>
          <a:blip r:embed="rId3"/>
          <a:srcRect l="23972" t="74440" r="48994" b="0"/>
          <a:stretch/>
        </p:blipFill>
        <p:spPr>
          <a:xfrm>
            <a:off x="6715080" y="3097080"/>
            <a:ext cx="1000080" cy="9748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6" descr="http://img.galya.ru/galya.ru/Pictures3/catalog_diary/2010/10/19/t4_2165467.jpg"/>
          <p:cNvPicPr/>
          <p:nvPr/>
        </p:nvPicPr>
        <p:blipFill>
          <a:blip r:embed="rId4"/>
          <a:srcRect l="0" t="0" r="74043" b="75064"/>
          <a:stretch/>
        </p:blipFill>
        <p:spPr>
          <a:xfrm>
            <a:off x="7656480" y="3978360"/>
            <a:ext cx="987480" cy="950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http://img.galya.ru/galya.ru/Pictures3/catalog_diary/2010/10/19/t4_2165467.jpg"/>
          <p:cNvPicPr/>
          <p:nvPr/>
        </p:nvPicPr>
        <p:blipFill>
          <a:blip r:embed="rId5"/>
          <a:srcRect l="0" t="48871" r="74242" b="24870"/>
          <a:stretch/>
        </p:blipFill>
        <p:spPr>
          <a:xfrm>
            <a:off x="6662880" y="4927680"/>
            <a:ext cx="98100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271440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s for your att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d good-bye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"/>
          <p:cNvPicPr/>
          <p:nvPr/>
        </p:nvPicPr>
        <p:blipFill>
          <a:blip r:embed="rId1"/>
          <a:stretch/>
        </p:blipFill>
        <p:spPr>
          <a:xfrm>
            <a:off x="122400" y="353880"/>
            <a:ext cx="88992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ЛОндон картинки\букенгемский дворец\BD_BDvore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D1_ML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2376360"/>
          </a:xfrm>
          <a:prstGeom prst="rect">
            <a:avLst/>
          </a:prstGeom>
          <a:ln w="0">
            <a:noFill/>
          </a:ln>
        </p:spPr>
      </p:pic>
      <p:sp>
        <p:nvSpPr>
          <p:cNvPr id="49" name="Подзаголовок 2"/>
          <p:cNvSpPr/>
          <p:nvPr/>
        </p:nvSpPr>
        <p:spPr>
          <a:xfrm>
            <a:off x="3214800" y="642960"/>
            <a:ext cx="25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een Elizabeth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8"/>
          <p:cNvSpPr/>
          <p:nvPr/>
        </p:nvSpPr>
        <p:spPr>
          <a:xfrm>
            <a:off x="5929200" y="571680"/>
            <a:ext cx="978120" cy="4838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Звук с компакт-диска 11" descr=""/>
          <p:cNvPicPr/>
          <p:nvPr/>
        </p:nvPicPr>
        <p:blipFill>
          <a:blip r:embed="rId3"/>
          <a:stretch/>
        </p:blipFill>
        <p:spPr>
          <a:xfrm>
            <a:off x="1500120" y="2571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Скругленный прямоугольник 3"/>
          <p:cNvSpPr/>
          <p:nvPr/>
        </p:nvSpPr>
        <p:spPr>
          <a:xfrm>
            <a:off x="3643200" y="1928880"/>
            <a:ext cx="228600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THAM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643200" y="571680"/>
            <a:ext cx="22860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429240" y="642960"/>
            <a:ext cx="221472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TOWER OF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6500880" y="2000160"/>
            <a:ext cx="22143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MINSTER AB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6500880" y="3357720"/>
            <a:ext cx="221436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G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3643200" y="471492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HOUSES OF 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0"/>
          <p:cNvSpPr/>
          <p:nvPr/>
        </p:nvSpPr>
        <p:spPr>
          <a:xfrm>
            <a:off x="857160" y="1928880"/>
            <a:ext cx="22860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AFALGAR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11"/>
          <p:cNvSpPr/>
          <p:nvPr/>
        </p:nvSpPr>
        <p:spPr>
          <a:xfrm>
            <a:off x="857160" y="571680"/>
            <a:ext cx="22860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WER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12"/>
          <p:cNvSpPr/>
          <p:nvPr/>
        </p:nvSpPr>
        <p:spPr>
          <a:xfrm>
            <a:off x="857160" y="478620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CKINGHAM P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13"/>
          <p:cNvSpPr/>
          <p:nvPr/>
        </p:nvSpPr>
        <p:spPr>
          <a:xfrm>
            <a:off x="3643200" y="328608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DAM TUSSAUD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4"/>
          <p:cNvSpPr/>
          <p:nvPr/>
        </p:nvSpPr>
        <p:spPr>
          <a:xfrm>
            <a:off x="857160" y="3357720"/>
            <a:ext cx="228600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USEUM OF THE MOVING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re.foto.radikal.ru/0709/0b/cee50092b243.jpg"/>
          <p:cNvPicPr/>
          <p:nvPr/>
        </p:nvPicPr>
        <p:blipFill>
          <a:blip r:embed="rId1"/>
          <a:srcRect l="1537" t="2085" r="1712" b="0"/>
          <a:stretch/>
        </p:blipFill>
        <p:spPr>
          <a:xfrm>
            <a:off x="0" y="0"/>
            <a:ext cx="933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http://www.free-city-guides.com/wp-content/uploads/2010/02/London-Houses-of-Parliament-from-the-London-Eye.jpg"/>
          <p:cNvPicPr/>
          <p:nvPr/>
        </p:nvPicPr>
        <p:blipFill>
          <a:blip r:embed="rId1"/>
          <a:srcRect l="12154" t="0" r="1002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of Lond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3.bp.blogspot.com/-YlmC9KmFqjw/T6g0poOdlMI/AAAAAAAAB-8/6YDYcHTBEwE/s1600/England_Westminster_Abbey-north-ent.jpg"/>
          <p:cNvPicPr/>
          <p:nvPr/>
        </p:nvPicPr>
        <p:blipFill>
          <a:blip r:embed="rId1"/>
          <a:srcRect l="2085" t="0" r="895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stminster Abb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tourist-information-uk.com/uploads/images/attraction_images/427/xlarge/bigben02.jpg"/>
          <p:cNvPicPr/>
          <p:nvPr/>
        </p:nvPicPr>
        <p:blipFill>
          <a:blip r:embed="rId1"/>
          <a:srcRect l="14703" t="5074" r="0" b="0"/>
          <a:stretch/>
        </p:blipFill>
        <p:spPr>
          <a:xfrm>
            <a:off x="0" y="-23760"/>
            <a:ext cx="4143240" cy="688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myalbion.ru/photos/big-ben/big-ben4.jpg"/>
          <p:cNvPicPr/>
          <p:nvPr/>
        </p:nvPicPr>
        <p:blipFill>
          <a:blip r:embed="rId2"/>
          <a:srcRect l="0" t="5211" r="0" b="0"/>
          <a:stretch/>
        </p:blipFill>
        <p:spPr>
          <a:xfrm>
            <a:off x="3714840" y="-4680"/>
            <a:ext cx="5429160" cy="68626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g B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хаил</dc:creator>
  <dc:description/>
  <dc:language>en-US</dc:language>
  <cp:lastModifiedBy>user</cp:lastModifiedBy>
  <dcterms:modified xsi:type="dcterms:W3CDTF">2015-01-29T19:52:41Z</dcterms:modified>
  <cp:revision>74</cp:revision>
  <dc:subject/>
  <dc:title>Слайд 1</dc:title>
</cp:coreProperties>
</file>