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4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7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065-A6E6-4954-84E7-3275E033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88A-AB5D-41AC-A449-F9E25B1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174-C098-4D51-8BA9-DDCD052E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767-9BF9-4FF9-B280-8FA124B8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BB5-F18B-4CDA-99A0-C8C0B675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017-F1B0-4293-B2F5-580BD5F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5FC-3CDE-4FF3-B8A0-7BCE91D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320-2457-4D1D-9A3A-91D2BD60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A78-C141-4F98-A88D-145A5FCD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A09-1449-4305-AF62-77558BD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418-E2A1-4C0A-91DE-FA01864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2D0-9FCE-4050-BB13-8690F88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589-3002-4C44-80B0-AA3CFCE84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Литературный поезд»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 книг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 его друзья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85840" y="380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своим книгам он писал сценарии к мультфильм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ыжий, рыжий, конопа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ластилиновая вор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рое из Простокваш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ледствие ведут колоб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63440" y="1523880"/>
            <a:ext cx="3722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81280" y="5335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пробовал Эдуард Николаевич  и стихи сочин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 превзошел ожидания – прекрасный сборник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Разноцветная семе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313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едущ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657240" y="685440"/>
            <a:ext cx="5334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дуард Николаевич вел на радио и телевидении различные пере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Радионян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АБВГДе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 нашу гавань заходили кораб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231840" y="1447920"/>
            <a:ext cx="3502080" cy="47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зда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66720" y="456840"/>
            <a:ext cx="48769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бы печатать хорошие книги для детей, Успенский создал издательство «САМОВА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73392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5812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чт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27440" y="304920"/>
            <a:ext cx="54165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йчас Эдуард Николаевич мечтает стать директором телевидения, президентом концерна и главным министром (одновременно, разумеется)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962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дуард Успенский. Кто же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95560" cy="323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214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2481120" y="3352680"/>
            <a:ext cx="2633760" cy="33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4648320" y="1143000"/>
            <a:ext cx="21333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22305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5029200" y="42670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9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895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02" name="gudok_parovoza.mp3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ar128181400270473"/>
          <p:cNvPicPr/>
          <p:nvPr/>
        </p:nvPicPr>
        <p:blipFill>
          <a:blip r:embed="rId1"/>
          <a:stretch/>
        </p:blipFill>
        <p:spPr>
          <a:xfrm>
            <a:off x="3048120" y="26668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___1_~1"/>
          <p:cNvPicPr/>
          <p:nvPr/>
        </p:nvPicPr>
        <p:blipFill>
          <a:blip r:embed="rId2"/>
          <a:stretch/>
        </p:blipFill>
        <p:spPr>
          <a:xfrm>
            <a:off x="6477120" y="91440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-_1_~1"/>
          <p:cNvPicPr/>
          <p:nvPr/>
        </p:nvPicPr>
        <p:blipFill>
          <a:blip r:embed="rId3"/>
          <a:stretch/>
        </p:blipFill>
        <p:spPr>
          <a:xfrm>
            <a:off x="152280" y="3886200"/>
            <a:ext cx="2746440" cy="2795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гадай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чень скромная и воспитанная девочка , круглая отличница. У нее тоже не было друзей, потому что она была слишком уж тихой и незаметной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ру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сканирование0006 (2)"/>
          <p:cNvPicPr/>
          <p:nvPr/>
        </p:nvPicPr>
        <p:blipFill>
          <a:blip r:embed="rId1"/>
          <a:stretch/>
        </p:blipFill>
        <p:spPr>
          <a:xfrm>
            <a:off x="2666880" y="1447920"/>
            <a:ext cx="3652920" cy="484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спенско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_________________49de67dd220c0"/>
          <p:cNvPicPr/>
          <p:nvPr/>
        </p:nvPicPr>
        <p:blipFill>
          <a:blip r:embed="rId1"/>
          <a:stretch/>
        </p:blipFill>
        <p:spPr>
          <a:xfrm>
            <a:off x="1828800" y="18288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Как-то вечером на огонёк зашёл высокий рыжий гражданин с блокнотом в рука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рреспонд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канирование0005"/>
          <p:cNvPicPr/>
          <p:nvPr/>
        </p:nvPicPr>
        <p:blipFill>
          <a:blip r:embed="rId1"/>
          <a:stretch/>
        </p:blipFill>
        <p:spPr>
          <a:xfrm>
            <a:off x="2819520" y="1295280"/>
            <a:ext cx="331452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зоопарке жил очень злой и глупый зверь. Его по воскресеньям кормила Шапокляк, стараясь приручи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осорог Птен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сканирование0006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2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язный, никому ненужный зверь, который сидел на мостовой и тихонько плака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бачка Тоб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743200" y="1447920"/>
            <a:ext cx="3503520" cy="480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олстый крокодил, который работал в зоопарке во вторую смену и любил читать книги. Как его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окодил Ва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1676520" y="1752480"/>
            <a:ext cx="5919840" cy="405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вошёл большой-пребольшой лев в пенсне и шляпе». Как его зва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в Ча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сканирование0009"/>
          <p:cNvPicPr/>
          <p:nvPr/>
        </p:nvPicPr>
        <p:blipFill>
          <a:blip r:embed="rId1"/>
          <a:stretch/>
        </p:blipFill>
        <p:spPr>
          <a:xfrm>
            <a:off x="2362320" y="1295280"/>
            <a:ext cx="433368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дуард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Родилс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22 декабр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1937 год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 Московской област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Кто он?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енькая, очень серьёзная девочка, которая работает в детском теат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сканирование0010"/>
          <p:cNvPicPr/>
          <p:nvPr/>
        </p:nvPicPr>
        <p:blipFill>
          <a:blip r:embed="rId1"/>
          <a:stretch/>
        </p:blipFill>
        <p:spPr>
          <a:xfrm>
            <a:off x="2971800" y="1371600"/>
            <a:ext cx="310680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просуну-лась какая-то странная голова с короткими рожками и длинными подвижными ушами. Она понюхала цветы, стоявшие на окне»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Жирафа Аню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сканирование0013"/>
          <p:cNvPicPr/>
          <p:nvPr/>
        </p:nvPicPr>
        <p:blipFill>
          <a:blip r:embed="rId1"/>
          <a:stretch/>
        </p:blipFill>
        <p:spPr>
          <a:xfrm>
            <a:off x="2971800" y="1295280"/>
            <a:ext cx="2984400" cy="5181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а пороге появился мальчишка. Он был бы совсем обыкновенным, этот мальчишка, если бы он не был необыкновенно растрёпанным и чумазы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оечник Д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сканирование0015"/>
          <p:cNvPicPr/>
          <p:nvPr/>
        </p:nvPicPr>
        <p:blipFill>
          <a:blip r:embed="rId1"/>
          <a:stretch/>
        </p:blipFill>
        <p:spPr>
          <a:xfrm>
            <a:off x="2971800" y="1295280"/>
            <a:ext cx="3192480" cy="5029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35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есне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3" descr="ukraschenie_4"/>
          <p:cNvPicPr/>
          <p:nvPr/>
        </p:nvPicPr>
        <p:blipFill>
          <a:blip r:embed="rId1"/>
          <a:stretch/>
        </p:blipFill>
        <p:spPr>
          <a:xfrm>
            <a:off x="3276720" y="3429000"/>
            <a:ext cx="5057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__________4cbdeeb4ba512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5073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39" name="Чебурашка плюс.mp3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46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41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gudok_parovoza.mp3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gudok_parovoza.mp3" descr=""/>
          <p:cNvPicPr/>
          <p:nvPr/>
        </p:nvPicPr>
        <p:blipFill>
          <a:blip r:embed="rId4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4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24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24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27672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32000" y="6091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ленького Эдика была любимая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и – большие, хвост пуговкой, не поймешь, не то заяц, не то соба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м, неизвестный науке зверь, названный позже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бураш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38040" y="1752480"/>
            <a:ext cx="3733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ff962c65118d"/>
          <p:cNvPicPr/>
          <p:nvPr/>
        </p:nvPicPr>
        <p:blipFill>
          <a:blip r:embed="rId1"/>
          <a:stretch/>
        </p:blipFill>
        <p:spPr>
          <a:xfrm>
            <a:off x="5638680" y="1219320"/>
            <a:ext cx="3208320" cy="449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533520" y="2437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Город Знаток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 Что делал Чебурашка около большого фруктового сада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 ящиках с апельсинами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2640" y="2742840"/>
            <a:ext cx="75438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завтрак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бед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ужин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</a:rPr>
              <a:t>Где работал Чебурашка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1905120"/>
            <a:ext cx="8763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игруше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уценённых            това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одежд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3. Сколько лет крокодилу Ген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210132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. Во что любил играть сам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   с собой крокодил Ген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2514240"/>
            <a:ext cx="73152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морской бой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естики -нолики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5. На чём готовил кофе Гена в гостях у Чебурашки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400" y="251424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плит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костр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икроволновк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53452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Какую роль исполнял кроко- дил Гена в детском спектак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2438280"/>
            <a:ext cx="7543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асная Шапоч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Любимое животное старухи Шапокл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360" y="2361960"/>
            <a:ext cx="388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хомя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8. Какая фамилия была у известного доктора, к которому побежала Шапокляк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47560" y="2514240"/>
            <a:ext cx="41907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Иван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Пет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Сидо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9. Кого просил в друзья     двоечник Дим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47560" y="2362320"/>
            <a:ext cx="51814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тли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тр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дв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81280" y="456840"/>
            <a:ext cx="5416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 Эдик озорным мальчиком и получал плохие отме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 двоечником быть не хотел, в глубине души он хотел стать академиком или минист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 Что сделал Гена, чтоб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о не узнавали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243792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пари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маску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новый костюм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1. За сколько секунд Шапокляк забралась на вершину дерева, убегая от носорог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1600" y="2742840"/>
            <a:ext cx="50292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0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Сколько времени висела старуха Шапокляк на дере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2590920"/>
            <a:ext cx="4038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71" name="gudok_parovoza.mp3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243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ород Худож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0_8d6d9_1e2f0f91_orig"/>
          <p:cNvPicPr/>
          <p:nvPr/>
        </p:nvPicPr>
        <p:blipFill>
          <a:blip r:embed="rId1"/>
          <a:stretch/>
        </p:blipFill>
        <p:spPr>
          <a:xfrm rot="20110200">
            <a:off x="5029200" y="-152280"/>
            <a:ext cx="3016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сканирование0003 (2)"/>
          <p:cNvPicPr/>
          <p:nvPr/>
        </p:nvPicPr>
        <p:blipFill>
          <a:blip r:embed="rId1"/>
          <a:stretch/>
        </p:blipFill>
        <p:spPr>
          <a:xfrm>
            <a:off x="1905120" y="380880"/>
            <a:ext cx="5483160" cy="6050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5" name="usatyi_nyan_-_vstupitelnaya_tema.mp3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4381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77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24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ph1"/>
          <p:cNvPicPr/>
          <p:nvPr/>
        </p:nvPicPr>
        <p:blipFill>
          <a:blip r:embed="rId1"/>
          <a:stretch/>
        </p:blipFill>
        <p:spPr>
          <a:xfrm>
            <a:off x="1523880" y="1676520"/>
            <a:ext cx="6370920" cy="4778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Шапокляк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есня Шапокляк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7136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1" lang="ru-RU" sz="11000" spc="-1" strike="noStrike">
                <a:solidFill>
                  <a:srgbClr val="3333cc"/>
                </a:solidFill>
                <a:latin typeface="Arial"/>
              </a:rPr>
              <a:t>Р </a:t>
            </a:r>
            <a:r>
              <a:rPr b="1" lang="ru-RU" sz="11000" spc="-1" strike="noStrike">
                <a:solidFill>
                  <a:srgbClr val="ff9900"/>
                </a:solidFill>
                <a:latin typeface="Arial"/>
              </a:rPr>
              <a:t>У </a:t>
            </a:r>
            <a:r>
              <a:rPr b="1" lang="ru-RU" sz="11000" spc="-1" strike="noStrike">
                <a:solidFill>
                  <a:srgbClr val="33cc33"/>
                </a:solidFill>
                <a:latin typeface="Arial"/>
              </a:rPr>
              <a:t>Ж </a:t>
            </a:r>
            <a:r>
              <a:rPr b="1" lang="ru-RU" sz="11000" spc="-1" strike="noStrike">
                <a:solidFill>
                  <a:srgbClr val="6600cc"/>
                </a:solidFill>
                <a:latin typeface="Arial"/>
              </a:rPr>
              <a:t>Б </a:t>
            </a:r>
            <a:r>
              <a:rPr b="1" lang="ru-RU" sz="11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33560" y="380520"/>
            <a:ext cx="5568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так упорно занимался, что смог поступить в авиа-ционный институт и стать инжене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года прорабо-тал по специаль-ности, но понял, что делает не св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Юморист - пис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3049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Успенский решил стать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зрослы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и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потом быстро переквалифициро-вался и стал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тски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36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жат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ажды летом он работал в пионерском лагере, читал детям интересные книж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интересные книжки закончились, Успенский начал рассказывать свою сказк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657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353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ебюта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80920" y="380520"/>
            <a:ext cx="5410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В одном городе жил крокодил по имени Гена, а работал он в зоопарке крокодило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 в 1966 году появилась книга «Крокодил Гена и его друзья», прославившая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57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58:26Z</dcterms:created>
  <dc:creator>User</dc:creator>
  <dc:description/>
  <dc:language>en-US</dc:language>
  <cp:lastModifiedBy>User</cp:lastModifiedBy>
  <dcterms:modified xsi:type="dcterms:W3CDTF">2012-12-09T10:16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