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849-DA42-4AA9-BBAA-127AD0EF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2F74-2BA1-4406-A140-B5D31442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540-8BC3-40A6-81BE-CE5A73C0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589A-0640-41C9-91F3-6C04D459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12DA-36F0-4A73-9F59-F1058A0B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711-4EEF-4460-A6FA-2082DAB1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3863-5441-44FC-A3EB-F1783F3C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024-2904-46A7-A21C-DBF759E0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F6A-C845-4D67-99BD-F0017EE0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756-436B-4FF2-89C4-62C1769D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9F3E-F30C-4926-9948-E7884FD5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C85A-60D2-4583-B14C-439CE949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1214-036F-40D0-8C3F-FE1C11143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714480" y="5105520"/>
            <a:ext cx="5429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Автор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Миронова Светла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Лебедева Мария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87480" y="568440"/>
            <a:ext cx="49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МОУ «Козловская СОШ №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32000" y="1700280"/>
            <a:ext cx="6335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 каждого из нас своя гора…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интегрированный урок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тературы и психологии)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Паоло Коэльо – современный бразильский пис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00360" y="404640"/>
            <a:ext cx="3602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Притча – эт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Жанр эпоса: небольшое повествовательное произведение назидательного характера, содержащее религиозное или моральное поучение в иносказательной (аллегорической) фор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553440" cy="4926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Arial"/>
              </a:rPr>
              <a:t>Кедры – символ Лив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Первый кед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4581360"/>
            <a:ext cx="4464000" cy="1729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оплощение: хлев и я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loud"/>
          <p:cNvSpPr/>
          <p:nvPr/>
        </p:nvSpPr>
        <p:spPr>
          <a:xfrm>
            <a:off x="826920" y="1700280"/>
            <a:ext cx="7129800" cy="2448000"/>
          </a:xfrm>
          <a:prstGeom prst="pi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Мечта: «Я хотел бы превратиться в трон, на котором будет восседать самый могущественный цар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на зем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Второй кед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4581360"/>
            <a:ext cx="4464000" cy="1729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оплощ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деревенский ст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loud"/>
          <p:cNvSpPr/>
          <p:nvPr/>
        </p:nvSpPr>
        <p:spPr>
          <a:xfrm>
            <a:off x="826920" y="1700280"/>
            <a:ext cx="7129800" cy="2448000"/>
          </a:xfrm>
          <a:prstGeom prst="pi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Мечта: «Я хотел бы стать частью чего-то такого, что на веки вечные преобразит Зло и Доб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Третий кед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40000" y="4581360"/>
            <a:ext cx="4464000" cy="1729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оплощение: кре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на котором распя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loud"/>
          <p:cNvSpPr/>
          <p:nvPr/>
        </p:nvSpPr>
        <p:spPr>
          <a:xfrm>
            <a:off x="826920" y="1700280"/>
            <a:ext cx="7129800" cy="2448000"/>
          </a:xfrm>
          <a:prstGeom prst="pi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Мечта: «Я желал бы, чтобы люди, глядя на меня, всякий раз вспоминали о Бог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3780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Притча о колодц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Притча о колодце"/>
          <p:cNvPicPr/>
          <p:nvPr/>
        </p:nvPicPr>
        <p:blipFill>
          <a:blip r:embed="rId1"/>
          <a:stretch/>
        </p:blipFill>
        <p:spPr>
          <a:xfrm>
            <a:off x="1908000" y="1225440"/>
            <a:ext cx="48088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916280"/>
            <a:ext cx="822960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"Целься в луну. Даже если промахнешься, окажешься среди звезд."</a:t>
            </a:r>
            <a:r>
              <a:rPr b="0" i="1" lang="en-US" sz="4000" spc="-1" strike="noStrike">
                <a:solidFill>
                  <a:srgbClr val="ffff66"/>
                </a:solidFill>
                <a:latin typeface="Arial"/>
              </a:rPr>
              <a:t> – Лес Брау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У каждого из нас своя гора,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В которую необходимо влезть.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Настанет час, и вы, поняв: пора!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тправитесь. С друзьями или без...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И будет долог или краток путь;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И будет труден или слишком прост,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Но вы настигните когда-нибудь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Свою мечту, поймав ее за хвост.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У одного вершина до небес,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И он стремится всей душою ввысь.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Другому - табурет как Эверест -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Лишь усидеть и не свалиться вниз.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И кто-то стоя на своей горе,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Увидит новую и выше и трудней.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А кто-то свой на ней поставит крест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И никуда не тронется, ей-е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М.В. Михай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17080" y="5877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Тема урока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31640" y="4723920"/>
            <a:ext cx="7592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«По-настоящему высоко может зайти лишь тот, кто знает, куда он идет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Оливер Кромв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00000" y="2349360"/>
            <a:ext cx="7128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 каждого из нас своя гора..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Проанализировать произведения В.Г. Короленко и П. Коэль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Проанализировать результаты опро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ать определение понятию «Притча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Познакомить с пирамидой потребностей А. Масло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60280"/>
            <a:ext cx="83376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Цель урока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: формирование понятия «цель» на примере литературных произведений (стихотворение Михайловой М.В., рассказ В.Г. Короленко «Огоньки», притча П. Коэльо  «Рождественская сказк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4941360"/>
            <a:ext cx="655308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Владимир Галактионович Королен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3394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79640" y="839880"/>
            <a:ext cx="5262480" cy="60181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«Огонь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8209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Результаты опр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7786800" cy="3781440"/>
        </p:xfrm>
        <a:graphic>
          <a:graphicData uri="http://schemas.openxmlformats.org/drawingml/2006/table">
            <a:tbl>
              <a:tblPr/>
              <a:tblGrid>
                <a:gridCol w="1900080"/>
                <a:gridCol w="4159440"/>
                <a:gridCol w="1727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Вопр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Варианты отв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Arial"/>
                          <a:ea typeface="Times New Roman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Мои цели на этот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Хорошо окончить  школу, сдать экзамены, поступить в ВУЗ или ССУ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10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Мои цели на 10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Хорошая работа, семья, доста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Мои цели на будущ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228600" algn="just">
                        <a:buClr>
                          <a:srgbClr val="ff6600"/>
                        </a:buClr>
                        <a:buFont typeface="Symbol" charset="2"/>
                        <a:buChar char=""/>
                        <a:tabLst>
                          <a:tab algn="l" pos="311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Благополучие семьи и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buClr>
                          <a:srgbClr val="ff6600"/>
                        </a:buClr>
                        <a:buFont typeface="Symbol" charset="2"/>
                        <a:buChar char=""/>
                        <a:tabLst>
                          <a:tab algn="l" pos="311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Жить долго и счастли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buClr>
                          <a:srgbClr val="ff6600"/>
                        </a:buClr>
                        <a:buFont typeface="Symbol" charset="2"/>
                        <a:buChar char=""/>
                        <a:tabLst>
                          <a:tab algn="l" pos="311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Быть достойным челове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buClr>
                          <a:srgbClr val="ff6600"/>
                        </a:buClr>
                        <a:buFont typeface="Symbol" charset="2"/>
                        <a:buChar char=""/>
                        <a:tabLst>
                          <a:tab algn="l" pos="311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Нет пла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buClr>
                          <a:srgbClr val="ff6600"/>
                        </a:buClr>
                        <a:buFont typeface="Symbol" charset="2"/>
                        <a:buChar char=""/>
                        <a:tabLst>
                          <a:tab algn="l" pos="311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Быть кем-то (конкретная професс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buClr>
                          <a:srgbClr val="ff6600"/>
                        </a:buClr>
                        <a:buFont typeface="Symbol" charset="2"/>
                        <a:buChar char=""/>
                        <a:tabLst>
                          <a:tab algn="l" pos="311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Путешествов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buClr>
                          <a:srgbClr val="ff6600"/>
                        </a:buClr>
                        <a:buFont typeface="Symbol" charset="2"/>
                        <a:buChar char=""/>
                        <a:tabLst>
                          <a:tab algn="l" pos="311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Прочитать все книги на зем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buClr>
                          <a:srgbClr val="ff6600"/>
                        </a:buClr>
                        <a:buFont typeface="Symbol" charset="2"/>
                        <a:buChar char=""/>
                        <a:tabLst>
                          <a:tab algn="l" pos="311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Все успе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buClr>
                          <a:srgbClr val="ff6600"/>
                        </a:buClr>
                        <a:buFont typeface="Symbol" charset="2"/>
                        <a:buChar char="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60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ff6600"/>
                        </a:buClr>
                        <a:buFont typeface="Symbol" charset="2"/>
                        <a:buChar char="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ff6600"/>
                        </a:buClr>
                        <a:buFont typeface="Symbol" charset="2"/>
                        <a:buChar char="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ff6600"/>
                        </a:buClr>
                        <a:buFont typeface="Symbol" charset="2"/>
                        <a:buChar char="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10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ff6600"/>
                        </a:buClr>
                        <a:buFont typeface="Symbol" charset="2"/>
                        <a:buChar char="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7,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ff6600"/>
                        </a:buClr>
                        <a:buFont typeface="Symbol" charset="2"/>
                        <a:buChar char="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3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ff6600"/>
                        </a:buClr>
                        <a:buFont typeface="Symbol" charset="2"/>
                        <a:buChar char="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3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ff6600"/>
                        </a:buClr>
                        <a:buFont typeface="Symbol" charset="2"/>
                        <a:buChar char=""/>
                        <a:tabLst>
                          <a:tab algn="l" pos="17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3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534960" y="5804280"/>
            <a:ext cx="79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be0e3"/>
                </a:solidFill>
                <a:latin typeface="Arial"/>
              </a:rPr>
              <a:t>«Путешествие в тысячу миль начинается с одного шаг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be0e3"/>
                </a:solidFill>
                <a:latin typeface="Arial"/>
              </a:rPr>
              <a:t>Лао Ц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Цель –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желаемый результат (предмет стремления); то, что хочется осуществ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чётко описанное желательное состояние, которого необходимо достигну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предвосхищаемый в сознании результат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место или предмет, в который нужно попасть при перемещении какого-либо объек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be0e3"/>
                </a:solidFill>
                <a:latin typeface="Arial"/>
              </a:rPr>
              <a:t>Пирамида потребностей Абрахама Масл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61228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9:14:14Z</dcterms:created>
  <dc:creator>Лебедева</dc:creator>
  <dc:description/>
  <dc:language>en-US</dc:language>
  <cp:lastModifiedBy>admin</cp:lastModifiedBy>
  <dcterms:modified xsi:type="dcterms:W3CDTF">2011-01-31T08:02:29Z</dcterms:modified>
  <cp:revision>7</cp:revision>
  <dc:subject/>
  <dc:title>Слайд 1</dc:title>
</cp:coreProperties>
</file>